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F63-C041-4C66-A313-51F78F30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F5C-2B5C-47A7-BE65-2BF6D0B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A1D-16C8-4820-BE6E-F92D64EE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028-0535-4757-8685-94072F1B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D60-4F36-4D06-B80E-297071B6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169-0AF5-4805-B0C2-12F5EDC8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36B-2F0B-402C-AC28-9ABAF88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A33-E163-4F79-9677-D8696EF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09D-DF29-4AA6-AC10-B20DB607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867-46CA-4534-9F92-A522126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9B3-2B49-4EED-9737-915D10B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E5D-5CC2-4BB0-9028-402B8DE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F6E-C7DD-4105-9DE6-26EC6197A6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MUNIDAD ANTIVI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 Barreras físicas como mecanismo protector y com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puerta de ent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 Participación de sistema inmune innato y adapt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Mecanismos efectores característicos de patóge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intracelular con fase extracelular pre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 Respuesta inmune como mecanismo protector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mecanismo de d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 Modulación de respuesta inmune por compon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v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Célula infectada por virus deja de expresar MHC-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Desaparece inhibición de actividad cit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1960" y="1981080"/>
            <a:ext cx="514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Se libera el contenido de gránulos que contienen mediadores de la citólisi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14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sis de célula infectada mediada por perforinas y granz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14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Nódulo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33520" y="1981080"/>
            <a:ext cx="627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 Narrow"/>
              </a:rPr>
              <a:t>Procesamiento de antíge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ocesamiento de antígenos endógenos (vira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952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ocesamiento de antígenos endóge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41044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esentación de antígenos MHC-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886200" cy="3733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nfocitos T CD8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INMUNIDAD INNATA.  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6600"/>
                </a:solidFill>
                <a:uFillTx/>
                <a:latin typeface="Arial Narrow"/>
              </a:rPr>
              <a:t>Células y mediadores inflamatorios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Macrófagos:TNF-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, IL-1, IL-6, IL-10, IL-12, IFN-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quimioquinas: MIP-1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, MIP-1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Células dendríticas: IFN-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, IL-12, IL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Células NK (natural killer): TNF-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, IFN-</a:t>
            </a:r>
            <a:r>
              <a:rPr b="0" lang="es-ES_tradnl" sz="3200" spc="-1" strike="noStrike">
                <a:solidFill>
                  <a:srgbClr val="ffff66"/>
                </a:solidFill>
                <a:latin typeface="Symbol"/>
                <a:ea typeface="Symbol"/>
              </a:rPr>
              <a:t>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, Cit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Compl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Polimorfos nucleares neutrófilo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-  Reclutados en el sitio inflamatorio por quimio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-  Función fagoc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nfocitos T CD8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ACTIVIDAD DE LINFOCITOS T CITOTOXICOS (CD8+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esentación de antígenos exóge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esentación de antígenos.  MHC-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8120" y="1981080"/>
            <a:ext cx="412596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nfocitos T activan macrófa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8120" y="1981080"/>
            <a:ext cx="4125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Activación linfocitaria:  Antígeno y coest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munidad celular: Generación de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9880" y="1981080"/>
            <a:ext cx="566424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nfocito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nfocito B como célula presentadora de antí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Activación de linfocitos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MUNIDAD ADAPT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 Narrow"/>
              </a:rPr>
              <a:t>Linfocitos B:</a:t>
            </a:r>
            <a:r>
              <a:rPr b="0" lang="es-ES_tradnl" sz="2800" spc="-1" strike="noStrike">
                <a:solidFill>
                  <a:srgbClr val="00cc99"/>
                </a:solidFill>
                <a:latin typeface="Arial Narrow"/>
              </a:rPr>
              <a:t>   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Productores de inmunoglobul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 Narrow"/>
              </a:rPr>
              <a:t>Linfocitos 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 Narrow"/>
              </a:rPr>
              <a:t>CD4: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  Antivirales directos:  IFN-</a:t>
            </a:r>
            <a:r>
              <a:rPr b="0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, TNF-</a:t>
            </a:r>
            <a:r>
              <a:rPr b="0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, (Th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           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Estimuladores de la producción de Acs: IL-4,IL-5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IL-6, IL-13 (Th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Reguladores: IL-10, TGF-</a:t>
            </a:r>
            <a:r>
              <a:rPr b="0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 (Th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 Narrow"/>
              </a:rPr>
              <a:t>CD8: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  Principal subpoblación antivi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           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Citolíticos:  perforinas y granzimas; Fas-Fa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Citoquinas:  IFN-</a:t>
            </a:r>
            <a:r>
              <a:rPr b="0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, TNF-</a:t>
            </a:r>
            <a:r>
              <a:rPr b="0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ffff66"/>
                </a:solidFill>
                <a:latin typeface="Arial Narrow"/>
              </a:rPr>
              <a:t>, quimio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Células plasmá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Funciones de anticuerpos: AD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AD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03400" y="1981080"/>
            <a:ext cx="513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Funciones de anticuerpos.  Opsoniz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Funciones de anticuerpos:  Activación de cascada del compl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Lisis de virus con m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Funciones de anticuerpos: Neut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munidad humoral: generación de memoria inmun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180200" cy="4114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RIMOINFECCION VI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*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Actividad importante de la inmunidad inn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Linfocitos T, particularmente CD8+, son el principal componente efector: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efectores prim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Anticuerpos aparecen tardíamente en primoinfección:  actúan sobre diseminación del 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ESTABLECIMIENTO DE MEMORIA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REINFECCION VI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* 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ANTICUERPOS SON PRIMERA LINEA 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DEFENSA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neutralización, opsonización, 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 Inmunidad innata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Eliminación de virus opson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fagocitosis de virus “libre” y eliminación de célu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infectadas (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 Inmunidad adaptativa celular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Eliminación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células infectadas: 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efectores secundarios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 Narrow"/>
              </a:rPr>
              <a:t>PRIMOINF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934320" cy="4179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FECCION VIRAL AG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Virus es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SIEMPRE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eliminado del organismo, ya sea en primo o reinfec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Memoria inmunológica se establece en ausencia de 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Magnitud de memoria inmunológica determina susceptibilidad a reinf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INFECCION VIRAL PERSI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</a:t>
            </a:r>
            <a:r>
              <a:rPr b="0" lang="es-ES_tradnl" sz="3200" spc="-1" strike="noStrike">
                <a:solidFill>
                  <a:srgbClr val="00cc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Respuesta inmune adaptativa es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ESENCIAL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para limitar la replicación viral durante la fase aguda y </a:t>
            </a: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ESENCIAL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para el establecimiento y mantención de la lat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Reactivaciones se asocian a depresión de respuesta inmune cel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Respuesta celular es esencial para reducir carga viral en infección crónica.  Puede mediar el d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* Anticuerpos seleccionan especies de virus circulant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SISTEMA INMUNE COMO BLANCO DE INFECCION VI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VIH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Infección de células T CD4+.  Respuesta inmune contra el virus es beneficiosa pero activación inmune es deleté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HTLV-I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Infección transformante (linfo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EBV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Infección de linfocitos B (hiperplasia).  Gammapatía policlonal.  Proteínas virales homólogas a citoquinas.  Linfoma de 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6600"/>
                </a:solidFill>
                <a:latin typeface="Arial Narrow"/>
              </a:rPr>
              <a:t>* HHV-6:</a:t>
            </a:r>
            <a:r>
              <a:rPr b="0" lang="es-ES_tradnl" sz="3200" spc="-1" strike="noStrike">
                <a:solidFill>
                  <a:srgbClr val="ffff66"/>
                </a:solidFill>
                <a:latin typeface="Arial Narrow"/>
              </a:rPr>
              <a:t>  Infección de linfocitos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Nódulo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33520" y="1981080"/>
            <a:ext cx="627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Toll-like  receptor (TLR)</a:t>
            </a:r>
            <a:br>
              <a:rPr sz="4400"/>
            </a:b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PAMPs y PR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105160" cy="46483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01992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440" y="147600"/>
            <a:ext cx="79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ff"/>
                </a:solidFill>
                <a:latin typeface="Arial Narrow"/>
              </a:rPr>
              <a:t>Expresión de moléculas de respuesta inmune in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514600"/>
            <a:ext cx="34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33"/>
                </a:solidFill>
                <a:latin typeface="Arial Narrow"/>
              </a:rPr>
              <a:t>Expresión desde12 hp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33"/>
                </a:solidFill>
                <a:latin typeface="Arial Narrow"/>
              </a:rPr>
              <a:t>se completa a 24 h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33"/>
                </a:solidFill>
                <a:latin typeface="Arial Narrow"/>
              </a:rPr>
              <a:t>Inducible por inf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25440" y="75708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5050"/>
                </a:solidFill>
                <a:latin typeface="Arial Narrow"/>
              </a:rPr>
              <a:t>Receptores Toll -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1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MIGRACION DE LEOUCOCITOS</a:t>
            </a:r>
            <a:br>
              <a:rPr sz="4400"/>
            </a:b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(TNF-</a:t>
            </a:r>
            <a:r>
              <a:rPr b="0" lang="es-ES_tradnl" sz="4400" spc="-1" strike="noStrike">
                <a:solidFill>
                  <a:srgbClr val="66ffff"/>
                </a:solidFill>
                <a:latin typeface="Symbol"/>
                <a:ea typeface="Symbol"/>
              </a:rPr>
              <a:t></a:t>
            </a: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, QUIMIOQUIN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ffff"/>
                </a:solidFill>
                <a:latin typeface="Arial Narrow"/>
              </a:rPr>
              <a:t>Célula infectada por virus no expresa MHC-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1960" y="1981080"/>
            <a:ext cx="514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32:50Z</dcterms:created>
  <dc:creator>.</dc:creator>
  <dc:description/>
  <dc:language>en-US</dc:language>
  <cp:lastModifiedBy>ofiintilus</cp:lastModifiedBy>
  <dcterms:modified xsi:type="dcterms:W3CDTF">2004-10-26T15:18:31Z</dcterms:modified>
  <cp:revision>125</cp:revision>
  <dc:subject/>
  <dc:title>Sin título de diapositiva</dc:title>
</cp:coreProperties>
</file>