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C39E-E5C3-4542-9813-EB5EB883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3756-DD40-4572-92F9-AA4D61CF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DB5-6658-4C56-AA48-709DC10E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C6AD-7507-44DC-B481-C27712A2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495E-213E-4189-A713-B8332711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902-7711-4AD3-B073-47DFA8D7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3A2-8514-4765-BC80-286D8C00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82F1-296C-4968-B090-B00B0277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253B-B450-4173-BB22-C6C3E517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7028-F04F-4A5A-B2A8-5825E53A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DB4-BD88-4600-9D85-8C104043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541-7ED8-407D-A491-F535216C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31AA-5766-43B9-82DD-5920D96D863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TIGENOS ENDO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EINAS RESIDENTES Y PROCESADAS EN EL 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EINAS VIRALES SINTETIZADAS EN LOS POLIRIBOSOMAS O DERIVADOS DE OTROS PATOGENOS INTRACELULARES EN EL 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ADOS EN EL CITOSOL Y GENERAN PEPTIDOS QUE INGRESAN AL RETICULO ENDOPLAS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TUALMENTE ESTOS PEPTIDOS SE ASOCIAN A MOLECULAS MHC CLASE Ia Y SON PRESENTADOS A LOS LINFOCITOS T CD8 CITOTOX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469800" y="-457200"/>
            <a:ext cx="10085400" cy="7772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TIGENOS EXO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TEINAS E INCLUSO CELULAS INCORPORADAS DESDE EL EXTERIOR POR ALGUN MECANISMO DE ENDOCITO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 FAGOCITOSIS, PINOCITOSIS O ENDOCITOSIS MEDIADA POR RECEP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ADAS EN LOS ENDOSOMAS Y GENERAN PEPTIDOS QUE SE UNEN A LAS MOLECULAS MHC CLASE II QUE LOS PRESENTAN A LOS LINFOCITOS T CD4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CULAS CD 1 ( MHC CLASE Id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HC-LIKE NON M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 ALFA Y BETA-2-m COMO Ia y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OMOSOMA 1(HUMANO) Y 3 (RA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POLIMORFICAS COMO CLASE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ISOTIPOS :  HUMANO :TIPO I : a, b y c ; TIPO II : d . RATON : CD1d 1 y CD1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FICO ENDOSOMAL COMO CLAS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 1 a, b yc PRESENTAN GLICOLIPIDOS Y LIPIDOS A LINFOCITOS T CD4,CD8 Y DN (NKT Y LT g/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1 b y c SE EXPRESAN EN CPA PROF. COMO CLASE II Y CD1a CELULAS DE LANGERH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1 d PRESENTA A 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8:02:30Z</dcterms:created>
  <dc:creator>claudio zúñiga</dc:creator>
  <dc:description/>
  <dc:language>en-US</dc:language>
  <cp:lastModifiedBy>ofiintilus</cp:lastModifiedBy>
  <dcterms:modified xsi:type="dcterms:W3CDTF">2004-09-07T12:54:10Z</dcterms:modified>
  <cp:revision>14</cp:revision>
  <dc:subject/>
  <dc:title>Presentación de PowerPoint</dc:title>
</cp:coreProperties>
</file>