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DB2-857B-477F-A884-C5744EEF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2B4-67E5-49DD-B17B-F39A9F7A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E2F-2A69-483F-BC48-5211670F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6CE-4EC6-4FCB-8272-4ABD1D3D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48B-015C-4E2B-BF3D-47D0F9B1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B05-F1FB-482D-A04E-FFEB1775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ED8-5B46-4914-A67F-F53FF3C8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BC3-96B7-45D9-9686-FDB7D8D7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462-E508-4D8F-AD7D-FEAF9FBC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60F-1737-4991-BC00-8E2FCC50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1F1-4257-4CE9-96DA-50CD9B0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3C0-F0BB-4C83-865D-B287D588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A4BD-9B5F-49BF-85B9-5E69E24BC2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ND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RESIDENTES Y PROCESADA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VIRALES SINTETIZADAS EN LOS POLIRIBOSOMAS O DERIVADOS DE OTROS PATOGENOS INTRACELULARE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ADOS EN EL CITOSOL Y GENERAN PEPTIDOS QUE INGRESAN AL RETICULO ENDOPLAS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TUALMENTE ESTOS PEPTIDOS SE ASOCIAN A MOLECULAS MHC CLASE Ia Y SON PRESENTADOS A LOS LINFOCITOS T CD8 CIT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9800" y="-457200"/>
            <a:ext cx="1008540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X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INAS E INCLUSO CELULAS INCORPORADAS DESDE EL EXTERIOR POR ALGUN MECANISMO DE ENDOCIT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 FAGOCITOSIS, PINOCITOSIS O ENDOCITOSIS MEDIADA POR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ADAS EN LOS ENDOSOMAS Y GENERAN PEPTIDOS QUE SE UNEN A LAS MOLECULAS MHC CLASE II QUE LOS PRESENTAN A LOS LINFOCITOS T CD4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CD 1 ( MHC CLASE 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HC-LIKE NO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ALFA Y BETA-2-m COMO Ia y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MOSOMA 1(HUMANO) Y 3 (RA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POLIMORFICAS COMO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ISOTIPOS :  HUMANO :TIPO I : a, b y c ; TIPO II : d . RATON : CD1d 1 y CD1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FICO ENDOSOMAL COMO CL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 1 a, b yc PRESENTAN GLICOLIPIDOS Y LIPIDOS A LINFOCITOS T CD4,CD8 Y DN (NKT Y LT g/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b y c SE EXPRESAN EN CPA PROF. COMO CLASE II Y CD1a CELULAS DE LANGERH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d PRESENTA A 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02:30Z</dcterms:created>
  <dc:creator>claudio zúñiga</dc:creator>
  <dc:description/>
  <dc:language>en-US</dc:language>
  <cp:lastModifiedBy>ofiintilus</cp:lastModifiedBy>
  <dcterms:modified xsi:type="dcterms:W3CDTF">2004-09-07T12:54:10Z</dcterms:modified>
  <cp:revision>14</cp:revision>
  <dc:subject/>
  <dc:title>Presentación de PowerPoint</dc:title>
</cp:coreProperties>
</file>