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EA8-CE2A-41C1-9BF0-250A4D4B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117-65AD-4F5B-B7F9-D2171C1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FB7-DDF2-4D4D-8338-1DACE6C2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EF1-F7D9-4518-9975-9F5D1A0B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A6E-25A4-4B98-9AE9-0EC6B2A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32B-9588-48BC-8F25-CC1377D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B89-6720-4C18-A215-46937FB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295-0DA3-48ED-A39E-774E4803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12A-4678-4198-B137-3955DFF8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AC5-40E3-4D22-B3A7-D78D735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F87-8F20-46CC-95C0-47FEE73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882-A64C-41E9-8F1E-9FB968A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4D4-3E96-4969-B5A6-621E8E85DE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ND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RESIDENTES Y PROCESADA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EINAS VIRALES SINTETIZADAS EN LOS POLIRIBOSOMAS O DERIVADOS DE OTROS PATOGENOS INTRACELULARES EN EL CIT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ADOS EN EL CITOSOL Y GENERAN PEPTIDOS QUE INGRESAN AL RETICULO ENDOPLA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TUALMENTE ESTOS PEPTIDOS SE ASOCIAN A MOLECULAS MHC CLASE Ia Y SON PRESENTADOS A LOS LINFOCITOS T CD8 CIT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69800" y="-457200"/>
            <a:ext cx="10085400" cy="7772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TIGENOS EXO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EINAS E INCLUSO CELULAS INCORPORADAS DESDE EL EXTERIOR POR ALGUN MECANISMO DE ENDOCITO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 FAGOCITOSIS, PINOCITOSIS O ENDOCITOSIS MEDIADA POR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ADAS EN LOS ENDOSOMAS Y GENERAN PEPTIDOS QUE SE UNEN A LAS MOLECULAS MHC CLASE II QUE LOS PRESENTAN A LOS LINFOCITOS T CD4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CULAS CD 1 ( MHC CLASE Id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HC-LIKE NON M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ENA ALFA Y BETA-2-m COMO Ia y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OMOSOMA 1(HUMANO) Y 3 (RA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POLIMORFICAS COMO CLASE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 ISOTIPOS :  HUMANO :TIPO I : a, b y c ; TIPO II : d . RATON : CD1d 1 y CD1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FICO ENDOSOMAL COMO CLA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 1 a, b yc PRESENTAN GLICOLIPIDOS Y LIPIDOS A LINFOCITOS T CD4,CD8 Y DN (NKT Y LT g/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b y c SE EXPRESAN EN CPA PROF. COMO CLASE II Y CD1a CELULAS DE LANGERH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1 d PRESENTA A 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02:30Z</dcterms:created>
  <dc:creator>claudio zúñiga</dc:creator>
  <dc:description/>
  <dc:language>en-US</dc:language>
  <cp:lastModifiedBy>ofiintilus</cp:lastModifiedBy>
  <dcterms:modified xsi:type="dcterms:W3CDTF">2004-09-07T12:54:10Z</dcterms:modified>
  <cp:revision>14</cp:revision>
  <dc:subject/>
  <dc:title>Presentación de PowerPoint</dc:title>
</cp:coreProperties>
</file>