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DF8-C175-47E9-81E0-F6D71D3B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77C5-9945-4F85-A986-D590E6AF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DCA-280A-490D-B614-4EAEDF28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E26-D12E-4270-827C-8B555C5A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D1E-2D3A-4F72-AEA9-0BDBB80B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107-D000-4D7D-B070-50CBF34B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6C3C-0AF3-47EF-B0DF-CEB4DE71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7AD-20F3-4267-9E46-544171C2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1DB-95A1-4428-ABBD-E11547D5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D4F-550D-4BB5-93EA-D0EB8F9C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D37-DD99-4631-B72C-E4B0FE39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B01-1362-4638-AA10-5C72BF53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DC47-C30E-4FA4-8393-03559B8A99E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TIGENOS ENDO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EINAS RESIDENTES Y PROCESADAS EN EL 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EINAS VIRALES SINTETIZADAS EN LOS POLIRIBOSOMAS O DERIVADOS DE OTROS PATOGENOS INTRACELULARES EN EL 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ADOS EN EL CITOSOL Y GENERAN PEPTIDOS QUE INGRESAN AL RETICULO ENDOPLAS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TUALMENTE ESTOS PEPTIDOS SE ASOCIAN A MOLECULAS MHC CLASE Ia Y SON PRESENTADOS A LOS LINFOCITOS T CD8 CITOTOX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69800" y="-457200"/>
            <a:ext cx="10085400" cy="7772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TIGENOS EXO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TEINAS E INCLUSO CELULAS INCORPORADAS DESDE EL EXTERIOR POR ALGUN MECANISMO DE ENDOCITO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 FAGOCITOSIS, PINOCITOSIS O ENDOCITOSIS MEDIADA POR RECEP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ADAS EN LOS ENDOSOMAS Y GENERAN PEPTIDOS QUE SE UNEN A LAS MOLECULAS MHC CLASE II QUE LOS PRESENTAN A LOS LINFOCITOS T CD4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CD 1 ( MHC CLASE I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HC-LIKE NON M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 ALFA Y BETA-2-m COMO Ia y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OMOSOMA 1(HUMANO) Y 3 (RA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POLIMORFICAS COMO CLASE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ISOTIPOS :  HUMANO :TIPO I : a, b y c ; TIPO II : d . RATON : CD1d 1 y CD1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FICO ENDOSOMAL COMO CLAS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 1 a, b yc PRESENTAN GLICOLIPIDOS Y LIPIDOS A LINFOCITOS T CD4,CD8 Y DN (NKT Y LT g/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1 b y c SE EXPRESAN EN CPA PROF. COMO CLASE II Y CD1a CELULAS DE LANGERH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1 d PRESENTA A 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02:30Z</dcterms:created>
  <dc:creator>claudio zúñiga</dc:creator>
  <dc:description/>
  <dc:language>en-US</dc:language>
  <cp:lastModifiedBy>ofiintilus</cp:lastModifiedBy>
  <dcterms:modified xsi:type="dcterms:W3CDTF">2004-09-07T12:54:10Z</dcterms:modified>
  <cp:revision>14</cp:revision>
  <dc:subject/>
  <dc:title>Presentación de PowerPoint</dc:title>
</cp:coreProperties>
</file>