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290-4C2C-4F13-AD94-BC36B7FF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6D9-1050-430E-B255-E5BBF4F0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687-A3D9-445E-A576-836613BD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E61-B67B-4923-BC51-362DE4B2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B16-77E3-4689-A89F-2AEB5DE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667-4060-4FF3-9261-3EE0669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F85-E085-4243-93FB-85777495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BA2-1C42-4ECD-9FC4-33D29E97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01E-E995-4C50-81F5-EEF5EE30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A2F-64F9-487D-B23B-5F8A37A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35A-D097-4455-86D9-5D8D259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101-E91F-4E1A-B1AF-DB7A8278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210-884E-497A-9A9A-8295510B8B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ND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RESIDENTES Y PROCESADA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VIRALES SINTETIZADAS EN LOS POLIRIBOSOMAS O DERIVADOS DE OTROS PATOGENOS INTRACELULARE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ADOS EN EL CITOSOL Y GENERAN PEPTIDOS QUE INGRESAN AL RETICULO ENDOPLA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TUALMENTE ESTOS PEPTIDOS SE ASOCIAN A MOLECULAS MHC CLASE Ia Y SON PRESENTADOS A LOS LINFOCITOS T CD8 CIT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9800" y="-457200"/>
            <a:ext cx="100854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X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INAS E INCLUSO CELULAS INCORPORADAS DESDE EL EXTERIOR POR ALGUN MECANISMO DE ENDOCIT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 FAGOCITOSIS, PINOCITOSIS O ENDOCITOSIS MEDIADA POR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ADAS EN LOS ENDOSOMAS Y GENERAN PEPTIDOS QUE SE UNEN A LAS MOLECULAS MHC CLASE II QUE LOS PRESENTAN A LOS LINFOCITOS T CD4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CD 1 ( MHC CLASE 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HC-LIKE N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ALFA Y BETA-2-m COMO Ia y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MOSOMA 1(HUMANO) Y 3 (RA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OLIMORFICAS COMO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ISOTIPOS :  HUMANO :TIPO I : a, b y c ; TIPO II : d . RATON : CD1d 1 y CD1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ICO ENDOSOMAL COMO CL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 1 a, b yc PRESENTAN GLICOLIPIDOS Y LIPIDOS A LINFOCITOS T CD4,CD8 Y DN (NKT Y LT g/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b y c SE EXPRESAN EN CPA PROF. COMO CLASE II Y CD1a CELUL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d PRESENTA A 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02:30Z</dcterms:created>
  <dc:creator>claudio zúñiga</dc:creator>
  <dc:description/>
  <dc:language>en-US</dc:language>
  <cp:lastModifiedBy>ofiintilus</cp:lastModifiedBy>
  <dcterms:modified xsi:type="dcterms:W3CDTF">2004-09-07T12:54:10Z</dcterms:modified>
  <cp:revision>14</cp:revision>
  <dc:subject/>
  <dc:title>Presentación de PowerPoint</dc:title>
</cp:coreProperties>
</file>