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D6A-8E79-4160-AB48-C1BF2A57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0AC-BB35-4B85-874F-8D29F3E0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760-73FC-4A6A-8E51-8BAC3A0F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5B8-41F5-405F-97CE-D94E1D0F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B67-AB87-4CCB-96B6-86DF3A6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C8E-8C80-415E-A0B5-1494D8EF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20B-1067-400F-B738-2EAF413D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3B6-0ED7-4176-9EE5-ECB4540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CC3-8222-4684-A440-46FD3B45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583-A4D7-4C46-873A-F0BBA3B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B59-9CAA-4A37-9F26-72FE7BB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C9B-9D17-4360-93D1-EDF7BAB6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7DD-2D33-4A59-8E6B-8DBB6F1503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ND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RESIDENTES Y PROCESADA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VIRALES SINTETIZADAS EN LOS POLIRIBOSOMAS O DERIVADOS DE OTROS PATOGENOS INTRACELULARE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ADOS EN EL CITOSOL Y GENERAN PEPTIDOS QUE INGRESAN AL RETICULO ENDOPLAS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TUALMENTE ESTOS PEPTIDOS SE ASOCIAN A MOLECULAS MHC CLASE Ia Y SON PRESENTADOS A LOS LINFOCITOS T CD8 CIT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9800" y="-457200"/>
            <a:ext cx="100854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X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INAS E INCLUSO CELULAS INCORPORADAS DESDE EL EXTERIOR POR ALGUN MECANISMO DE ENDOCIT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 FAGOCITOSIS, PINOCITOSIS O ENDOCITOSIS MEDIADA POR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ADAS EN LOS ENDOSOMAS Y GENERAN PEPTIDOS QUE SE UNEN A LAS MOLECULAS MHC CLASE II QUE LOS PRESENTAN A LOS LINFOCITOS T CD4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CD 1 ( MHC CLASE 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HC-LIKE N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ALFA Y BETA-2-m COMO Ia y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MOSOMA 1(HUMANO) Y 3 (RA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OLIMORFICAS COMO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ISOTIPOS :  HUMANO :TIPO I : a, b y c ; TIPO II : d . RATON : CD1d 1 y CD1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FICO ENDOSOMAL COMO CL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 1 a, b yc PRESENTAN GLICOLIPIDOS Y LIPIDOS A LINFOCITOS T CD4,CD8 Y DN (NKT Y LT g/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b y c SE EXPRESAN EN CPA PROF. COMO CLASE II Y CD1a CELUL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d PRESENTA A 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02:30Z</dcterms:created>
  <dc:creator>claudio zúñiga</dc:creator>
  <dc:description/>
  <dc:language>en-US</dc:language>
  <cp:lastModifiedBy>ofiintilus</cp:lastModifiedBy>
  <dcterms:modified xsi:type="dcterms:W3CDTF">2004-09-07T12:54:10Z</dcterms:modified>
  <cp:revision>14</cp:revision>
  <dc:subject/>
  <dc:title>Presentación de PowerPoint</dc:title>
</cp:coreProperties>
</file>