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4825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E7A8-0488-4A4A-BD89-DDC005A12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6783-A144-479B-A9B2-290DF02F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ADB7-02ED-4C5A-9C98-F1BB9094B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C00F-8D27-4A0A-B088-074255F46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A828-5DB1-48AD-8E8C-95EDF4F6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A51B-CB53-4F2F-AA3D-AC290CBC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064E-29CA-4667-AF52-73C269D1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97F3-15C0-4521-B598-58C8B781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EE30-7683-476A-B9F1-2F8FFFEC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2E41-9D14-4523-9F72-DA52AC4C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7D02-C629-4542-9395-74AD0213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DE10-D254-414F-BEF9-D5A4E6C2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1D07-9588-48DD-B586-101ABE9F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9FF0-860E-4DE0-B18D-5C8BAE36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1200-CB92-4761-A339-4D3F3A6F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B7C1-94F9-4B68-A297-F133F335B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02D6-D6D2-44DD-A7A9-BC2AE0BE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D8D9-76AB-4070-BD60-38712FBA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DA04-339A-405E-8997-2DD419B3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3906-BCF4-4E22-958E-0F90B015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1944-C654-4B5D-BDF8-F72B63A8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B225-57DF-482E-AFB2-33CC09DC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53B2-6179-4995-B6BF-EBE2DC12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9BE3-92E5-4EE4-BEBF-B0DDA579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B4C4-400E-4356-99A8-6A7B6E8F1CF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0B00-80FF-417F-9D6A-9FCEB872C5F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                       </a:t>
            </a:r>
            <a:r>
              <a:rPr b="0" lang="es-ES_tradnl" sz="3200" spc="-1" strike="noStrike">
                <a:solidFill>
                  <a:srgbClr val="ccffff"/>
                </a:solidFill>
                <a:latin typeface="Impact"/>
              </a:rPr>
              <a:t> </a:t>
            </a:r>
            <a:r>
              <a:rPr b="0" lang="es-ES_tradnl" sz="3200" spc="-1" strike="noStrike">
                <a:solidFill>
                  <a:srgbClr val="ccffff"/>
                </a:solidFill>
                <a:latin typeface="Impact"/>
              </a:rPr>
              <a:t>CITOQUINAS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792468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SON PROTEINA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MOLECULAS PLEIOTROPICA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REDUNDANTES, SINERGICAS O ANTAGONICA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ACTUAN EN FORMA AUTOCRINA, PARACRINA O ENDOCRIN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RI : FAGOCITOS          RA :  LINFOCITOS 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ESPECIFICAS PARA SU RECEPTOR EXCEPTO QUIMIOQUINAS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</a:t>
            </a:r>
            <a:r>
              <a:rPr b="0" lang="es-ES_tradnl" sz="3200" spc="-1" strike="noStrike">
                <a:solidFill>
                  <a:srgbClr val="99ffcc"/>
                </a:solidFill>
                <a:latin typeface="Impact"/>
              </a:rPr>
              <a:t>IL-10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PRODUCIDA POR MACROFAGOS, LT Th2 Y LINFOCITOS B</a:t>
            </a:r>
            <a:endParaRPr b="0" lang="en-US" sz="2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1) PARTICIPA EN ACTIVACION DE LB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ES CONSIDERADA UNA ANTI-CITOQUIN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)  INHIBE ACTIVACION DE LINFOCITOS T Th1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3) INHIBE SINTESIS DE IFN GAMM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4) INHIBE ACTIVACION DE MACROFAGOS , NEUTROFILOS Y CELULAS NK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5) INHIBE EXPRESION DE MOLECULAS MHC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EFECTO NETO ES INHIBIR RESPUESTA CELULAR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FACTOR TRANSFORMANTE DEL CRECIMIENTO O TGF BETA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ES PRODUCIDO POR  LINFOCITOS T Y MACROFAG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1) PARTICIPA EN EL CAMBIO ISOTIPICO A IgA EN LB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ES CONSIDERADO UNA ANTI-CITOQUIN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) INHIBE ACTIVACION DE LINFOCITOS T, MACROFAGOS Y NEUTROFIL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Impact"/>
              </a:rPr>
              <a:t>             </a:t>
            </a:r>
            <a:r>
              <a:rPr b="0" lang="es-ES_tradnl" sz="3200" spc="-1" strike="noStrike">
                <a:solidFill>
                  <a:srgbClr val="ccffff"/>
                </a:solidFill>
                <a:latin typeface="Impact"/>
              </a:rPr>
              <a:t>CITOQUINAS DE LA HEMATOPOYESIS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LIGANDO DE  c-KIT  O SCF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SINTETIZADA Y EXPRESADA EN LA MEMBRANA DE LAS     </a:t>
            </a:r>
            <a:r>
              <a:rPr b="0" lang="es-ES_tradnl" sz="2000" spc="-1" strike="noStrike">
                <a:solidFill>
                  <a:srgbClr val="ccffff"/>
                </a:solidFill>
                <a:latin typeface="Impact"/>
              </a:rPr>
              <a:t>CELULAS ESTROMALES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DE LA MEDULA OSEA (FIBROBLASTOS, ADIPOCITOS Y CELULAS ENDOTELIALES ) . SU LIGANDO ES LA MOLECULA c-KIT EXPRESADA EN LA MEMBRANA DE LAS </a:t>
            </a:r>
            <a:r>
              <a:rPr b="0" lang="es-ES_tradnl" sz="2000" spc="-1" strike="noStrike">
                <a:solidFill>
                  <a:srgbClr val="ccffff"/>
                </a:solidFill>
                <a:latin typeface="Impact"/>
              </a:rPr>
              <a:t>CELULAS TRONCALES</a:t>
            </a:r>
            <a:r>
              <a:rPr b="0" lang="es-ES_tradnl" sz="2000" spc="-1" strike="noStrike">
                <a:solidFill>
                  <a:srgbClr val="99ffcc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. EL EFECTO DE ESTA INTERACCION ES SENSIBILIZAR A LAS CELULAS TRONCALES PARA QUE ACTUEN OTRAS CITOQUINAS.  SU AUSENCIA ES LETAL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IL-7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A POR LAS CEL . DEL ESTROMA DE LA MEDULA OSEA Y ESTROMALES PERIFERICAS Y CELULAS DENDRITICAS.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1) ACTUA ESTIMULANDO  LINEAS COMPROMETIDAS A LINFOCIT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) ES UN FACTOR IMPORTANTE EN LA GENERACION Y MANTENCION DE LINFOCITOS T DE MEMORIA JUNTO CON IL-15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99ffcc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  </a:t>
            </a: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IL-3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ES PRODUCIDA POR LINFOCITOS Th1  Y  Th2</a:t>
            </a:r>
            <a:endParaRPr b="0" lang="en-US" sz="2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932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ACTUA ESTIMULANDO TODAS LAS LINEAS MIELOIDES Y LINFOIDE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FACTOR ESTIMULANTE DE COLONIAS DE GRANULOCITOS Y MONOCITOS  GM-CSF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O POR LINFOCITOS T, MACROFAGOS, FIBROBLASTOS Y CEL . ENDOTELIALES. ESTIMULA LINEAS DE NEUTROFILOS Y MONOCIT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G-CSF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O POR MACROFAGOS, FIBROBLASTOS CELULAS DEL ESTROMA DE LA MEDULA OSEA. ESTIMULA LINEA DE NEUTROFIL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M-CSF</a:t>
            </a:r>
            <a:r>
              <a:rPr b="0" lang="es-ES_tradnl" sz="2000" spc="-1" strike="noStrike">
                <a:solidFill>
                  <a:srgbClr val="99ffcc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O POR LINFOCITOS T, MACROFAGOS Y FIBROBLAST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ffcc"/>
                </a:solidFill>
                <a:latin typeface="Impact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ESTIMULA LINEA DE MONOCIT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ffff"/>
                </a:solidFill>
                <a:latin typeface="Impact"/>
              </a:rPr>
              <a:t>CITOQUINAS DE LA INMUNIDAD NATURAL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609480"/>
            <a:ext cx="7010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IFN TIPO I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  MACROFAGO  :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Impact"/>
              </a:rPr>
              <a:t> ALFA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  FIBROBLASTOS  : 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Impact"/>
              </a:rPr>
              <a:t>BET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EFECTO ANTIVIRAL :  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1.- SINTESIS DE ENZIMAS QUE INHIBEN REPLICACION VIRA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.- AUMENTAN POTENCIAL LITICO DE CELULAS NK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.- INDUCEN EXPRESION DE MHC CLASE I PERO INHIBEN CLASE II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4.- AGENTES ANTIPROLIFERATIV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-2948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IL-1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TODAS  LAS CELULAS SERIAN CAPACES DE SINTETIZARL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HEPATOCITOS                      :     SINTESIS  DE PF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CELULAS  ENDOTELIALES :    ACTIVACION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HIPOTALAMO                        :    FIEBRE                         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INHIBIDOR NATURAL SE DENOMINA IL-1 r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-2948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TNF ALFA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: PRODUCIDO POR  MACROFAGOS,  L T , NK  Y  MASTOC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219320" y="419040"/>
            <a:ext cx="7772400" cy="57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ff"/>
                </a:solidFill>
                <a:latin typeface="Impact"/>
              </a:rPr>
              <a:t>EN BAJAS CONCENTRACIONES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:  ACTIVA CEL. ENDOTELIALES , NEUTROFILOS, MACROFAGOS Y EOSINOFILOS, INDUCE SINTESIS DE QUIMIOQUINAS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ff"/>
                </a:solidFill>
                <a:latin typeface="Impact"/>
              </a:rPr>
              <a:t>ALTAS CONCENTRACIONES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:  FIEBRE, ACTIVA MACROFAGOS Y CEL. ENDOTELIALES, INDUCE SINTESIS DE PFA, ACTIVA SISTEMA DE COAGULACION, INHIBIDOR DE LA HEMATOPOYESIS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UEDE INDUCIR SHOCK SEPTICO LETAL, CON COLAPSO CIRCULATORIO Y COAGULACION   INTRAVASCULAR DISEMINAD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IL-6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SINTETIZADA POR MACROFAGOS, CEL. ENDOTELIALES, FIBROBLASTOS Y LINFOCITOS T.  ES ESTIMULADA POR TNF, IL-1 o LP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FIEBRE ,  ACTIVACION  CEL. ENDOTELIALES Y SINTESIS DE P. F. A.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FACTOR ESTIMULANTE DE LA HEMATOPOYESIS Y DEL CRECIMIENTO Y DIFERENCIACION DE LOS LB.    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IL-15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PRODUCIDA POR MACROFAGOS, CEL.. ESTROMALES Y DENDRITICA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218960" y="0"/>
            <a:ext cx="7924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SINERGIZA CON IL-2 EN PROLIFERACION DE LT Y LB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ARTICIPA EN EL DESARROLLO , ACTIVACION Y SOBREVIVENCIA DE LAS CEL .  NK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JUNTO CON  IL-7 PARTICIPA EN LA GENERACION DE LT DE MEMORI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IL-12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A POR MACROFAGOS, NEUTROFILOS Y CEL . DENDRITICA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INDUCE SINTESIS DE IFN G EN NK ,  LINFOCITOS T  Th1  Y   LINFOCITOS CD8 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AUMENTA CAPACIDAD CITOTOXICA DE CELULAS NK Y LT CD8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INDUCE DIFERENCIACION DE LT CD4 A LINEA Th1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QUIMIOQUINAS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QUIMIOTAXIS Y ACTIVACION DE LEUCOCIT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4 GRUPOS :  C, CC, CXC, C3XC.      C :  LINFOTACTIN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CC :    PRODUCIDAS POR LINFOCITOS T Y ACTUAN SOBRE MONOCITOS , LINFOCITOS, EOSINOFILOS Y BASOFIL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CXC : PRODUCIDAS POR MACROFAGOS, CEL . ENDOTELIALES, FIBROBLASTOS  Y OTRAS  Y ACTUAN SOBRE NEUTROFILOS  ( IL-8  )       C3XC :  FRACTALKIN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60 QUIMIOQUINAS Y 18 RECEPTORES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ACTUAN EN GRADIENTE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08760" y="3352680"/>
            <a:ext cx="304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Impact"/>
              </a:rPr>
              <a:t>CITOQUINAS DE LA RESPUESTA ADAPTATIVA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cc"/>
                </a:solidFill>
                <a:latin typeface="Impact"/>
              </a:rPr>
              <a:t>IL-2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PRODUCIDA POR LINFOCITOS T CD4 Th1, LT CD8 Y CEL. DENDRITICA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1) RESPONSABLE EXPANSION CLONAL DE LINFOCITOS T CD4  Y CD8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) ESTIMULA LA PRODUCCION DE IFN G Y LINFOTOXIN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3) ESTIMULA ACTIVACION DE CELULAS NK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4) ACTIVACION Y PROLIFERACION DE LB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5) INDUCE SINTESIS DE PROTEINAS DE SOBREVIVENCIA   Bcl-2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6) INDUCE ACTIVACION DE LINFOCITOS T REGULADORES CD4 CD25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-28440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cc"/>
                </a:solidFill>
                <a:latin typeface="Impact"/>
              </a:rPr>
              <a:t>IL-4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A POR LT Th2 , MASTOCITOS, BASOFILOS, EOSINOFILOS,  NK, NKT Y LINFOCITOS GAMMA / DELT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INDUCE PROLIFERACION  Y DIFERENCIACION DE LINFOCITOS T  Th2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INDUCE CAMBIO ISOTIPICO A IgE  .  ESTIMULA EXPRESION DE MHC CLASE II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4920" y="419040"/>
            <a:ext cx="7696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cc"/>
                </a:solidFill>
                <a:latin typeface="Impact"/>
              </a:rPr>
              <a:t>IL-13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A POR LAS MISMAS CELULAS E IGUALES  FUNCIONES QUE IL-4</a:t>
            </a:r>
            <a:endParaRPr b="0" lang="en-US" sz="2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cc"/>
                </a:solidFill>
                <a:latin typeface="Impact"/>
              </a:rPr>
              <a:t>INTERFERON GAMMA  IFN TIPO II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PRODUCIDO POR LT Th1 Y CEL . NK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1) PRINCIPAL ACTIVADOR DE MACROFAG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) INDUCE EXPRESION DE MOLECULAS MHC CLASE I Y CLASE II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3) PARTICIPA EN LA DIFERENCIACION DE LT CD4 A LT Th1 . INHIBE A Th2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4) ACTIVADOR DE LT CD8 , NEUTROFILOS , NK   Y CELULAS ENDOTELIALE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5) PARTICIPA EN LA DIFERENCIACION DE LB.  INDUCE CAMBIO A IgG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-2948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cc"/>
                </a:solidFill>
                <a:latin typeface="Impact"/>
              </a:rPr>
              <a:t>LINFOTOXINA O TNF BETA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A POR LINFOCITOS T Th1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FORMA SOLUBLE ES POTENTE ACTIVADOR DE NEUTROFILOS Y CEL . ENDOTEL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FORMA DE MEMBRANA IMPORTANTE EN LA GENERACION DE GANGLIOS LINFATICOS DURANTE LA EMBRIOGENESIS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-2948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cc"/>
                </a:solidFill>
                <a:latin typeface="Impact"/>
              </a:rPr>
              <a:t>IL-5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A  POR LT Th2 Y MASTOCIT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1) PRINCIPAL ACTIVADOR DE EOSINOFIL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) PARTICIPA EN LA DIFERENCIACION DE LB Y EN EL CAMBIO ISOTIPICO A Ig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18:36:52Z</dcterms:created>
  <dc:creator>Muestras</dc:creator>
  <dc:description/>
  <dc:language>en-US</dc:language>
  <cp:lastModifiedBy>ofiintilus</cp:lastModifiedBy>
  <dcterms:modified xsi:type="dcterms:W3CDTF">2004-09-07T11:42:43Z</dcterms:modified>
  <cp:revision>38</cp:revision>
  <dc:subject/>
  <dc:title>                        CITOQUINAS</dc:title>
</cp:coreProperties>
</file>