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2962-41B7-4A52-890A-BA55AD27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D305-2567-4E19-9CD5-B2B79CBA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0E65-5B88-4A2B-AEA2-D0E6348A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C084-38A1-4C33-B1DA-C6B1799D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01A2-91AC-4FCD-BBD1-393B39575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CF17-ED45-4335-9BEB-C8A8D84C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32FE-7F62-43EE-AEE0-445FB66C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9A93-692B-497B-9A32-FCEB4816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FC5C-29E2-463E-9E72-90E94342C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6A64-0D35-45B3-81AB-55E55273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840D-B979-4439-AFDD-AF7E6D62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D88B-C3B6-4885-B499-019A730F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E440-F6D1-4CEB-B0BA-1FA6C775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BE55-B8AB-43F1-83F1-BBBC1815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1F82-62F1-465D-B363-CC99F89A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FEF3-B72F-4113-9D97-BA7B3BCA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6D48-7976-4365-94AD-6FBCAC45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A76-9B71-4453-8ABD-C6DA2F94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ED97-907F-4572-BE08-DAB5B963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2B4-1DB1-4F94-8BDD-890F91EF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D21A-FF68-41B7-855C-701271FB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4E45-FFD7-416B-8EB4-C92685B7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FEB1-61E5-411F-AEBD-A4A9FE72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DFF-4081-4715-A559-84B4D9E7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8412-B751-4223-A54C-0045693AF025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87C1-D7DD-4857-86FF-30CD51DC96F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ffff"/>
                </a:solidFill>
                <a:latin typeface="Impact"/>
              </a:rPr>
              <a:t>                       </a:t>
            </a: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 </a:t>
            </a: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CITOQUINA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8960" y="2044800"/>
            <a:ext cx="79246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SON PROTEIN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MOLECULAS PLEIOTROPIC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REDUNDANTES, SINERGICAS O ANTAGONIC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ACTUAN EN FORMA AUTOCRINA, PARACRINA O ENDOCRIN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RI : FAGOCITOS          RA :  LINFOCITOS 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Impact"/>
              </a:rPr>
              <a:t>ESPECIFICAS PARA SU RECEPTOR EXCEPTO QUIMIOQUINAS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</a:t>
            </a:r>
            <a:r>
              <a:rPr b="0" lang="es-ES_tradnl" sz="3200" spc="-1" strike="noStrike">
                <a:solidFill>
                  <a:srgbClr val="99ffcc"/>
                </a:solidFill>
                <a:latin typeface="Impact"/>
              </a:rPr>
              <a:t>IL-10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PRODUCIDA POR MACROFAGOS, LT Th2 Y LINFOCITOS B</a:t>
            </a:r>
            <a:endParaRPr b="0" lang="en-US" sz="2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ARTICIPA EN ACTIVACION DE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CONSIDERADA UNA ANTI-CITOQU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 INHIBE ACTIVACION DE LINFOCITOS T Th1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3) INHIBE SINTESIS DE IFN GAMM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) INHIBE ACTIVACION DE MACROFAGOS , NEUTROFILOS Y CELULAS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5) INHIBE EXPRESION DE MOLECULAS MHC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FECTO NETO ES INHIBIR RESPUESTA CELULAR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-3430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FACTOR TRANSFORMANTE DEL CRECIMIENTO O TGF BETA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PRODUCIDO POR  LINFOCITOS T Y MACROFAG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ARTICIPA EN EL CAMBIO ISOTIPICO A IgA EN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CONSIDERADO UNA ANTI-CITOQU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INHIBE ACTIVACION DE LINFOCITOS T, MACROFAGOS Y NEUTR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             </a:t>
            </a: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CITOQUINAS DE LA HEMATOPOYESIS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LIGANDO DE  c-KIT  O SCF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SINTETIZADA Y EXPRESADA EN LA MEMBRANA DE LAS     </a:t>
            </a: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CELULAS ESTROMALES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DE LA MEDULA OSEA (FIBROBLASTOS, ADIPOCITOS Y CELULAS ENDOTELIALES ) . SU LIGANDO ES LA MOLECULA c-KIT EXPRESADA EN LA MEMBRANA DE LAS </a:t>
            </a: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CELULAS TRONCALES</a:t>
            </a:r>
            <a:r>
              <a:rPr b="0" lang="es-ES_tradnl" sz="20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. EL EFECTO DE ESTA INTERACCION ES SENSIBILIZAR A LAS CELULAS TRONCALES PARA QUE ACTUEN OTRAS CITOQUINAS.  SU AUSENCIA ES LETAL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-31212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7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AS CEL . DEL ESTROMA DE LA MEDULA OSEA Y ESTROMALES PERIFERICAS Y CELULAS DENDRITICAS.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ACTUA ESTIMULANDO  LINEAS COMPROMETIDAS A LINF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ES UN FACTOR IMPORTANTE EN LA GENERACION Y MANTENCION DE LINFOCITOS T DE MEMORIA JUNTO CON IL-15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419040"/>
            <a:ext cx="7772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buClr>
                <a:srgbClr val="99ffcc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  </a:t>
            </a: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3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 PRODUCIDA POR LINFOCITOS Th1  Y  Th2</a:t>
            </a:r>
            <a:endParaRPr b="0" lang="en-US" sz="2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ACTUA ESTIMULANDO TODAS LAS LINEAS MIELOIDES Y LINFOID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FACTOR ESTIMULANTE DE COLONIAS DE GRANULOCITOS Y MONOCITOS  GM-CSF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O POR LINFOCITOS T, MACROFAGOS, FIBROBLASTOS Y CEL . ENDOTELIALES. ESTIMULA LINEAS DE NEUTROFILOS Y MON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G-CSF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O POR MACROFAGOS, FIBROBLASTOS CELULAS DEL ESTROMA DE LA MEDULA OSEA. ESTIMULA LINEA DE NEUTR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-3258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M-CSF</a:t>
            </a:r>
            <a:r>
              <a:rPr b="0" lang="es-ES_tradnl" sz="2000" spc="-1" strike="noStrike">
                <a:solidFill>
                  <a:srgbClr val="99ffcc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O POR LINFOCITOS T, MACROFAGOS Y FIBROBLAS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ffcc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STIMULA LINEA DE MON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ccffff"/>
                </a:solidFill>
                <a:latin typeface="Impact"/>
              </a:rPr>
              <a:t>CITOQUINAS DE LA INMUNIDAD NATURAL</a:t>
            </a:r>
            <a:endParaRPr b="0" lang="en-US" sz="36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609480"/>
            <a:ext cx="70106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FN TIPO I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MACROFAGO  :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Impact"/>
              </a:rPr>
              <a:t> ALFA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FIBROBLASTOS  :  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Impact"/>
              </a:rPr>
              <a:t>BET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EFECTO ANTIVIRAL : 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.- SINTESIS DE ENZIMAS QUE INHIBEN REPLICACION VIRA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.- AUMENTAN POTENCIAL LITICO DE CELULAS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.- INDUCEN EXPRESION DE MHC CLASE I PERO INHIBEN CLASE II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.- AGENTES ANTIPROLIFERATIV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1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TODAS  LAS CELULAS SERIAN CAPACES DE SINTETIZARL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HEPATOCITOS                      :     SINTESIS  DE PF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CELULAS  ENDOTELIALES :    ACTIVACION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HIPOTALAMO                        :    FIEBRE                        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HIBIDOR NATURAL SE DENOMINA IL-1 r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TNF ALFA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: PRODUCIDO POR  MACROFAGOS,  L T , NK  Y  MASTOC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19320" y="419040"/>
            <a:ext cx="7772400" cy="57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EN BAJAS CONCENTRACIONES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:  ACTIVA CEL. ENDOTELIALES , NEUTROFILOS, MACROFAGOS Y EOSINOFILOS, INDUCE SINTESIS DE QUIMIOQUINAS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ff"/>
                </a:solidFill>
                <a:latin typeface="Impact"/>
              </a:rPr>
              <a:t>ALTAS CONCENTRACIONES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:  FIEBRE, ACTIVA MACROFAGOS Y CEL. ENDOTELIALES, INDUCE SINTESIS DE PFA, ACTIVA SISTEMA DE COAGULACION, INHIBIDOR DE LA HEMATOPOYESIS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UEDE INDUCIR SHOCK SEPTICO LETAL, CON COLAPSO CIRCULATORIO Y COAGULACION   INTRAVASCULAR DISEMINAD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6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SINTETIZADA POR MACROFAGOS, CEL. ENDOTELIALES, FIBROBLASTOS Y LINFOCITOS T.  ES ESTIMULADA POR TNF, IL-1 o LP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IEBRE ,  ACTIVACION  CEL. ENDOTELIALES Y SINTESIS DE P. F. A.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  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ACTOR ESTIMULANTE DE LA HEMATOPOYESIS Y DEL CRECIMIENTO Y DIFERENCIACION DE LOS LB.   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5280" indent="-3052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15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PRODUCIDA POR MACROFAGOS, CEL.. ESTROMALES Y DENDRITICA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21896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SINERGIZA CON IL-2 EN PROLIFERACION DE LT Y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ARTICIPA EN EL DESARROLLO , ACTIVACION Y SOBREVIVENCIA DE LAS CEL . 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JUNTO CON  IL-7 PARTICIPA EN LA GENERACION DE LT DE MEMORI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IL-12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MACROFAGOS, NEUTROFILOS Y CEL . DENDRITICA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SINTESIS DE IFN G EN NK ,  LINFOCITOS T  Th1  Y   LINFOCITOS CD8 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AUMENTA CAPACIDAD CITOTOXICA DE CELULAS NK Y LT CD8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DIFERENCIACION DE LT CD4 A LINEA Th1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ffcc"/>
                </a:solidFill>
                <a:latin typeface="Impact"/>
              </a:rPr>
              <a:t>QUIMIOQUINAS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QUIMIOTAXIS Y ACTIVACION DE LEUC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 GRUPOS :  C, CC, CXC, C3XC.      C :  LINFOTACT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CC :    PRODUCIDAS POR LINFOCITOS T Y ACTUAN SOBRE MONOCITOS , LINFOCITOS, EOSINOFILOS Y BAS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CXC : PRODUCIDAS POR MACROFAGOS, CEL . ENDOTELIALES, FIBROBLASTOS  Y OTRAS  Y ACTUAN SOBRE NEUTROFILOS  ( IL-8  )       C3XC :  FRACTALK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60 QUIMIOQUINAS Y 18 RECEPTORES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ACTUAN EN GRADIENT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08760" y="3352680"/>
            <a:ext cx="304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ffff"/>
                </a:solidFill>
                <a:latin typeface="Impact"/>
              </a:rPr>
              <a:t>CITOQUINAS DE LA RESPUESTA ADAPTATIVA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2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 PRODUCIDA POR LINFOCITOS T CD4 Th1, LT CD8 Y CEL. DENDRITICA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RESPONSABLE EXPANSION CLONAL DE LINFOCITOS T CD4  Y CD8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ESTIMULA LA PRODUCCION DE IFN G Y LINFOTOXIN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3) ESTIMULA ACTIVACION DE CELULAS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) ACTIVACION Y PROLIFERACION DE LB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5) INDUCE SINTESIS DE PROTEINAS DE SOBREVIVENCIA   Bcl-2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6) INDUCE ACTIVACION DE LINFOCITOS T REGULADORES CD4 CD25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-28440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4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T Th2 , MASTOCITOS, BASOFILOS, EOSINOFILOS,  NK, NKT Y LINFOCITOS GAMMA / DELT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PROLIFERACION  Y DIFERENCIACION DE LINFOCITOS T  Th2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INDUCE CAMBIO ISOTIPICO A IgE  .  ESTIMULA EXPRESION DE MHC CLASE II 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419040"/>
            <a:ext cx="76964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13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AS MISMAS CELULAS E IGUALES  FUNCIONES QUE IL-4</a:t>
            </a:r>
            <a:endParaRPr b="0" lang="en-US" sz="20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NTERFERON GAMMA  IFN TIPO II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  PRODUCIDO POR LT Th1 Y CEL . NK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RINCIPAL ACTIVADOR DE MACROFAG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INDUCE EXPRESION DE MOLECULAS MHC CLASE I Y CLASE II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3) PARTICIPA EN LA DIFERENCIACION DE LT CD4 A LT Th1 . INHIBE A Th2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4) ACTIVADOR DE LT CD8 , NEUTROFILOS , NK   Y CELULAS ENDOTELIALE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5) PARTICIPA EN LA DIFERENCIACION DE LB.  INDUCE CAMBIO A IgG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LINFOTOXINA O TNF BETA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POR LINFOCITOS T Th1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ORMA SOLUBLE ES POTENTE ACTIVADOR DE NEUTROFILOS Y CEL . ENDOTEL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FORMA DE MEMBRANA IMPORTANTE EN LA GENERACION DE GANGLIOS LINFATICOS DURANTE LA EMBRIOGENESIS.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-294840">
              <a:spcBef>
                <a:spcPts val="4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ffcc"/>
                </a:solidFill>
                <a:latin typeface="Impact"/>
              </a:rPr>
              <a:t>IL-5</a:t>
            </a:r>
            <a:r>
              <a:rPr b="0" lang="es-ES_tradnl" sz="2000" spc="-1" strike="noStrike">
                <a:solidFill>
                  <a:srgbClr val="ff0000"/>
                </a:solidFill>
                <a:latin typeface="Impact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PRODUCIDA  POR LT Th2 Y MASTOCIT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1) PRINCIPAL ACTIVADOR DE EOSINOFILOS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Impact"/>
              </a:rPr>
              <a:t>2) PARTICIPA EN LA DIFERENCIACION DE LB Y EN EL CAMBIO ISOTIPICO A IgA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18:36:52Z</dcterms:created>
  <dc:creator>Muestras</dc:creator>
  <dc:description/>
  <dc:language>en-US</dc:language>
  <cp:lastModifiedBy>ofiintilus</cp:lastModifiedBy>
  <dcterms:modified xsi:type="dcterms:W3CDTF">2004-09-07T11:42:43Z</dcterms:modified>
  <cp:revision>38</cp:revision>
  <dc:subject/>
  <dc:title>                        CITOQUINAS</dc:title>
</cp:coreProperties>
</file>