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B29-9988-4B0B-9967-CA7D02E2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1EE-4212-4E8A-848C-9A6ABFD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04C-7A9D-45B5-B7E9-A63D8655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F2D-772F-40F4-AE8F-DA6B4E98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37C9-27A4-4E9A-8AAD-AD0B87BE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1DEF-A418-4470-85EF-43B5739B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9B93-7D10-43AD-AC60-ED4B4755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89AD-BD04-4BDA-8C92-0BBA3C4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904E-7B0B-45BE-ADD6-BA21FE2E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CBD6-87D0-4956-BD22-A2EFEED5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0189-A030-435C-89F6-8277146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7C1-2F7A-47E0-B1DC-CBF87D6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9E35-2BC4-4444-8931-37AB86D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A550-E248-40DC-BD0E-B0FB9D00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D326-F894-4E23-B8B2-DACD2F1F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2792-4D8C-420A-8256-477B4D1B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CD1E-1F39-44DD-9010-2E601DE3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C08-63A1-4D17-A15B-55BEE46E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319-057E-4DA1-B52F-AB1ABF0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74B-24A8-403F-9731-2D3B0B27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C0F-B65B-421B-8A2F-1BF793C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EEA-DBA0-46D7-8A81-5EDB567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181-7B88-4C49-9F93-5FD7E043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6C9-2CF6-4642-851A-7FAD071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5E8B-403F-4CF5-BC4F-EA6D662C0BF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9B93-1B8A-4295-9F15-265607CF2CB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ON PROTEIN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MOLECULAS PLEIOTROP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EDUNDANTES, SINERGICAS O ANTAGON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CTUAN EN FORMA AUTOCRINA, PARACRINA O ENDOCRI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I : FAGOCITOS          RA :  LINFOCITOS 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PECIFICAS PARA SU RECEPTOR EXCEPTO QUIMIOQUIN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3200" spc="-1" strike="noStrike">
                <a:solidFill>
                  <a:srgbClr val="99ffcc"/>
                </a:solidFill>
                <a:latin typeface="Impact"/>
              </a:rPr>
              <a:t>IL-10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A POR MACROFAGOS, LT Th2 Y LINFOCITOS B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ACTIV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A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 INHIBE ACTIVACION DE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INHIBE SINTESIS DE IFN GAMM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INHIBE ACTIVACION DE MACROFAGOS , NEUTROFILOS Y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HIBE EXPRESION DE MOLECULAS MH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NETO ES INHIBIR RESPUESTA CELULA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TRANSFORMANTE DEL CRECIMIENTO O TG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O POR  LINFOCITOS T Y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EL CAMBIO ISOTIPICO A IgA EN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O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HIBE ACTIVACION DE LINFOCITOS T, MACROFAGOS Y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HEMATOPOYESI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LIGANDO DE  c-KIT  O SC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Y EXPRESADA EN LA MEMBRANA DE LAS    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ESTROMAL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DE LA MEDULA OSEA (FIBROBLASTOS, ADIPOCITOS Y CELULAS ENDOTELIALES ) . SU LIGANDO ES LA MOLECULA c-KIT EXPRESADA EN LA MEMBRANA DE LAS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TRONCALES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. EL EFECTO DE ESTA INTERACCION ES SENSIBILIZAR A LAS CELULAS TRONCALES PARA QUE ACTUEN OTRAS CITOQUINAS.  SU AUSENCIA ES LETA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7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CEL . DEL ESTROMA DE LA MEDULA OSEA Y ESTROMALES PERIFERICAS Y CELULAS DENDRITICAS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ACTUA ESTIMULANDO  LINEAS COMPROMETIDAS A LINF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 UN FACTOR IMPORTANTE EN LA GENERACION Y MANTENCION DE LINFOCITOS T DE MEMORIA JUNTO CON IL-1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9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A POR LINFOCITOS Th1  Y  Th2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 ESTIMULANDO TODAS LAS LINEAS MIELOIDES Y LINFOID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ESTIMULANTE DE COLONIAS DE GRANULOCITOS Y MONOCITOS  GM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, FIBROBLASTOS Y CEL . ENDOTELIALES. ESTIMULA LINEAS DE NEUTROFILOS Y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G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MACROFAGOS, FIBROBLASTOS CELULAS DEL ESTROMA DE LA MEDULA OSEA. ESTIMULA LINEA DE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M-CSF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 Y FIBROBLAS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TIMULA LINEA DE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Impact"/>
              </a:rPr>
              <a:t>CITOQUINAS DE LA INMUNIDAD NATU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609480"/>
            <a:ext cx="701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FN TIPO I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MACROFAGO  :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 ALFA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FIBROBLASTOS  :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BE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ANTIVIRAL :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.- SINTESIS DE ENZIMAS QUE INHIBEN REPLICACION VIR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AUMENTAN POTENCIAL LITICO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INDUCEN EXPRESION DE MHC CLASE I PERO INHIBEN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.- AGENTES ANTIPROLIFERATIV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TODAS  LAS CELULAS SERIAN CAPACES DE SINTETIZARL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EPATOCITOS                      :     SINTESIS  DE PF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ELULAS  ENDOTELIALES :    ACTIVAC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IPOTALAMO                        :    FIEBRE                     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HIBIDOR NATURAL SE DENOMINA IL-1 r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TNF ALFA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PRODUCIDO POR  MACROFAGOS,  L T , NK  Y  MASTOC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EN BAJ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ACTIVA CEL. ENDOTELIALES , NEUTROFILOS, MACROFAGOS Y EOSINOFILOS, INDUCE SINTESIS DE QUIMIOQUINAS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ALT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FIEBRE, ACTIVA MACROFAGOS Y CEL. ENDOTELIALES, INDUCE SINTESIS DE PFA, ACTIVA SISTEMA DE COAGULACION, INHIBIDOR DE LA HEMATOPOY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UEDE INDUCIR SHOCK SEPTICO LETAL, CON COLAPSO CIRCULATORIO Y COAGULACION   INTRAVASCULAR DISEMINAD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6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POR MACROFAGOS, CEL. ENDOTELIALES, FIBROBLASTOS Y LINFOCITOS T.  ES ESTIMULADA POR TNF, IL-1 o LP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IEBRE ,  ACTIVACION  CEL. ENDOTELIALES Y SINTESIS DE P. F. A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ACTOR ESTIMULANTE DE LA HEMATOPOYESIS Y DEL CRECIMIENTO Y DIFERENCIACION DE LOS LB.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PRODUCIDA POR MACROFAGOS, CEL.. ESTROMALES Y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ERGIZA CON IL-2 EN PROLIFERACION DE LT Y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ARTICIPA EN EL DESARROLLO , ACTIVACION Y SOBREVIVENCIA DE LAS CEL . 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JUNTO CON  IL-7 PARTICIPA EN LA GENERACION DE LT DE MEMOR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2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MACROFAGOS, NEUTROFILOS Y CEL 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SINTESIS DE IFN G EN NK ,  LINFOCITOS T  Th1  Y   LINFOCITOS CD8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UMENTA CAPACIDAD CITOTOXICA DE CELULAS NK Y LT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DIFERENCIACION DE LT CD4 A LINEA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QUIMIOQUINAS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QUIMIOTAXIS Y ACTIVACION DE LEUC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 GRUPOS :  C, CC, CXC, C3XC.      C :  LINFOTACT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C :    PRODUCIDAS POR LINFOCITOS T Y ACTUAN SOBRE MONOCITOS , LINFOCITOS, EOSINOFILOS Y BAS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XC : PRODUCIDAS POR MACROFAGOS, CEL . ENDOTELIALES, FIBROBLASTOS  Y OTRAS  Y ACTUAN SOBRE NEUTROFILOS  ( IL-8  )       C3XC :  FRACTALK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0 QUIMIOQUINAS Y 18 RECEPTORE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N EN GRADIENT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8760" y="335268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RESPUESTA ADAPTA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2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PRODUCIDA POR LINFOCITOS T CD4 Th1, LT CD8 Y CEL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RESPONSABLE EXPANSION CLONAL DE LINFOCITOS T CD4  Y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TIMULA LA PRODUCCION DE IFN G Y LINFOTOX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ESTIMULA ACTIVACION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CION Y PROLIFER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DUCE SINTESIS DE PROTEINAS DE SOBREVIVENCIA   Bcl-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) INDUCE ACTIVACION DE LINFOCITOS T REGULADORES CD4 CD2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4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T Th2 , MASTOCITOS, BASOFILOS, EOSINOFILOS,  NK, NKT Y LINFOCITOS GAMMA / DEL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PROLIFERACION  Y DIFERENCIACION DE LINFOCITOS T 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CAMBIO ISOTIPICO A IgE  .  ESTIMULA EXPRESION DE MHC CLASE II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19040"/>
            <a:ext cx="7696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1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MISMAS CELULAS E IGUALES  FUNCIONES QUE IL-4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NTERFERON GAMMA  IFN TIPO II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O POR LT Th1 Y CEL .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DUCE EXPRESION DE MOLECULAS MHC CLASE I Y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PARTICIPA EN LA DIFERENCIACION DE LT CD4 A LT Th1 . INHIBE A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DOR DE LT CD8 , NEUTROFILOS , NK   Y CELULAS ENDOTELIAL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PARTICIPA EN LA DIFERENCIACION DE LB.  INDUCE CAMBIO A Ig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LINFOTOXINA O TN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SOLUBLE ES POTENTE ACTIVADOR DE NEUTROFILOS Y CEL . ENDOT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DE MEMBRANA IMPORTANTE EN LA GENERACION DE GANGLIOS LINFATICOS DURANTE LA EMBRIOGEN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 POR LT Th2 Y MAST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EOSIN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PARTICIPA EN LA DIFERENCIACION DE LB Y EN EL CAMBIO ISOTIPICO A Ig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8:36:52Z</dcterms:created>
  <dc:creator>Muestras</dc:creator>
  <dc:description/>
  <dc:language>en-US</dc:language>
  <cp:lastModifiedBy>ofiintilus</cp:lastModifiedBy>
  <dcterms:modified xsi:type="dcterms:W3CDTF">2004-09-07T11:42:43Z</dcterms:modified>
  <cp:revision>38</cp:revision>
  <dc:subject/>
  <dc:title>                        CITOQUINAS</dc:title>
</cp:coreProperties>
</file>