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4.jpeg" ContentType="image/jpeg"/>
  <Override PartName="/ppt/media/image25.png" ContentType="image/png"/>
  <Override PartName="/ppt/media/image31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13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5B9-3349-4391-BE07-F7918C69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054-338E-4402-8BB8-2BC3A486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25F-C85C-4336-B2F0-ABF1A198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08D-6C60-4E9E-99E5-C7550249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72F-95E1-490E-9DFC-62DE2FBC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02C-9538-4A23-96AB-40883B28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D8A-FC3B-464E-AFA9-5B4243C0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551-5BF7-49A5-BB9A-95F993EA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F73-0831-498F-A808-91A9CCC0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853-4434-4A67-825B-5AD2EA47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373-FA58-4462-9323-73B853CE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24B-4C09-4F03-94E2-3358EC9B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8363-C798-4573-AA6F-DBA19D6337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tapas de la respuesta inmune adaptativa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 directo por parte de linfocitos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 captación, procesamiento y present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por células presentadoras de antígen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linfocitos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ació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expansión clonal y difere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uesta efectora y mecanismos de ampl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84240"/>
            <a:ext cx="7848360" cy="67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22320"/>
            <a:ext cx="799308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465800" cy="6245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1055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SPUESTA HUM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mo- 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cción efectora de inmunoglobul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eu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ación del comp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pso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ormación de complej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528480"/>
            <a:ext cx="914400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ORE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073160"/>
            <a:ext cx="88930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476360"/>
            <a:ext cx="9144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3590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669960"/>
            <a:ext cx="91440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ÉLULAS  ACCES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640" y="1428840"/>
            <a:ext cx="8496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7280" y="54000"/>
            <a:ext cx="676944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751040"/>
            <a:ext cx="91440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¿Do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e             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desarr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spuest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mu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52280"/>
            <a:ext cx="6372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3:01:12Z</dcterms:created>
  <dc:creator>ofiintilus</dc:creator>
  <dc:description/>
  <dc:language>en-US</dc:language>
  <cp:lastModifiedBy>ofiintilus</cp:lastModifiedBy>
  <dcterms:modified xsi:type="dcterms:W3CDTF">2004-08-26T16:53:24Z</dcterms:modified>
  <cp:revision>8</cp:revision>
  <dc:subject/>
  <dc:title>DINÁMICA DE LA RESPUESTA INMUNE</dc:title>
</cp:coreProperties>
</file>