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3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2C7-CBC9-4BBE-9AEF-1E459C47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5A5-E5FD-41CB-A355-EE0F4DA8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946-8EEB-46A4-9675-E5D6140F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B03-46A8-4872-AD28-EE8A3AB0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492-A2EE-4E91-92DF-A181273E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877-D54A-46DA-98CB-42A70243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40A-732E-43A6-90F9-AB70329E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20A-D100-4C67-8F1E-F2457EBE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A1E-7375-41F7-ACFD-E990395C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762-A997-4480-9D00-D3EBE81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F3E5-1554-4203-BDE9-493179E2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D1A-C3B7-4314-B263-B262E4F9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0F2D-3671-4C03-8E95-08BFF79B8F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tapas de la respuesta inmune adaptativa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directo por parte de linfocito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captación, procesamiento y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por células presentadoras de antígen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infocitos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expansión clonal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uesta efectora y mecanismos de ampl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84240"/>
            <a:ext cx="784836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22320"/>
            <a:ext cx="799308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5800" cy="6245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mo- 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cción efectora de inmunoglobul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del comp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s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ción de complej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ORE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073160"/>
            <a:ext cx="88930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76360"/>
            <a:ext cx="9144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ÉLULAS  ACCES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640" y="1428840"/>
            <a:ext cx="8496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54000"/>
            <a:ext cx="676944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51040"/>
            <a:ext cx="9144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¿D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e    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desarr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mu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6372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3:01:12Z</dcterms:created>
  <dc:creator>ofiintilus</dc:creator>
  <dc:description/>
  <dc:language>en-US</dc:language>
  <cp:lastModifiedBy>ofiintilus</cp:lastModifiedBy>
  <dcterms:modified xsi:type="dcterms:W3CDTF">2004-08-26T16:53:24Z</dcterms:modified>
  <cp:revision>8</cp:revision>
  <dc:subject/>
  <dc:title>DINÁMICA DE LA RESPUESTA INMUNE</dc:title>
</cp:coreProperties>
</file>