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4.jpeg" ContentType="image/jpeg"/>
  <Override PartName="/ppt/media/image25.png" ContentType="image/png"/>
  <Override PartName="/ppt/media/image31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13.png" ContentType="image/png"/>
  <Override PartName="/ppt/media/image30.png" ContentType="image/png"/>
  <Override PartName="/ppt/media/image3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8F95-EB9E-4D6A-A8DE-5C4E8577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B4B-04C4-4FD6-90F1-D933E0AE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35CC-2543-4C5B-8737-3E12B0F1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EDB8-0EDD-41CD-AD83-F3593893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C7B2-FB80-4734-923D-204EC6B4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5ECA-D8E2-4554-A98A-C6549CE3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F605-A25F-4A7B-8628-B8EA4768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6135-4EB2-4781-9C8A-9BA229DE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3B39-A5ED-4D01-803A-9ED5CE58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513D-E6F8-4DB3-B95B-265A3B6E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9D29-3E5C-4A35-A374-AADBECBA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7854-23D5-432E-A2D6-0E377932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A949-9504-4558-A977-FE7B8F1E3B8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tapas de la respuesta inmune adaptativa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435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conocimie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- directo por parte de linfocitos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- captación, procesamiento y present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por células presentadoras de antígeno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linfocitos 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tivació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expansión clonal y diferen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puesta efectora y mecanismos de ampl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9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84240"/>
            <a:ext cx="7848360" cy="67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22320"/>
            <a:ext cx="7993080" cy="68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465800" cy="62452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10552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SPUESTA HUM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imo- depen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809640"/>
            <a:ext cx="91440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209600"/>
            <a:ext cx="9144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cción efectora de inmunoglobuli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eutr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tivación del comple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pso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ormación de complej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528480"/>
            <a:ext cx="914400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ORES PRINCIP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073160"/>
            <a:ext cx="88930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476360"/>
            <a:ext cx="91440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3590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76320" y="0"/>
            <a:ext cx="539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669960"/>
            <a:ext cx="91440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ÉLULAS  ACCES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47640" y="1428840"/>
            <a:ext cx="84963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87280" y="54000"/>
            <a:ext cx="676944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751040"/>
            <a:ext cx="91440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8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¿Do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e             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desarro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spuest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nmu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52280"/>
            <a:ext cx="6372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58880"/>
            <a:ext cx="914400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13:01:12Z</dcterms:created>
  <dc:creator>ofiintilus</dc:creator>
  <dc:description/>
  <dc:language>en-US</dc:language>
  <cp:lastModifiedBy>ofiintilus</cp:lastModifiedBy>
  <dcterms:modified xsi:type="dcterms:W3CDTF">2004-08-26T16:53:24Z</dcterms:modified>
  <cp:revision>8</cp:revision>
  <dc:subject/>
  <dc:title>DINÁMICA DE LA RESPUESTA INMUNE</dc:title>
</cp:coreProperties>
</file>