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4.jpeg" ContentType="image/jpeg"/>
  <Override PartName="/ppt/media/image25.png" ContentType="image/png"/>
  <Override PartName="/ppt/media/image31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13.png" ContentType="image/png"/>
  <Override PartName="/ppt/media/image30.png" ContentType="image/png"/>
  <Override PartName="/ppt/media/image3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63ED-A7A7-4B74-BFA9-C0FD5E237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363A-3576-4FAF-B422-1831C53C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EFD2-F07F-460C-9769-218486F4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DC82-0619-45FA-8357-3D1D9D0E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ECE3-1219-4851-BC7C-1B62C213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B2CA-F360-40B7-A5E5-E75DD156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40A0-A89C-4FC5-AF81-0C4E9060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3352-26E5-4AA7-B732-B880CD43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BC37-A10C-40B4-88FC-8684D19E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3DB5-E82B-40A9-951C-9EF0A3DA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EA15-7E5B-4BB1-8BCB-2962EBAB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CCB5-FBB7-4C89-8C3F-26690600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73D2-65EE-44FE-B029-46BDABF7119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tapas de la respuesta inmune adaptativa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43588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conocimie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- directo por parte de linfocitos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- captación, procesamiento y present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por células presentadoras de antígeno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linfocitos 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tivació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expansión clonal y diferen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puesta efectora y mecanismos de ampl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9320"/>
            <a:ext cx="9144000" cy="69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84240"/>
            <a:ext cx="7848360" cy="67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22320"/>
            <a:ext cx="7993080" cy="68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465800" cy="62452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10552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SPUESTA HUM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imo- depen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809640"/>
            <a:ext cx="91440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209600"/>
            <a:ext cx="9144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cción efectora de inmunoglobuli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eutr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tivación del comple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pson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ormación de complej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528480"/>
            <a:ext cx="914400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TORES PRINCIP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073160"/>
            <a:ext cx="88930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476360"/>
            <a:ext cx="91440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3590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876320" y="0"/>
            <a:ext cx="5391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669960"/>
            <a:ext cx="91440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ÉLULAS  ACCESO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47640" y="1428840"/>
            <a:ext cx="84963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87280" y="54000"/>
            <a:ext cx="676944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751040"/>
            <a:ext cx="91440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8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¿Don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se             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desarro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spuest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nmu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52280"/>
            <a:ext cx="6372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58880"/>
            <a:ext cx="914400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13:01:12Z</dcterms:created>
  <dc:creator>ofiintilus</dc:creator>
  <dc:description/>
  <dc:language>en-US</dc:language>
  <cp:lastModifiedBy>ofiintilus</cp:lastModifiedBy>
  <dcterms:modified xsi:type="dcterms:W3CDTF">2004-08-26T16:53:24Z</dcterms:modified>
  <cp:revision>8</cp:revision>
  <dc:subject/>
  <dc:title>DINÁMICA DE LA RESPUESTA INMUNE</dc:title>
</cp:coreProperties>
</file>