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4.jpeg" ContentType="image/jpeg"/>
  <Override PartName="/ppt/media/image25.png" ContentType="image/png"/>
  <Override PartName="/ppt/media/image31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13.png" ContentType="image/png"/>
  <Override PartName="/ppt/media/image30.png" ContentType="image/png"/>
  <Override PartName="/ppt/media/image3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789-2162-4E64-9103-6E4DF9AB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96A-9D9A-4438-9E11-EBD01259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962-5B48-4DC9-921D-DD609799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AA6-B065-4DAA-A1BA-DF57D7A2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04C-A870-4E99-88DB-874ECE01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D40E-92F1-477F-B61C-7AA7670E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1BF-1C08-4B0D-AA3C-05B0AAFA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1ACA-B037-421E-8C94-57D5DC07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0DF-D482-4328-BC56-185715A7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766-34A6-4B9A-A2E3-BEC4DEA2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A87-5AF3-4700-94DB-E3A34E3D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913-BF99-4E78-8191-B5D95116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2045-E219-4C84-A2F7-5DE3753C01D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tapas de la respuesta inmune adaptativa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- directo por parte de linfocitos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- captación, procesamiento y present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por células presentadoras de antígen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linfocitos 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ació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expansión clonal y difere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uesta efectora y mecanismos de ampl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84240"/>
            <a:ext cx="7848360" cy="67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22320"/>
            <a:ext cx="7993080" cy="68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465800" cy="6245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1055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SPUESTA HUM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mo- depe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809640"/>
            <a:ext cx="9144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cción efectora de inmunoglobul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eu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ación del comple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pso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ormación de complej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528480"/>
            <a:ext cx="914400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ORES PRINCIP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073160"/>
            <a:ext cx="88930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476360"/>
            <a:ext cx="9144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3590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39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669960"/>
            <a:ext cx="91440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ÉLULAS  ACCES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7640" y="1428840"/>
            <a:ext cx="84963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87280" y="54000"/>
            <a:ext cx="676944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751040"/>
            <a:ext cx="91440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8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¿Do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e             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desarro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spuest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mu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52280"/>
            <a:ext cx="6372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3:01:12Z</dcterms:created>
  <dc:creator>ofiintilus</dc:creator>
  <dc:description/>
  <dc:language>en-US</dc:language>
  <cp:lastModifiedBy>ofiintilus</cp:lastModifiedBy>
  <dcterms:modified xsi:type="dcterms:W3CDTF">2004-08-26T16:53:24Z</dcterms:modified>
  <cp:revision>8</cp:revision>
  <dc:subject/>
  <dc:title>DINÁMICA DE LA RESPUESTA INMUNE</dc:title>
</cp:coreProperties>
</file>