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4.jpeg" ContentType="image/jpeg"/>
  <Override PartName="/ppt/media/image25.png" ContentType="image/png"/>
  <Override PartName="/ppt/media/image31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13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9E8-29D1-48DF-B883-EB3E8137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2DCC-D7E1-4513-99E5-7A7F019B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57B-E627-4AA3-8849-4966AE4E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282-E83E-4A15-8F14-C7F73336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E4FA-A2D9-44FF-B458-4C2682AA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C8A-D027-4AAA-AE83-8DF5E2D2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130-5435-4FD0-9D70-56AC3694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1AF-A444-46CE-9AAC-C97B8FCE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A89-E154-493D-AFEC-CAC946E2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94E-C154-4103-9460-47D2B497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AEAE-EB13-4E30-A31B-F79C9880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131-9A78-49BD-B3B6-82FC662B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066D-A3E1-4D6B-B696-EAA0262D16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tapas de la respuesta inmune adaptativa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 directo por parte de linfocitos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 captación, procesamiento y present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por células presentadoras de antígen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linfocitos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ació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expansión clonal y difere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uesta efectora y mecanismos de ampl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84240"/>
            <a:ext cx="7848360" cy="67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22320"/>
            <a:ext cx="799308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465800" cy="6245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1055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SPUESTA HUM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mo- 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cción efectora de inmunoglobul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eu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ación del comp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pso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ormación de complej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528480"/>
            <a:ext cx="914400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ORE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073160"/>
            <a:ext cx="88930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476360"/>
            <a:ext cx="9144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3590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669960"/>
            <a:ext cx="91440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ÉLULAS  ACCES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640" y="1428840"/>
            <a:ext cx="8496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7280" y="54000"/>
            <a:ext cx="676944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751040"/>
            <a:ext cx="91440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¿Do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e             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desarr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spuest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mu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52280"/>
            <a:ext cx="6372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3:01:12Z</dcterms:created>
  <dc:creator>ofiintilus</dc:creator>
  <dc:description/>
  <dc:language>en-US</dc:language>
  <cp:lastModifiedBy>ofiintilus</cp:lastModifiedBy>
  <dcterms:modified xsi:type="dcterms:W3CDTF">2004-08-26T16:53:24Z</dcterms:modified>
  <cp:revision>8</cp:revision>
  <dc:subject/>
  <dc:title>DINÁMICA DE LA RESPUESTA INMUNE</dc:title>
</cp:coreProperties>
</file>