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2D6-5CA4-46F8-BCDB-71AC5FC6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D3E-DDD6-4898-A936-B7DCDDB2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384-7946-422C-8A54-DA595E42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046-23C2-4547-B82A-4AEE35E3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C59-9F32-44F4-979A-95C93F41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11D-FDE6-4086-95CD-36CD58AC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1A1-9CE2-4B45-BC0E-79F3A4C8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622-CFB2-4A48-9D73-53D3EACC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AA8-DB2E-4DFA-85A1-26CDE12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972-1FA9-4ABC-BF83-535207B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78E-775B-4727-8B41-FDC822A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A9B-7BCF-4FFF-B95F-806C4291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0E56-CCE9-421C-BAF2-32DB621D7B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TODAS LAS CELULAS NUCLE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SON ALTAMENTE POLIMO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U FUNCION ES PRESENTAR ANTIGENOS A LOS LINFOCITOS T 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ALGUNOS TIP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TIENEN UN POLIMORFISMO LIM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E ASOCIAN DIFERENTES 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patencia, Nivel de Parasitemia y Mortalidad en Ratones infectados con 10.000  Trypomastigotes de las cepas Tulahuen y Clon Dm 28c de T.cruz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a                    Cepa de             Prepatencia              Máxima                    Mortalida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atón             parásito                 (Días)                  Parasitemia              100%(Días)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Sn                                Tulahuen                                5                                  3,2 x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.                                 13</a:t>
            </a:r>
            <a:r>
              <a:rPr b="1" lang="es-MX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10                                   3,9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                                Tulahuen                                4                                  2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  8                                  3,0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Sw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Tulahuen                   4                     2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8                     1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 4                      3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Tulahuen                   6                      2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G                                  Tulahuen                               4                                2,6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10                                  6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I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4                       3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9                       3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52:53Z</dcterms:created>
  <dc:creator>claudio zúñiga</dc:creator>
  <dc:description/>
  <dc:language>en-US</dc:language>
  <cp:lastModifiedBy>ofiintilus</cp:lastModifiedBy>
  <dcterms:modified xsi:type="dcterms:W3CDTF">2004-08-20T13:56:28Z</dcterms:modified>
  <cp:revision>12</cp:revision>
  <dc:subject/>
  <dc:title>Presentación de PowerPoint</dc:title>
</cp:coreProperties>
</file>