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097-99ED-41BE-B3CB-3458EA6D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F35-F8F7-410C-8437-109F0CD8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B68-1C5D-470F-BF4E-076FCAFE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5AE-13AA-4212-BAC8-3F966AF5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DA3-AA4F-4BC7-BCBF-C3498BD4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306-EB52-4039-AAE9-46453792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965-64C7-4658-B029-0AF630BC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C00-65C4-46C9-82A9-EA44D8CB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89A-A226-459B-A44B-BCB1AB9B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A89-3119-4A66-8980-AC9B3DAC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6E5-4DCF-4350-913A-30C54CC1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82F-5691-4FFF-ABC4-3D73280E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F228-5B13-44ED-AF80-93A0AD04B0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MHC CLASE 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E EXPRESAN EN TODAS LAS CELULAS NUCLE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SON ALTAMENTE POLIMO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SU FUNCION ES PRESENTAR ANTIGENOS A LOS LINFOCITOS T 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MHC CLASE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E EXPRESAN EN ALGUNOS TIPOS CEL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TIENEN UN POLIMORFISMO LIM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SE ASOCIAN DIFERENTES FUN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patencia, Nivel de Parasitemia y Mortalidad en Ratones infectados con 10.000  Trypomastigotes de las cepas Tulahuen y Clon Dm 28c de T.cruz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632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pa                    Cepa de             Prepatencia              Máxima                    Mortalida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atón             parásito                 (Días)                  Parasitemia              100%(Días)</a:t>
            </a:r>
            <a:r>
              <a:rPr b="1" lang="es-MX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Sn                                Tulahuen                                5                                  3,2 x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.                                 13</a:t>
            </a:r>
            <a:r>
              <a:rPr b="1" lang="es-MX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 10                                   3,9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2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                                Tulahuen                                4                                  2,8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   8                                  3,0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Sw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Tulahuen                   4                     2,1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8                     1,5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ulahuen                   4                      3,2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10                      3,7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Tulahuen                   6                      2,2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10                       3,7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G                                  Tulahuen                               4                                2,6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 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10                                  6,8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I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ulahuen                  4                       3,5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9                       3,1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7:52:53Z</dcterms:created>
  <dc:creator>claudio zúñiga</dc:creator>
  <dc:description/>
  <dc:language>en-US</dc:language>
  <cp:lastModifiedBy>ofiintilus</cp:lastModifiedBy>
  <dcterms:modified xsi:type="dcterms:W3CDTF">2004-08-20T13:56:28Z</dcterms:modified>
  <cp:revision>12</cp:revision>
  <dc:subject/>
  <dc:title>Presentación de PowerPoint</dc:title>
</cp:coreProperties>
</file>