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4EE-3D77-4E3D-8182-0E7A5064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5BA-BC11-4992-8AAF-A82CC721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5A4-2C94-4C5C-8BB1-7EA77914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4CC-9EC9-4F13-B99A-B63C82CC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CE5-7F24-4BC2-AE2C-094DE1AC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C0A-4973-46F6-9936-90588755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6A5-4AB3-4640-84EA-8B0F3D89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11B-53AB-4CA4-B46A-C7EDD312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626-A3D0-49AC-B838-A280D3B1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5CB-D214-4DEE-A1F5-CAAF3C33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9DF-7EA4-4F3B-88AA-CE7C2222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3D4-6792-44D3-9D3E-DE9D2126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E2E1-9880-45B3-A17F-D0AE973762E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MHC CLASE 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E EXPRESAN EN TODAS LAS CELULAS NUCLE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SON ALTAMENTE POLIMO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SU FUNCION ES PRESENTAR ANTIGENOS A LOS LINFOCITOS T 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MHC CLASE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E EXPRESAN EN ALGUNOS TIPOS CEL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TIENEN UN POLIMORFISMO LIM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SE ASOCIAN DIFERENTES FUN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patencia, Nivel de Parasitemia y Mortalidad en Ratones infectados con 10.000  Trypomastigotes de las cepas Tulahuen y Clon Dm 28c de T.cruz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632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pa                    Cepa de             Prepatencia              Máxima                    Mortalida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atón             parásito                 (Días)                  Parasitemia              100%(Días)</a:t>
            </a:r>
            <a:r>
              <a:rPr b="1" lang="es-MX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Sn                                Tulahuen                                5                                  3,2 x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.                                 13</a:t>
            </a:r>
            <a:r>
              <a:rPr b="1" lang="es-MX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 10                                   3,9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2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                                Tulahuen                                4                                  2,8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   8                                  3,0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Sw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Tulahuen                   4                     2,1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8                     1,5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ulahuen                   4                      3,2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10                      3,7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Tulahuen                   6                      2,2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10                       3,7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G                                  Tulahuen                               4                                2,6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 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10                                  6,8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I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ulahuen                  4                       3,5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9                       3,1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7:52:53Z</dcterms:created>
  <dc:creator>claudio zúñiga</dc:creator>
  <dc:description/>
  <dc:language>en-US</dc:language>
  <cp:lastModifiedBy>ofiintilus</cp:lastModifiedBy>
  <dcterms:modified xsi:type="dcterms:W3CDTF">2004-08-20T13:56:28Z</dcterms:modified>
  <cp:revision>12</cp:revision>
  <dc:subject/>
  <dc:title>Presentación de PowerPoint</dc:title>
</cp:coreProperties>
</file>