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3EF-45BE-4565-8647-A823307D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60E-5C3B-48CB-BDE5-7BFDBC58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727-03E5-4AE0-BEDC-7FF2C91C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7E3-BFEB-41DD-8FA3-6A7ED3EB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51B-0EC1-4D29-8AB3-B668D7B4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BC3-1DAA-4478-A5CA-13E3E655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A8C-E8A2-45E8-A17C-6EADCA3E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3D9-8238-46BC-A788-0E530C2E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46F-C71E-4F53-93B6-A31041F7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DCD4-3215-44FC-9BEC-4DDDF182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AD1-6D65-4A76-B4A2-BB858785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1D3-1155-4B7A-AD00-6811BC0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3FB5-FAFE-4F14-ACD9-046344CAE98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TODAS LAS CELULAS NUCLE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SON ALTAMENTE POLIMO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U FUNCION ES PRESENTAR ANTIGENOS A LOS LINFOCITOS T 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ALGUNOS TIPO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TIENEN UN POLIMORFISMO LIM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E ASOCIAN DIFERENTES 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patencia, Nivel de Parasitemia y Mortalidad en Ratones infectados con 10.000  Trypomastigotes de las cepas Tulahuen y Clon Dm 28c de T.cruz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32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pa                    Cepa de             Prepatencia              Máxima                    Mortalida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atón             parásito                 (Días)                  Parasitemia              100%(Días)</a:t>
            </a: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Sn                                Tulahuen                                5                                  3,2 x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.                                 13</a:t>
            </a:r>
            <a:r>
              <a:rPr b="1" lang="es-MX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10                                   3,9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                                Tulahuen                                4                                  2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  8                                  3,0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Sw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Tulahuen                   4                     2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8                     1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 4                      3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Tulahuen                   6                      2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G                                  Tulahuen                               4                                2,6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10                                  6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I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4                       3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9                       3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7:52:53Z</dcterms:created>
  <dc:creator>claudio zúñiga</dc:creator>
  <dc:description/>
  <dc:language>en-US</dc:language>
  <cp:lastModifiedBy>ofiintilus</cp:lastModifiedBy>
  <dcterms:modified xsi:type="dcterms:W3CDTF">2004-08-20T13:56:28Z</dcterms:modified>
  <cp:revision>12</cp:revision>
  <dc:subject/>
  <dc:title>Presentación de PowerPoint</dc:title>
</cp:coreProperties>
</file>