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EA7-63EA-44BA-A0CF-B8D5F4A4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3A3-B9F2-4D76-85F1-ED8E6261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9934-801A-4B22-B916-AE577D9A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5C4-D475-4121-B8B7-0E851876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CA8-1D68-4912-B098-7644602E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02B-34EE-4C25-BB0C-A3C4B29B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0EE-EA65-4280-8684-798D1B9F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FC1-F4EC-4394-8FB9-6F2CBADE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494-68A8-43A7-8B4E-C5499CFB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38F-12D7-4DCF-99B9-4C2F3176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D12-7410-4275-8EC0-99156B1F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B3B-F653-47D5-BDA6-216EAD28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C7DA-6B0F-4CA4-9E27-2CB4B92C826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MHC CLASE 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 SE EXPRESAN EN TODAS LAS CELULAS NUCLE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SON ALTAMENTE POLIMOR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) SU FUNCION ES PRESENTAR ANTIGENOS A LOS LINFOCITOS T C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MHC CLASE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) SE EXPRESAN EN ALGUNOS TIPOS CEL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) TIENEN UN POLIMORFISMO LIMI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) SE ASOCIAN DIFERENTES FUN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patencia, Nivel de Parasitemia y Mortalidad en Ratones infectados con 10.000  Trypomastigotes de las cepas Tulahuen y Clon Dm 28c de T.cruz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5120" y="1447560"/>
            <a:ext cx="632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pa                    Cepa de             Prepatencia              Máxima                    Mortalida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Ratón             parásito                 (Días)                  Parasitemia              100%(Días)</a:t>
            </a:r>
            <a:r>
              <a:rPr b="1" lang="es-MX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Sn                                Tulahuen                                5                                  3,2 x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.                                 13</a:t>
            </a:r>
            <a:r>
              <a:rPr b="1" lang="es-MX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 10                                   3,9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2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                                Tulahuen                                4                                  2,8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   8                                  3,0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Sw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Tulahuen                   4                     2,1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8                     1,5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Tulahuen                   4                      3,2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10                      3,7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Tulahuen                   6                      2,2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10                       3,7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G                                  Tulahuen                               4                                2,6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  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            10                                  6,8 x 10 </a:t>
            </a:r>
            <a:r>
              <a:rPr b="0" lang="es-MX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               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I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Tulahuen                  4                       3,5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 Dm                 9                       3,1 x 10 </a:t>
            </a:r>
            <a:r>
              <a:rPr b="0" lang="es-MX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ml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-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7:52:53Z</dcterms:created>
  <dc:creator>claudio zúñiga</dc:creator>
  <dc:description/>
  <dc:language>en-US</dc:language>
  <cp:lastModifiedBy>ofiintilus</cp:lastModifiedBy>
  <dcterms:modified xsi:type="dcterms:W3CDTF">2004-08-20T13:56:28Z</dcterms:modified>
  <cp:revision>12</cp:revision>
  <dc:subject/>
  <dc:title>Presentación de PowerPoint</dc:title>
</cp:coreProperties>
</file>