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2291-187E-4A59-B5CC-60491B025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1022-3ACB-4361-8754-24B3CA826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1D73-D48C-488D-95D0-C96BD20DB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4B14-090A-493A-A7E7-4137FCDB5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3E48-06A9-4AB8-9AFB-06F02A90E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8615-8737-4CB2-9F1C-8E70CC640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3F15-8EF1-465C-8595-3E04FEEBC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D58E-7FB9-457B-BAE1-61E82D4C4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6CE8-CB78-40FB-8266-CC8450CED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BAB1-1CBC-40BA-8F83-95C72187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B3AA-7799-4AD4-9601-CA432F4D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4615-31E5-4307-884F-C90951F4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E55E8-729F-49EA-A0CF-9C957633A82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6104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LECULAS MHC CLASE 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) SE EXPRESAN EN TODAS LAS CELULAS NUCLEAD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) SON ALTAMENTE POLIMOR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) SU FUNCION ES PRESENTAR ANTIGENOS A LOS LINFOCITOS T CD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LECULAS MHC CLASE 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) SE EXPRESAN EN ALGUNOS TIPOS CELU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) TIENEN UN POLIMORFISMO LIMI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) SE ASOCIAN DIFERENTES FUN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epatencia, Nivel de Parasitemia y Mortalidad en Ratones infectados con 10.000  Trypomastigotes de las cepas Tulahuen y Clon Dm 28c de T.cruzi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05120" y="1447560"/>
            <a:ext cx="6324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pa                    Cepa de             Prepatencia              Máxima                    Mortalidad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Ratón             parásito                 (Días)                  Parasitemia              100%(Días)</a:t>
            </a:r>
            <a:r>
              <a:rPr b="1" lang="es-MX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------------------------------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/Sn                                Tulahuen                                5                                  3,2 x10 </a:t>
            </a:r>
            <a:r>
              <a:rPr b="0" lang="es-MX" sz="1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ml.                                 13</a:t>
            </a:r>
            <a:r>
              <a:rPr b="1" lang="es-MX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n Dm                              10                                   3,9 x 10 </a:t>
            </a:r>
            <a:r>
              <a:rPr b="0" lang="es-MX" sz="1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ml                                 26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                                Tulahuen                                4                                  2,8 x 10 </a:t>
            </a:r>
            <a:r>
              <a:rPr b="0" lang="es-MX" sz="1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ml                                 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n Dm                                8                                  3,0 x 10 </a:t>
            </a:r>
            <a:r>
              <a:rPr b="0" lang="es-MX" sz="1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ml                                 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Sw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Tulahuen                   4                     2,1 x 10 </a:t>
            </a:r>
            <a:r>
              <a:rPr b="0" lang="es-MX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ml  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n Dm                   8                     1,5 x 10 </a:t>
            </a:r>
            <a:r>
              <a:rPr b="0" lang="es-MX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ml   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10 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Tulahuen                   4                      3,2 x 10 </a:t>
            </a:r>
            <a:r>
              <a:rPr b="0" lang="es-MX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ml  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n Dm                10                      3,7 x 10 </a:t>
            </a:r>
            <a:r>
              <a:rPr b="0" lang="es-MX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ml  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P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Tulahuen                   6                      2,2 x 10 </a:t>
            </a:r>
            <a:r>
              <a:rPr b="0" lang="es-MX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ml  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n Dm                10                       3,7 x 10 </a:t>
            </a:r>
            <a:r>
              <a:rPr b="0" lang="es-MX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ml 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G                                  Tulahuen                               4                                2,6 x 10 </a:t>
            </a:r>
            <a:r>
              <a:rPr b="0" lang="es-MX" sz="1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ml                                   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n Dm                             10                                  6,8 x 10 </a:t>
            </a:r>
            <a:r>
              <a:rPr b="0" lang="es-MX" sz="1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ml                                  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I 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Tulahuen                  4                       3,5 x 10 </a:t>
            </a:r>
            <a:r>
              <a:rPr b="0" lang="es-MX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ml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n Dm                 9                       3,1 x 10 </a:t>
            </a:r>
            <a:r>
              <a:rPr b="0" lang="es-MX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ml</a:t>
            </a: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-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4T17:52:53Z</dcterms:created>
  <dc:creator>claudio zúñiga</dc:creator>
  <dc:description/>
  <dc:language>en-US</dc:language>
  <cp:lastModifiedBy>ofiintilus</cp:lastModifiedBy>
  <dcterms:modified xsi:type="dcterms:W3CDTF">2004-08-20T13:56:28Z</dcterms:modified>
  <cp:revision>12</cp:revision>
  <dc:subject/>
  <dc:title>Presentación de PowerPoint</dc:title>
</cp:coreProperties>
</file>