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63D-EBE2-46CE-9A30-D57F9467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BD3-F8DC-47DD-8903-6253110D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D0E-6028-466D-B043-987A7613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421-713A-4E03-8C9F-7455DFD5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E9D4-44FA-4FE1-9E9A-FEE70DA2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15BF-3674-4793-BCAB-837AA852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DECC-9E45-4273-B061-3EA77384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5011-3FB1-4990-9697-11650878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0191-C0A2-49BB-9485-4244A34B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49B7-CCF4-4420-9B64-F24BBEDD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12FA-9C0F-40D4-BCBF-FF09EB85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82C-183A-476B-B19D-44E832E9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A2D0-4753-41BD-8FC5-0F193E65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EFBB-1BE5-4211-B498-FA41A30C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98B5-BDA3-487D-AD77-5D52B5EA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9BD0-C6D9-4623-B01F-FEB6016E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88C1-DF67-4CEC-A358-834182C7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9F2-BEA3-4106-B476-AE2C52D4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A9B-4554-47D1-85FA-B1DB21C7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A72-D766-48D4-A67E-FB813E9F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F8E-5AC5-495A-9E5F-1DCAB64C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D13-D3D3-490D-8379-05DF8DCC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681-E3FD-48D4-8D3D-7A682100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7F9-90BB-4D08-9CB5-6D00FD84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0971-DB8C-4E54-9635-9B814706CF9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CF1E-C5EF-440B-A195-2EA51F1CEDA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19320" y="419040"/>
            <a:ext cx="7772400" cy="64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                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NMUNOGENICIDA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ARACTER EXTRAÑ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TAMAÑ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ATURALEZA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OMPLEJIDAD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OSI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VIA DE ADMINISTRAC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OCALIZACION DETERMINANTES ANTIGENIC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DYUVAN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fotografía6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19320" y="41904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Impact"/>
              </a:rPr>
              <a:t>                           </a:t>
            </a:r>
            <a:r>
              <a:rPr b="0" lang="es-ES_tradnl" sz="3600" spc="-1" strike="noStrike">
                <a:solidFill>
                  <a:srgbClr val="ffff66"/>
                </a:solidFill>
                <a:latin typeface="Impact"/>
              </a:rPr>
              <a:t>NATURALEZA QUIMICA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PROTEINAS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 : MEJORES INMUNOGEN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HIDRATOS DE CARBONO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Y LIPID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INTERMEDIOS. SE AUMENTA SU CAPACIDAD INMUNOGENICA COMO GLICOPROTEINAS O LIPOPROTEINA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ACIDOS NUCLEICOS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: MALOS INMUNOGEN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RNA DE DOBLE HEBRA ES UN PAMP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Impact"/>
              </a:rPr>
              <a:t>                       </a:t>
            </a:r>
            <a:r>
              <a:rPr b="0" lang="es-ES_tradnl" sz="3200" spc="-1" strike="noStrike">
                <a:solidFill>
                  <a:srgbClr val="ffff66"/>
                </a:solidFill>
                <a:latin typeface="Impact"/>
              </a:rPr>
              <a:t>COMPLEJIDAD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OMOPOLIMERO :  NO INMUNO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ISINA - LISINA - LISINA - LISINA ...........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ETEROPOLIMERO : INMUNO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ISINA - </a:t>
            </a: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LANINA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- LISINA - </a:t>
            </a:r>
            <a:r>
              <a:rPr b="0" lang="es-ES_tradnl" sz="2800" spc="-1" strike="noStrike">
                <a:solidFill>
                  <a:srgbClr val="ccffff"/>
                </a:solidFill>
                <a:latin typeface="Impact"/>
              </a:rPr>
              <a:t>METIONINA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- LISINA ..........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LATINA NO ES INMUNOGENICA A PESAR DE SER PROTEINA Y TENER UN ALTO PESO MOLECULA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LATINA + 2 %  DE TIROSINA ES INMUNOGENICA CON PRODUCCION DE ANTICUERPOS ANTI-GELATIN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DOSIS</a:t>
            </a:r>
            <a:r>
              <a:rPr b="0" lang="es-ES_tradnl" sz="28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: DOSIS OPTIM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VIA DE INOCULACION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DEPENDE DEL ANTIGEN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      </a:t>
            </a: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LOCALIZACION DE DETERMINANTES ANTIGENICO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OS BUENOS INMUNOGENOS , EN GENERAL SON DE PESO MOLECULAR ALTO PERO UNA MOLECULA DE ANTICUERPO SOLO RECONOCE UNA PEQUEÑA PARTE , EPITOPO O DETERMINANTE ANTI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BITUALMENTE LAS REGIONES MAS EXPUESTAS DE UN ANTIGENO COMPLEJO SERAN INMUNOGENICAS Y POSTERIORMENTE SERAN LAS ZONAS RECONOCIDAS POR LOS ANTICUERP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S HIDROFOBICOS E HIDROFIL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 - PARATOPO.  ZONA INMUNODOMINANT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S LINEALES Y CONFORMACIONAL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docu00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ADJUVANTES </a:t>
            </a:r>
            <a:r>
              <a:rPr b="1" lang="es-ES_tradnl" sz="28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AVORECEN INFLAMAC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CONSTITUCION GENETICA</a:t>
            </a:r>
            <a:r>
              <a:rPr b="1" lang="es-ES_tradnl" sz="2800" spc="-1" strike="noStrike">
                <a:solidFill>
                  <a:srgbClr val="ffffff"/>
                </a:solidFill>
                <a:latin typeface="Impact"/>
              </a:rPr>
              <a:t> : 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NES MHC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              </a:t>
            </a:r>
            <a:r>
              <a:rPr b="0" lang="es-ES_tradnl" sz="2800" spc="-1" strike="noStrike" u="sng">
                <a:solidFill>
                  <a:srgbClr val="99ffcc"/>
                </a:solidFill>
                <a:uFillTx/>
                <a:latin typeface="Impact"/>
              </a:rPr>
              <a:t>RESPUESTA HUMORAL DE ANTICUERP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NTIGENOS T DEPENDIENTE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 ANTIGENOS PROTE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SE NECESITA LA COLABORACION LT - LB . SE GENERA MEMORIA INMUNOLOGICA ( LT y LB ). RESPUESTA SECUNDARIA PUEDE SER MEDIADA POR IgG, IgA o Ig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NTIGENOS T INDEPENDIENTE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 HIDRATOS DE CARBONO , LIPIDOS Y OTROS. NO SE NECESITA LA COLABORACION LT - LB. NO GENERA MEMORIA  INMUNOLOGICA. MEDIADA SOLO POR Ig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PTENOS Y  “ EFECTO CARRIER “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docu00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6:43:30Z</dcterms:created>
  <dc:creator>Muestras</dc:creator>
  <dc:description/>
  <dc:language>en-US</dc:language>
  <cp:lastModifiedBy>ofiintilus</cp:lastModifiedBy>
  <dcterms:modified xsi:type="dcterms:W3CDTF">2004-08-20T11:58:18Z</dcterms:modified>
  <cp:revision>19</cp:revision>
  <dc:subject/>
  <dc:title>Sin título de diapositiva</dc:title>
</cp:coreProperties>
</file>