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385-8AB4-4D24-A6E1-2C17457B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988-F95C-40B9-9301-ABF8BB2E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0EB-DE4B-457A-B30F-D01F349E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9AC-4E21-4E05-8EF6-9609EC41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4A4B-4E79-44EC-9406-DC111B7D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DBC2-20BF-40B7-832D-EC989513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83ED-C436-43F2-ADC8-39F2B235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9649-7C7C-4621-9004-3A0D7C23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CD00-7564-4CB0-8377-8F6B0133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914F-3BE7-4397-9E85-55B47189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23B0-8EDC-4B69-89E8-AA837B1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281-9B8C-4366-AB17-EB3D4E73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5B26-C54B-4903-A5B0-9307BE54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C5CD-7C02-4EA9-B4DE-65865F75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EC61-C8C7-497E-83BB-7FD9CC01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99D6-4F20-43D3-9EF1-7E33EEE5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654B-FB04-41BD-84FD-2B504D19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093-9FB8-420A-AF3B-B583A336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C06-3BA7-495A-880A-3D6B1D6B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D04-0BA2-4AF1-AC35-8BB2E3BD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89D-B781-41C4-BA7B-00A09ECB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7E1-8D3E-498E-9B53-EB2900BF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B65-119C-487C-A2A4-C4B681E5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563-3C13-49B2-ADB2-62FA6D92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4364-AECC-4386-B1A4-46DC47C848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ECB9-6ABF-49DD-8D37-8F338259C4A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19320" y="419040"/>
            <a:ext cx="7772400" cy="64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          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MUNOGENICIDA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RACTER EXTR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TAM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ATURALEZA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OSI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VIA DE ADMINISTRAC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OCALIZACION DETERMINANTES ANTIGENIC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DYUVAN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otografía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19320" y="41904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                          </a:t>
            </a:r>
            <a:r>
              <a:rPr b="0" lang="es-ES_tradnl" sz="3600" spc="-1" strike="noStrike">
                <a:solidFill>
                  <a:srgbClr val="ffff66"/>
                </a:solidFill>
                <a:latin typeface="Impact"/>
              </a:rPr>
              <a:t>NATURALEZA QUIMIC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PROTEINA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: MEJORE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HIDRATOS DE CARBONO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Y LIPID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INTERMEDIOS. SE AUMENTA SU CAPACIDAD INMUNOGENICA COMO GLICOPROTEINAS O LIPOPROTEINA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ACIDOS NUCLEICO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: MALO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RNA DE DOBLE HEBRA ES UN PAMP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OMOPOLIMERO :  NO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LISINA - LISINA - LISINA .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ETEROPOLIMERO :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LANINA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- LISINA - </a:t>
            </a:r>
            <a:r>
              <a:rPr b="0" lang="es-ES_tradnl" sz="2800" spc="-1" strike="noStrike">
                <a:solidFill>
                  <a:srgbClr val="ccffff"/>
                </a:solidFill>
                <a:latin typeface="Impact"/>
              </a:rPr>
              <a:t>METIONINA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- LISINA 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NO ES INMUNOGENICA A PESAR DE SER PROTEINA Y TENER UN ALTO PESO MOLECULA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+ 2 %  DE TIROSINA ES INMUNOGENICA CON PRODUCCION DE ANTICUERPOS ANTI-GELATIN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DOSIS</a:t>
            </a: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DOSIS OPTIM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VIA DE INOCULACION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DEPENDE DEL ANTIGEN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      </a:t>
            </a: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LOCALIZACION DE DETERMINANTES ANTIGENICO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OS BUENOS INMUNOGENOS , EN GENERAL SON DE PESO MOLECULAR ALTO PERO UNA MOLECULA DE ANTICUERPO SOLO RECONOCE UNA PEQUEÑA PARTE , EPITOPO O DETERMINANTE ANTI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BITUALMENTE LAS REGIONES MAS EXPUESTAS DE UN ANTIGENO COMPLEJO SERAN INMUNOGENICAS Y POSTERIORMENTE SERAN LAS ZONAS RECONOCIDAS POR LOS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HIDROFOBICOS E HIDROFIL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 - PARATOPO.  ZONA INMUNODOMINANT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LINEALES Y CONFORMACIONAL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ocu00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ADJUVANTES 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AVORECEN INFLAMAC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CONSTITUCION GENETICA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 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NES MHC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              </a:t>
            </a:r>
            <a:r>
              <a:rPr b="0" lang="es-ES_tradnl" sz="2800" spc="-1" strike="noStrike" u="sng">
                <a:solidFill>
                  <a:srgbClr val="99ffcc"/>
                </a:solidFill>
                <a:uFillTx/>
                <a:latin typeface="Impact"/>
              </a:rPr>
              <a:t>RESPUESTA HUMORAL DE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ANTIGENOS PROTE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SE NECESITA LA COLABORACION LT - LB . SE GENERA MEMORIA INMUNOLOGICA ( LT y LB ). RESPUESTA SECUNDARIA PUEDE SER MEDIADA POR IgG, IgA o I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IN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HIDRATOS DE CARBONO , LIPIDOS Y OTROS. NO SE NECESITA LA COLABORACION LT - LB. NO GENERA MEMORIA  INMUNOLOGICA. MEDIADA SOLO POR Ig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PTENOS Y  “ EFECTO CARRIER “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docu0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6:43:30Z</dcterms:created>
  <dc:creator>Muestras</dc:creator>
  <dc:description/>
  <dc:language>en-US</dc:language>
  <cp:lastModifiedBy>ofiintilus</cp:lastModifiedBy>
  <dcterms:modified xsi:type="dcterms:W3CDTF">2004-08-20T11:58:18Z</dcterms:modified>
  <cp:revision>19</cp:revision>
  <dc:subject/>
  <dc:title>Sin título de diapositiva</dc:title>
</cp:coreProperties>
</file>