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wmf" ContentType="image/x-wmf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32.png" ContentType="image/png"/>
  <Override PartName="/ppt/media/image1.jpeg" ContentType="image/jpeg"/>
  <Override PartName="/ppt/media/image33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A23-CAC5-4685-8FB9-669D3CC1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FF0-C781-46F4-BA46-5F93E3F3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FC0-1D0E-4472-BCCC-B79723FC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BAA-6105-4179-AB72-8F0BEE61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29F-3C5B-4C63-85E1-7D962D9C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C9C-E789-4CA5-A90D-BA746F78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257-C09D-4996-BE90-11FA7F9E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E4D-BFDF-482B-B139-9673D5A8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BB9-A520-4CDB-B0AB-E4D23B60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811-34AD-4764-83BE-D91F09B6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2F6-91C5-4A49-83FD-BFA9A467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9A1-283F-4859-AA3E-E75965BC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0FA3-77FA-4251-B0A2-FA5750093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25880" y="457200"/>
            <a:ext cx="109080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0" y="3124080"/>
            <a:ext cx="655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SUFICIENCIA RE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R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Dr. Alejandro Pache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1680" y="1604880"/>
            <a:ext cx="80010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3800" y="281160"/>
            <a:ext cx="809640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INSUFICIENCIA RENAL CR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CADA PACIENTE QUE REQUIERE DIALISI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-30 PACIENTES CON ALGUN GRADO DE ALT.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RTALIDAD EN IRC. ES 10-20 VECES MAYOR QU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BLACION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ABETES E HIPERTENSION SON LAS CAUSAS M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UNES DE IRC.Y SE ASOCIAN A DAÑO  C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INCIPAL CAUSA DE MUERTE EN DIALISIS CR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ORIGEN CARDIOVAS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3800" y="333360"/>
            <a:ext cx="80964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25600" y="16002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TIOLOG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680" y="719280"/>
            <a:ext cx="800100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EMODIALISIS CRONIC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EFROPATIA BASAL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7371 PACIENTES (AGOSTO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ABETE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ABET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FROESCLE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MN.CRO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ROPATIA OB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F.POLIQU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5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4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1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0,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4,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,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5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ACTORES DE PROGRESION DE INSUFICIENCIA RENAL CR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ISTENCIA DE ENFERMEDAD BA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TEINURIA PER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GLI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ETA HIPERPROTE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LIPID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BAQU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FOSFATEM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91000" y="1981080"/>
            <a:ext cx="37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CIÓN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ASIF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CTORES REVERSIBLES A MENUDO OLVI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DEPLECION DE 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OBSTRUCCION DE VIA UR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USO RECIENTE DE NEFROTOX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INF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PIENSE EN ELLOS FRENTE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DETERIORO BRUSCO Y 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EXPLICACIÓN DE FUNCIÓN RE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00080"/>
            <a:ext cx="76197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27920" y="1905120"/>
            <a:ext cx="40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SIOPATOLOG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5800" y="512640"/>
            <a:ext cx="7772400" cy="5830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0" y="35812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342900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478400">
            <a:off x="5943240" y="2629080"/>
            <a:ext cx="196920" cy="1600200"/>
          </a:xfrm>
          <a:prstGeom prst="downArrow">
            <a:avLst>
              <a:gd name="adj1" fmla="val 50000"/>
              <a:gd name="adj2" fmla="val 203154"/>
            </a:avLst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5800" y="512640"/>
            <a:ext cx="7772400" cy="583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0" y="35812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342900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478400">
            <a:off x="5943240" y="2629080"/>
            <a:ext cx="196920" cy="1600200"/>
          </a:xfrm>
          <a:prstGeom prst="downArrow">
            <a:avLst>
              <a:gd name="adj1" fmla="val 50000"/>
              <a:gd name="adj2" fmla="val 203154"/>
            </a:avLst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9667800">
            <a:off x="304920" y="2057040"/>
            <a:ext cx="1495440" cy="3186000"/>
          </a:xfrm>
          <a:custGeom>
            <a:avLst/>
            <a:gdLst>
              <a:gd name="textAreaLeft" fmla="*/ 200160 w 1495440"/>
              <a:gd name="textAreaRight" fmla="*/ 1295280 w 1495440"/>
              <a:gd name="textAreaTop" fmla="*/ 633600 h 3186000"/>
              <a:gd name="textAreaBottom" fmla="*/ 2233800 h 31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93" stAng="-5400000" swAng="5400000"/>
                <a:lnTo>
                  <a:pt x="21600" y="10847"/>
                </a:lnTo>
                <a:arcTo wR="21600" hR="8593" stAng="0" swAng="2389138"/>
                <a:lnTo>
                  <a:pt x="9302" y="20762"/>
                </a:lnTo>
                <a:lnTo>
                  <a:pt x="0" y="18313"/>
                </a:lnTo>
                <a:lnTo>
                  <a:pt x="9302" y="14188"/>
                </a:lnTo>
                <a:lnTo>
                  <a:pt x="9302" y="16348"/>
                </a:lnTo>
                <a:arcTo wR="21600" hR="8593" stAng="2389138" swAng="-2208375"/>
                <a:lnTo>
                  <a:pt x="21413" y="9720"/>
                </a:lnTo>
                <a:arcTo wR="21600" hR="8593" stAng="-180764" swAng="-5219236"/>
                <a:close/>
              </a:path>
              <a:path fill="darkenLess" w="21600" h="21600">
                <a:moveTo>
                  <a:pt x="0" y="0"/>
                </a:moveTo>
                <a:arcTo wR="21600" hR="8593" stAng="-5400000" swAng="5400000"/>
                <a:lnTo>
                  <a:pt x="21600" y="10847"/>
                </a:lnTo>
                <a:arcTo wR="21600" hR="8593" stAng="0" swAng="-180764"/>
                <a:lnTo>
                  <a:pt x="21413" y="9720"/>
                </a:lnTo>
                <a:arcTo wR="21600" hR="8593" stAng="-180764" swAng="-5219236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62712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627120"/>
            <a:ext cx="75438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662040"/>
            <a:ext cx="76197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714240"/>
            <a:ext cx="7619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INSUFICIENCIA  RENAL CRO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AÑO RENAL ANATOMO-HISTOLOGIC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 FILTRACION GLOMERULAR MEN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60/ML/MIN. POR MAS DE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QI AM J.KIDNEY DIS;:2002;39 (SUPPL1) S1-2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728640"/>
            <a:ext cx="7619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70527"/>
          <a:stretch/>
        </p:blipFill>
        <p:spPr>
          <a:xfrm>
            <a:off x="1719360" y="1066680"/>
            <a:ext cx="5705280" cy="2667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14680" y="37339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33280" y="1981080"/>
            <a:ext cx="30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MIOLOG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905120" y="0"/>
          <a:ext cx="569592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0"/>
                    <a:ext cx="569592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52280" y="1295280"/>
          <a:ext cx="8982360" cy="33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982360" cy="33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96800" y="1981080"/>
            <a:ext cx="45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-MORBIL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333440"/>
            <a:ext cx="7619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38400" y="61920"/>
            <a:ext cx="66672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18080" y="198108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RENAL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- IDENTIFIQUE FACTORES DE RIESGO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PECIAL DIABETES E HIPER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- EFECTUE AL MENO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ATININEMIA / ORINA COMPLETA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TOMOGRAFIA RE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CROALBUMINURIA 24 HRS (DIABET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-  BUSQUE LOS FACTORES INICI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- BUSQUE FACTORES REVER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REEVALUE FUNCION DESPUES DE ELIMIN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FUNCIONAL COMEN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RIVE AL NEFRÓL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 CREATININA NO MAY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,3mg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CROALBUMINURIA POS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 PACIENTES DIABE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AMEN DE ORINA A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604000">
            <a:off x="6198120" y="1726200"/>
            <a:ext cx="814680" cy="866880"/>
          </a:xfrm>
          <a:custGeom>
            <a:avLst/>
            <a:gdLst>
              <a:gd name="textAreaLeft" fmla="*/ 0 w 814680"/>
              <a:gd name="textAreaRight" fmla="*/ 815040 w 8146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EN IRC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- CONTROL DE PRESION ARTER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NOR DE130/85 EN TODOS LOS PA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NOR DE 125/75 CON PROTEINURIA DE 1 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- CONTROL GLICEMICO (HBA1C MENOR DE 7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-USO PREFERENTE DE IECA O BLOQUEAD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T.EN ESPECIAL EN NEFROP. DIABE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-USO DE IECA EN DIABETICOS NORMOTEN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CROALBUMINURICOS (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EN I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5- RESTRICCION PROTEICA MODER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0.6-0.7 gr/k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- RESTRICCION MODERADA DE FOSF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- USO DE QUELANTES DE FOSF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8- EVITE DESNUTR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EN I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32280" y="423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8360" y="2328840"/>
            <a:ext cx="592128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9- PROHIBA USO DE AINE Y 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- USO DE ESTATINAS PARA CONTROL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IPERLIPID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1- CONTROL DE ACIDOSIS (HCO3 &gt; 22 m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EPARE AL PACIENTE PARA TERAPIA DE SUSTITU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- EXPLIQUE OPCIONES TERAPEU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EMODIALISIS –PERITONEODIALISIS –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-CUIDADO DE BRAZO NO DOMINANTE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LIZAR FISTULA ARTERIOVE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-EFECTUE FISTULA CON VFG DE +/- 25 ML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- INICIE DIALISIS CON CLCR+/- 14 ML/MIN 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LUSO ANTES EN CASO DE INS.CARDIA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NUTRICION IMPORTANTE O 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19360" y="209520"/>
            <a:ext cx="57052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5840" y="1181160"/>
            <a:ext cx="8572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54120" y="1617840"/>
            <a:ext cx="6035760" cy="36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3392280" cy="4038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28640" y="2057400"/>
            <a:ext cx="3843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20760" y="1209600"/>
            <a:ext cx="67010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5840" y="1181160"/>
            <a:ext cx="857232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600200"/>
            <a:ext cx="1447920" cy="3200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7360" y="1600200"/>
            <a:ext cx="548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¿ES UN PROBLEMA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ALUD PÚBLIC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6:43:21Z</dcterms:created>
  <dc:creator>LFM-ICBM</dc:creator>
  <dc:description/>
  <dc:language>en-US</dc:language>
  <cp:lastModifiedBy>ofiintilus</cp:lastModifiedBy>
  <dcterms:modified xsi:type="dcterms:W3CDTF">2004-11-02T10:30:07Z</dcterms:modified>
  <cp:revision>7</cp:revision>
  <dc:subject/>
  <dc:title>Presentación de PowerPoint</dc:title>
</cp:coreProperties>
</file>