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wmf" ContentType="image/x-wmf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32.png" ContentType="image/png"/>
  <Override PartName="/ppt/media/image1.jpeg" ContentType="image/jpeg"/>
  <Override PartName="/ppt/media/image33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1A01-5626-4825-8FFA-79EE34E0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C5B-86DE-4B2A-87E8-5F4F74C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C68-7573-417C-B9B5-FA6B6790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4FD9-DFDC-4253-ABD2-327C7F17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360F-9A94-4635-877D-CFEBC662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815-1861-4D03-A81A-24999DDB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5CB-9317-4B04-BAA0-21BF71F1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2D8-B312-45D4-BF45-200EB5C3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E1ED-D4D3-43A9-9602-1DCE0B5A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F7B-5976-4351-84D6-A1A3D617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950-07B4-426D-81B6-9F3D75F8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F049-ED7A-4AF3-8E7C-1F1DC54F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AD40-3195-49E8-A694-801F674B5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25880" y="457200"/>
            <a:ext cx="109080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0" y="3124080"/>
            <a:ext cx="65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SUFICIENCIA RE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r. Alejandro Pache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680" y="1604880"/>
            <a:ext cx="8001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3800" y="281160"/>
            <a:ext cx="809640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INSUFICIENCIA RENAL CR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CADA PACIENTE QUE REQUIERE DIALISI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-30 PACIENTES CON ALGUN GRADO DE ALT.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RTALIDAD EN IRC. ES 10-20 VECES MAYOR QU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BLACIO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ABETES E HIPERTENSION SON LAS CAUSAS M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UNES DE IRC.Y SE ASOCIAN A DAÑO  C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INCIPAL CAUSA DE MUERTE EN DIALISIS CR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ORIGEN CARDIOVA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3800" y="333360"/>
            <a:ext cx="8096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25600" y="16002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TI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680" y="719280"/>
            <a:ext cx="80010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EMODIALISIS CRONIC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EFROPATIA BASAL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7371 PACIENTES (AGOSTO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ABET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ABET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FROE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MN.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ROPATIA O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.POLIQU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4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1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0,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,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,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5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TORES DE PROGRESION DE INSUFICIENCIA RENAL CR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ISTENCIA DE ENFERMEDAD BA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TEINURIA PER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ETA HIPER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LIPID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FOSFATEM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91000" y="1981080"/>
            <a:ext cx="37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CIÓN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CTORES REVERSIBLES A MENUDO OLVI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DEPLECION DE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OBSTRUCCION DE VIA UR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USO RECIENTE DE NEFR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INF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PIENSE EN ELLOS FRENT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DETERIORO BRUSCO Y 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EXPLICACIÓN DE FUNCIÓN R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00080"/>
            <a:ext cx="76197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27920" y="190512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512640"/>
            <a:ext cx="7772400" cy="5830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0" y="3581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42900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478400">
            <a:off x="5943240" y="2629080"/>
            <a:ext cx="196920" cy="1600200"/>
          </a:xfrm>
          <a:prstGeom prst="downArrow">
            <a:avLst>
              <a:gd name="adj1" fmla="val 50000"/>
              <a:gd name="adj2" fmla="val 20315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512640"/>
            <a:ext cx="7772400" cy="583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3581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342900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478400">
            <a:off x="5943240" y="2629080"/>
            <a:ext cx="196920" cy="1600200"/>
          </a:xfrm>
          <a:prstGeom prst="downArrow">
            <a:avLst>
              <a:gd name="adj1" fmla="val 50000"/>
              <a:gd name="adj2" fmla="val 20315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9667800">
            <a:off x="304920" y="2057040"/>
            <a:ext cx="1495440" cy="3186000"/>
          </a:xfrm>
          <a:custGeom>
            <a:avLst/>
            <a:gdLst>
              <a:gd name="textAreaLeft" fmla="*/ 200160 w 1495440"/>
              <a:gd name="textAreaRight" fmla="*/ 1295280 w 1495440"/>
              <a:gd name="textAreaTop" fmla="*/ 633600 h 3186000"/>
              <a:gd name="textAreaBottom" fmla="*/ 2233800 h 31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93" stAng="-5400000" swAng="5400000"/>
                <a:lnTo>
                  <a:pt x="21600" y="10847"/>
                </a:lnTo>
                <a:arcTo wR="21600" hR="8593" stAng="0" swAng="2389138"/>
                <a:lnTo>
                  <a:pt x="9302" y="20762"/>
                </a:lnTo>
                <a:lnTo>
                  <a:pt x="0" y="18313"/>
                </a:lnTo>
                <a:lnTo>
                  <a:pt x="9302" y="14188"/>
                </a:lnTo>
                <a:lnTo>
                  <a:pt x="9302" y="16348"/>
                </a:lnTo>
                <a:arcTo wR="21600" hR="8593" stAng="2389138" swAng="-2208375"/>
                <a:lnTo>
                  <a:pt x="21413" y="9720"/>
                </a:lnTo>
                <a:arcTo wR="21600" hR="8593" stAng="-180764" swAng="-5219236"/>
                <a:close/>
              </a:path>
              <a:path fill="darkenLess" w="21600" h="21600">
                <a:moveTo>
                  <a:pt x="0" y="0"/>
                </a:moveTo>
                <a:arcTo wR="21600" hR="8593" stAng="-5400000" swAng="5400000"/>
                <a:lnTo>
                  <a:pt x="21600" y="10847"/>
                </a:lnTo>
                <a:arcTo wR="21600" hR="8593" stAng="0" swAng="-180764"/>
                <a:lnTo>
                  <a:pt x="21413" y="9720"/>
                </a:lnTo>
                <a:arcTo wR="21600" hR="8593" stAng="-180764" swAng="-5219236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62712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627120"/>
            <a:ext cx="7543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662040"/>
            <a:ext cx="76197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INSUFICIENCIA  RENAL CRO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AÑO RENAL ANATOMO-HISTOLOGIC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 FILTRACION GLOMERULAR MEN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60/ML/MIN. POR MAS DE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QI AM J.KIDNEY DIS;:2002;39 (SUPPL1) S1-2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728640"/>
            <a:ext cx="7619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70527"/>
          <a:stretch/>
        </p:blipFill>
        <p:spPr>
          <a:xfrm>
            <a:off x="1719360" y="1066680"/>
            <a:ext cx="5705280" cy="266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14680" y="37339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33280" y="1981080"/>
            <a:ext cx="30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MI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905120" y="0"/>
          <a:ext cx="569592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69592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280" y="1295280"/>
          <a:ext cx="8982360" cy="33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82360" cy="33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96800" y="198108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-MORBI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333440"/>
            <a:ext cx="761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38400" y="61920"/>
            <a:ext cx="66672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18080" y="198108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RENAL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IDENTIFIQUE FACTORES DE RIESGO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PECIAL DIABETES E HIPER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 EFECTUE AL MENO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ATININEMIA / ORINA COMPLETA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TOMOGRAFIA RE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CROALBUMINURIA 24 HRS (DIABET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  BUSQUE LOS FACTORES INICI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 BUSQUE FACTORES REVER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REEVALUE FUNCION DESPUES DE ELIMIN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FUNCIONAL CO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RIVE AL NEFRÓ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 CREATININA NO MAY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,3mg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CROALBUMINURIA POS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PACIENTES DIABE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AMEN DE ORINA A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604000">
            <a:off x="6198120" y="172620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CONTROL DE PRESION ARTER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NOR DE130/85 EN TODOS LOS PA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NOR DE 125/75 CON PROTEINURIA DE 1 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 CONTROL GLICEMICO (HBA1C MENOR DE 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USO PREFERENTE DE IECA O BLOQUEAD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T.EN ESPECIAL EN NEFROP. DIABE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USO DE IECA EN DIABETICOS NORMOTEN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CROALBUMINURICOS (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5- RESTRICCION PROTEICA MODER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0.6-0.7 gr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- RESTRICCION MODERADA DE FOSF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- USO DE QUELANTES DE FOSF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8- EVITE DESNUTR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32280" y="423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360" y="2328840"/>
            <a:ext cx="59212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9- PROHIBA USO DE AINE Y 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- USO DE ESTATINAS PARA CONTROL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I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1- CONTROL DE ACIDOSIS (HCO3 &gt; 22 m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EPARE AL PACIENTE PARA TERAPIA DE SUSTITU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EXPLIQUE OPCIONES TERAPEU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MODIALISIS –PERITONEODIALISIS –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CUIDADO DE BRAZO NO DOMINANT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LIZAR FISTULA ARTERIO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EFECTUE FISTULA CON VFG DE +/- 25 ML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 INICIE DIALISIS CON CLCR+/- 14 ML/MIN 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LUSO ANTES EN CASO DE INS.CARDIA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NUTRICION IMPORTANTE O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19360" y="209520"/>
            <a:ext cx="57052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5840" y="1181160"/>
            <a:ext cx="8572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4120" y="1617840"/>
            <a:ext cx="6035760" cy="36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3392280" cy="4038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28640" y="2057400"/>
            <a:ext cx="3843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20760" y="1209600"/>
            <a:ext cx="67010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840" y="1181160"/>
            <a:ext cx="857232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600200"/>
            <a:ext cx="1447920" cy="3200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7360" y="1600200"/>
            <a:ext cx="54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¿ES UN PROBLEMA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ALUD PÚBL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6:43:21Z</dcterms:created>
  <dc:creator>LFM-ICBM</dc:creator>
  <dc:description/>
  <dc:language>en-US</dc:language>
  <cp:lastModifiedBy>ofiintilus</cp:lastModifiedBy>
  <dcterms:modified xsi:type="dcterms:W3CDTF">2004-11-02T10:30:07Z</dcterms:modified>
  <cp:revision>7</cp:revision>
  <dc:subject/>
  <dc:title>Presentación de PowerPoint</dc:title>
</cp:coreProperties>
</file>