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96E-7E40-4268-8BFD-465A436F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E96-23E1-4FD6-8210-352AD88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EE9-D668-464C-9A46-72201A6B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102-7F6D-41A8-8AF4-792B2A43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E51-DD9B-4E2C-9300-0BC6EFD4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D3F-6926-4FC5-85A5-7B7A571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10E-7303-4E83-8BF6-78EED0F8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6BB-BD7B-40D8-BB70-9F94BEF1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7D1-4FC1-4867-8E90-09F31F9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8EB-C3AC-41E4-9151-9D6104C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9AD-42F3-4B81-9A40-6F2F78A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31F-CD8F-4024-BB75-7C56DAC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9BA-7E12-4C0B-B9D6-532471EC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G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minución de la perfusión ren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RE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70% de las IRA adquiridas en la comunidad y 40% de las adquiridas en el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trucción al flujo urinario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OST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ño isquémico LETAL o tóxico o inmunológico del nefrón o inflamación túbulo insterstici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54000" y="1716120"/>
          <a:ext cx="72342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716120"/>
                    <a:ext cx="72342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2286000"/>
            <a:ext cx="518148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re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rápidamente reversible si la causa subyacente es corregida.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rastorno fun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ancianos y los niños son muy sucep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JO con (-) de ECA, diuréticos, AINES y otras drogas que disminuyen la perfusión 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24160" y="1143000"/>
            <a:ext cx="4494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2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SIOPATOLOGÍA DE LA NTA ISQUÉM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71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isquemia pro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Depleción de A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Ruptura del citoesqueleto y altera la adhes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s células tub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pierde la polaridad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alteran las bombas de membrana: ejemplo mig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mba Na-K-ATPasa a la membrana lu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ctivación enzimática: fosfolipasas, prote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Injuria por reperfusión: Persiste la hipoxia en la médula exter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an radicales libres de oxígeno, se produce inju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uco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7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28640" y="1716120"/>
          <a:ext cx="595944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16120"/>
                    <a:ext cx="59594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drome caracterizado po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eterioro de la función ren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un periodo de horas o días y que resulta en retención de productos nitrogenados y alteración de la homeostasis hidroelectrolítica y áci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sitios primarios de la injuria pueden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úb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st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omérul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queños v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31960" y="1716120"/>
          <a:ext cx="57513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716120"/>
                    <a:ext cx="57513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92280" y="1981080"/>
          <a:ext cx="595944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595944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76520" y="3429000"/>
            <a:ext cx="609480" cy="175248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RA prerenal y la necrosis tubular aguda como causa de IRA renal representan un continuo: la única diferencia entre ambas es que el flujo sanguíneo esté lo suficientemente disminuido como para resultar en muerte de las células tub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 de un fenóme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NC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u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NATÓM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1828800"/>
            <a:ext cx="8344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tóx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56" t="7692" r="5556" b="10860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nefritis intersti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glomerulonef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6040" y="1590840"/>
            <a:ext cx="3954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562720" y="2057400"/>
            <a:ext cx="3124080" cy="365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 confusión en la definición al momento de asignarle valores. Hay varias “definicion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0,5 mg/dL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un 50%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ost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curre cuando se obstruye el flujo urinario en ambos riñones (o en el riñón único si es monorr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otencial de recuperación es inversamente proporcional al momento de la desob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48006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600" y="39996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Post-re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% de los paciente ingresados a un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a 5% la desarrollan durante la hospit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a 15% después de una cirugía de bypass coro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ADK08F0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6108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un 20 a un 60% de los pacientes requerirá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que requerirán HD, sólo un 25% la necesitará “crónicamen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rtalidad oscila entre un 7% entre aquellos que ingresan por IRA a un hospital y 80% entre aquellos que la desarrollan post-operatoriamente o en el contexto de falla orgánica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to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en fí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diolog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reducción en el clearence de creatinina en menos de un 5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disminución en función renal que la hace requirente de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89154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ámetros que ayudan a diferenciar IRA pre-renal de una 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-renal                              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s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&gt; 1.018                                 ~ 1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dio urin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&lt;10 mEq7l                            &gt;20 mEq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ción excretada 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&lt;1%                                      &g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molar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&gt; 500 mosm/l                       ~280 mosm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osmo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&gt;1.3                                      &lt;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ure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&gt;8                                          &l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creatin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&gt;40                                        &lt;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o or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Normal ó cilindros         Células tub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alinos claros                y cilindros gran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or pardo su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9246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objetivos terapéu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90920" y="990720"/>
            <a:ext cx="4419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aspectos prác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43" t="6755" r="0" b="17883"/>
          <a:stretch/>
        </p:blipFill>
        <p:spPr>
          <a:xfrm>
            <a:off x="2438280" y="106668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737880" y="5824440"/>
            <a:ext cx="349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écnicas depu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4185000">
            <a:off x="4293720" y="5690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determinamos la “función renal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40080" y="1903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6560" y="19051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600" y="5715000"/>
            <a:ext cx="50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* [(Pcg-Pcb)- s(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 -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)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94200" y="6095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(Pcg – P cb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lasificación 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Oligúrica: &l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Oligoanúrica: &lt; de 50 mL/día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or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Anúrica: 0 diu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No oligúrica: &g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6720" y="2138400"/>
          <a:ext cx="835056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138400"/>
                    <a:ext cx="835056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3:06Z</dcterms:created>
  <dc:creator>LFM-ICBM</dc:creator>
  <dc:description/>
  <dc:language>en-US</dc:language>
  <cp:lastModifiedBy>ofiintilus</cp:lastModifiedBy>
  <dcterms:modified xsi:type="dcterms:W3CDTF">2004-11-02T10:29:02Z</dcterms:modified>
  <cp:revision>4</cp:revision>
  <dc:subject/>
  <dc:title>Presentación de PowerPoint</dc:title>
</cp:coreProperties>
</file>