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8.png" ContentType="image/png"/>
  <Override PartName="/ppt/media/image9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5.wmf" ContentType="image/x-wmf"/>
  <Override PartName="/ppt/media/image10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C32-6420-4676-B615-10AAEC6A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EB9-EDC7-4B49-9364-7EEFFCE9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6F4-2213-4F46-BF92-CFE140C7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137-7AB1-4661-B962-20796957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8F0-F122-444B-893F-551D6418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DCD-91E6-449D-8FD5-745679B5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B74-5C59-4CB1-89B3-A28CE8A0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1A1-8979-4F48-94BD-8F5C61E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8A6-BE35-40E2-B7C6-D27EACD1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819-8A32-437A-A0E1-71994E98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18C-8E17-4A25-AA65-D5B5E015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4A9-BB3F-48FD-B988-167AF7A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6421-3D6B-413D-B798-6B340B9C2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25880" y="457200"/>
            <a:ext cx="1090800" cy="1828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0" y="3124080"/>
            <a:ext cx="65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SUFICIENCIA RE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GU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Dr. Alejandro Pache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52560" y="1716120"/>
          <a:ext cx="723564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16120"/>
                    <a:ext cx="723564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iologí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minución de la perfusión renal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PRE-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70% de las IRA adquiridas en la comunidad y 40% de las adquiridas en el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strucción al flujo urinario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POST-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ño isquémico LETAL o tóxico o inmunológico del nefrón o inflamación túbulo instersticial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54000" y="1716120"/>
          <a:ext cx="723420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1716120"/>
                    <a:ext cx="723420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85800" y="2286000"/>
            <a:ext cx="5181480" cy="3733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pre-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rápidamente reversible si la causa subyacente es corregida.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rastorno fun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ancianos y los niños son muy sucep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JO con (-) de ECA, diuréticos, AINES y otras drogas que disminuyen la perfusión re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e-rena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24160" y="1143000"/>
            <a:ext cx="4494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7621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SIOPATOLOGÍA DE LA NTA ISQUÉM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3716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isquemia produ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Depleción de A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Ruptura del citoesqueleto y altera la adhes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las células tub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Se pierde la polaridad 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Se alteran las bombas de membrana: ejemplo mig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bomba Na-K-ATPasa a la membrana lu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Activación enzimática: fosfolipasas, prote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Injuria por reperfusión: Persiste la hipoxia en la médula extern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forman radicales libres de oxígeno, se produce injuria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ucoc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7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e-rena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28640" y="1716120"/>
          <a:ext cx="595944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716120"/>
                    <a:ext cx="595944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índrome caracterizado po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eterioro de la función rena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un periodo de horas o días y que resulta en retención de productos nitrogenados y alteración de la homeostasis hidroelectrolítica y ácido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sitios primarios de la injuria pueden 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úb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st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omérul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queños v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31960" y="1716120"/>
          <a:ext cx="57513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960" y="1716120"/>
                    <a:ext cx="57513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92280" y="1981080"/>
          <a:ext cx="5959440" cy="43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1981080"/>
                    <a:ext cx="5959440" cy="43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76520" y="3429000"/>
            <a:ext cx="609480" cy="1752480"/>
          </a:xfrm>
          <a:custGeom>
            <a:avLst/>
            <a:gdLst>
              <a:gd name="textAreaLeft" fmla="*/ 81360 w 609480"/>
              <a:gd name="textAreaRight" fmla="*/ 528120 w 60948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isqu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RA prerenal y la necrosis tubular aguda como causa de IRA renal representan un continuo: la única diferencia entre ambas es que el flujo sanguíneo esté lo suficientemente disminuido como para resultar en muerte de las células tubu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 de un fenómeno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FUNCIO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 uno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ANATÓMIC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isqu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57200" y="1828800"/>
            <a:ext cx="8344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tóx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556" t="7692" r="5556" b="10860"/>
          <a:stretch/>
        </p:blipFill>
        <p:spPr>
          <a:xfrm>
            <a:off x="7621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nefritis intersti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18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glomerulonef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56040" y="1590840"/>
            <a:ext cx="39542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52560" y="1716120"/>
          <a:ext cx="723564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16120"/>
                    <a:ext cx="723564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562720" y="2057400"/>
            <a:ext cx="3124080" cy="365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iste confusión en la definición al momento de asignarle valores. Hay varias “definicione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RA = Aumento de creatinina plasmática mayor de 0,5 mg/dL sobre su ba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RA = Aumento de creatinina plasmática mayor de un 50% sobre su ba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post-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curre cuando se obstruye el flujo urinario en ambos riñones (o en el riñón único si es monorren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otencial de recuperación es inversamente proporcional al momento de la desob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581280" y="533520"/>
            <a:ext cx="48006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600" y="39996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Post-re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rbi-mortalida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% de los paciente ingresados a un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a 5% la desarrollan durante la hospit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 a 15% después de una cirugía de bypass coron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ADK08F0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6108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rbi-mortalida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4582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 un 20 a un 60% de los pacientes requerirá diá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 los que requerirán HD, sólo un 25% la necesitará “crónicament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mortalidad oscila entre un 7% entre aquellos que ingresan por IRA a un hospital y 80% entre aquellos que la desarrollan post-operatoriamente o en el contexto de falla orgánica múlt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iagnóst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to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en fís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orato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diolog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IRA = reducción en el clearence de creatinina en menos de un 5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IRA = disminución en función renal que la hace requirente de diá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457200"/>
            <a:ext cx="89154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ámetros que ayudan a diferenciar IRA pre-renal de una 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-renal                              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nsidad ur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&gt; 1.018                                 ~ 1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dio urina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&lt;10 mEq7l                            &gt;20 mEq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cción excretada 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&lt;1%                                      &gt;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molaridad ur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&gt; 500 mosm/l                       ~280 mosm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osmo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&gt;1.3                                      &lt;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ure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&gt;8                                          &lt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creatin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&gt;40                                        &lt;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dimento or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Normal ó cilindros         Células tub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alinos claros                y cilindros gran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or pardo su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agnóstic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92468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Tratamiento: objetivos terapéut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90920" y="990720"/>
            <a:ext cx="44193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-305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Tratamiento: aspectos práct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343" t="6755" r="0" b="17883"/>
          <a:stretch/>
        </p:blipFill>
        <p:spPr>
          <a:xfrm>
            <a:off x="2438280" y="1066680"/>
            <a:ext cx="4210200" cy="480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737880" y="5824440"/>
            <a:ext cx="349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árma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écnicas depu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4185000">
            <a:off x="4293720" y="569088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determinamos la “función renal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59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40080" y="1903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v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6560" y="19051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8600" y="5715000"/>
            <a:ext cx="50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G = Lps * [(Pcg-Pcb)- s(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 -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)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94200" y="60958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G = Lps (Pcg – P cb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lasificación clínic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Oligúrica: &lt; de 400 mL/día de o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- Oligoanúrica: &lt; de 50 mL/día d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or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- Anúrica: 0 diur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No oligúrica: &gt; de 400 mL/día de o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6720" y="2138400"/>
          <a:ext cx="835056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138400"/>
                    <a:ext cx="835056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3:06Z</dcterms:created>
  <dc:creator>LFM-ICBM</dc:creator>
  <dc:description/>
  <dc:language>en-US</dc:language>
  <cp:lastModifiedBy>ofiintilus</cp:lastModifiedBy>
  <dcterms:modified xsi:type="dcterms:W3CDTF">2004-11-02T10:29:02Z</dcterms:modified>
  <cp:revision>4</cp:revision>
  <dc:subject/>
  <dc:title>Presentación de PowerPoint</dc:title>
</cp:coreProperties>
</file>