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27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0.png" ContentType="image/png"/>
  <Override PartName="/ppt/media/image23.jpeg" ContentType="image/jpeg"/>
  <Override PartName="/ppt/media/image2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D254-9E89-4C7F-9495-7360A635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073C-719B-4DD3-B6C6-BDD71CAB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2F10-D612-477A-8DEE-34330F1C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E5FA-1EE0-440B-A1E4-03A3BD3C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2155-EAB3-44E1-BFF9-C7AAF414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F135-8364-468A-89D9-F8F111D4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6ED2-856F-40E7-A6D4-48BFFCFB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4D2D-DC17-4B06-8610-02971CF8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BE41-6FD3-4FD2-B062-5207D0EF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CF7D-33F9-4A6F-8AA7-A465D6DB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3766-D8DA-4182-AC55-C0B16DBB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F117-7AC4-40A4-8695-901C6902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ADA7-F148-4797-8F48-29188512526B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iño2" descr=""/>
          <p:cNvPicPr/>
          <p:nvPr/>
        </p:nvPicPr>
        <p:blipFill>
          <a:blip r:embed="rId1"/>
          <a:stretch/>
        </p:blipFill>
        <p:spPr>
          <a:xfrm>
            <a:off x="7804080" y="3429000"/>
            <a:ext cx="1339920" cy="198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16040" y="1066680"/>
            <a:ext cx="7711920" cy="19224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Intervenciones alimentario nutricionales y su impacto en la superación de la pobre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334120"/>
            <a:ext cx="571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nna Christina Pinheiro Fernan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MSc Nutricioni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Economía Alimentaria y Familiar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alzheimer" descr=""/>
          <p:cNvPicPr/>
          <p:nvPr/>
        </p:nvPicPr>
        <p:blipFill>
          <a:blip r:embed="rId2"/>
          <a:stretch/>
        </p:blipFill>
        <p:spPr>
          <a:xfrm>
            <a:off x="7996320" y="5362560"/>
            <a:ext cx="1147680" cy="1495440"/>
          </a:xfrm>
          <a:prstGeom prst="rect">
            <a:avLst/>
          </a:prstGeom>
          <a:ln w="0">
            <a:noFill/>
          </a:ln>
        </p:spPr>
      </p:pic>
      <p:pic>
        <p:nvPicPr>
          <p:cNvPr id="45" name="ninos%20pobre" descr=""/>
          <p:cNvPicPr/>
          <p:nvPr/>
        </p:nvPicPr>
        <p:blipFill>
          <a:blip r:embed="rId3"/>
          <a:stretch/>
        </p:blipFill>
        <p:spPr>
          <a:xfrm>
            <a:off x="6629400" y="4738680"/>
            <a:ext cx="138744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571680" y="685800"/>
          <a:ext cx="8001000" cy="153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685800"/>
                    <a:ext cx="800100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517680" y="2608200"/>
            <a:ext cx="832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Percepción del PAE como preventor de ausentismo y deserción esc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95280" y="3429000"/>
          <a:ext cx="5752800" cy="1117440"/>
        </p:xfrm>
        <a:graphic>
          <a:graphicData uri="http://schemas.openxmlformats.org/drawingml/2006/table">
            <a:tbl>
              <a:tblPr/>
              <a:tblGrid>
                <a:gridCol w="2829240"/>
                <a:gridCol w="1508760"/>
                <a:gridCol w="14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Con P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Sin P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Prevención Ausent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Prevención Deser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3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609480" y="47242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9"/>
                </a:solidFill>
                <a:latin typeface="Comic Sans MS"/>
              </a:rPr>
              <a:t>Diferencias en deserción escolar en familias pobres según acceden al PA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733920" y="5410080"/>
          <a:ext cx="5105160" cy="1298520"/>
        </p:xfrm>
        <a:graphic>
          <a:graphicData uri="http://schemas.openxmlformats.org/drawingml/2006/table">
            <a:tbl>
              <a:tblPr/>
              <a:tblGrid>
                <a:gridCol w="4339440"/>
                <a:gridCol w="7657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Hogares pobres con deser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cibe PA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 recibe PA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11120" y="304920"/>
            <a:ext cx="8321760" cy="22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Beneficios Sociales Direc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PAE es un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subsidio no monetario – o en especie-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a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los hogares que lo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perciben,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permitiéndoles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libera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r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ingresos para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el consumo de otros bie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A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c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c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eso a un servicio de alimentación nutricionalmente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  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adecuad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o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a las necesidades escolares, que de otra forma no habría sido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p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osible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que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a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cedieran.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8720" y="2597040"/>
            <a:ext cx="53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RESULTADOS DEL COMPONENTE DE IMPA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048120"/>
            <a:ext cx="739116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667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Sin el PAE perderíamos un 9.1% más de recursos si pretendemos prevenir el ausentismo y la deserción escolar en educación básica con otro programa</a:t>
            </a:r>
            <a:r>
              <a:rPr b="1" lang="es-CL" sz="1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Sin el PAE perderíamos un 13.6% más de recursos si pretendemos prevenir el ausentismo y la deserción escolar en educación media con otro programa</a:t>
            </a:r>
            <a:r>
              <a:rPr b="1" lang="es-CL" sz="1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Sin el PAE perderíamos un 7,2% más de recursos si pretendemos prevenir el ausentismo y la deserción escolar en educación básica y media con otro progr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90520" y="23976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RESULTADO DEL COMPONENTE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RENTABILIDAD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2640" y="1533600"/>
            <a:ext cx="360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63560" y="1438200"/>
            <a:ext cx="671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Comic Sans MS"/>
              </a:rPr>
              <a:t>Por cada $ 100 que el Estado invierte en forma anual, el beneficio estimado en términos monetarios generados para la sociedad es de $1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508480" y="3505320"/>
            <a:ext cx="4577760" cy="2514600"/>
            <a:chOff x="2508480" y="3505320"/>
            <a:chExt cx="4577760" cy="2514600"/>
          </a:xfrm>
        </p:grpSpPr>
        <p:sp>
          <p:nvSpPr>
            <p:cNvPr id="96" name=""/>
            <p:cNvSpPr/>
            <p:nvPr/>
          </p:nvSpPr>
          <p:spPr>
            <a:xfrm>
              <a:off x="3321360" y="3505320"/>
              <a:ext cx="3764880" cy="2277000"/>
            </a:xfrm>
            <a:custGeom>
              <a:avLst/>
              <a:gdLst/>
              <a:ahLst/>
              <a:rect l="l" t="t" r="r" b="b"/>
              <a:pathLst>
                <a:path w="5702" h="3913">
                  <a:moveTo>
                    <a:pt x="0" y="84"/>
                  </a:moveTo>
                  <a:lnTo>
                    <a:pt x="306" y="3730"/>
                  </a:lnTo>
                  <a:lnTo>
                    <a:pt x="5445" y="3913"/>
                  </a:lnTo>
                  <a:lnTo>
                    <a:pt x="5702" y="0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3305520" y="3597120"/>
              <a:ext cx="3776760" cy="2422800"/>
              <a:chOff x="3305520" y="3597120"/>
              <a:chExt cx="3776760" cy="2422800"/>
            </a:xfrm>
          </p:grpSpPr>
          <p:sp>
            <p:nvSpPr>
              <p:cNvPr id="98" name=""/>
              <p:cNvSpPr/>
              <p:nvPr/>
            </p:nvSpPr>
            <p:spPr>
              <a:xfrm>
                <a:off x="3398040" y="3921840"/>
                <a:ext cx="3684240" cy="72000"/>
              </a:xfrm>
              <a:custGeom>
                <a:avLst/>
                <a:gdLst/>
                <a:ahLst/>
                <a:rect l="l" t="t" r="r" b="b"/>
                <a:pathLst>
                  <a:path w="5580" h="126">
                    <a:moveTo>
                      <a:pt x="51" y="0"/>
                    </a:moveTo>
                    <a:lnTo>
                      <a:pt x="5580" y="25"/>
                    </a:lnTo>
                    <a:lnTo>
                      <a:pt x="5580" y="126"/>
                    </a:lnTo>
                    <a:lnTo>
                      <a:pt x="0" y="74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469320" y="4449240"/>
                <a:ext cx="3562560" cy="78120"/>
              </a:xfrm>
              <a:custGeom>
                <a:avLst/>
                <a:gdLst/>
                <a:ahLst/>
                <a:rect l="l" t="t" r="r" b="b"/>
                <a:pathLst>
                  <a:path w="5396" h="133">
                    <a:moveTo>
                      <a:pt x="0" y="0"/>
                    </a:moveTo>
                    <a:lnTo>
                      <a:pt x="5396" y="34"/>
                    </a:lnTo>
                    <a:lnTo>
                      <a:pt x="5396" y="133"/>
                    </a:lnTo>
                    <a:lnTo>
                      <a:pt x="10" y="8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486240" y="5103720"/>
                <a:ext cx="3496680" cy="57960"/>
              </a:xfrm>
              <a:custGeom>
                <a:avLst/>
                <a:gdLst/>
                <a:ahLst/>
                <a:rect l="l" t="t" r="r" b="b"/>
                <a:pathLst>
                  <a:path w="5295" h="100">
                    <a:moveTo>
                      <a:pt x="0" y="17"/>
                    </a:moveTo>
                    <a:lnTo>
                      <a:pt x="5295" y="0"/>
                    </a:lnTo>
                    <a:lnTo>
                      <a:pt x="5295" y="100"/>
                    </a:lnTo>
                    <a:lnTo>
                      <a:pt x="15" y="10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063320" y="3615840"/>
                <a:ext cx="81720" cy="2171160"/>
              </a:xfrm>
              <a:custGeom>
                <a:avLst/>
                <a:gdLst/>
                <a:ahLst/>
                <a:rect l="l" t="t" r="r" b="b"/>
                <a:pathLst>
                  <a:path w="123" h="3731">
                    <a:moveTo>
                      <a:pt x="0" y="25"/>
                    </a:moveTo>
                    <a:lnTo>
                      <a:pt x="24" y="3731"/>
                    </a:lnTo>
                    <a:lnTo>
                      <a:pt x="123" y="3721"/>
                    </a:lnTo>
                    <a:lnTo>
                      <a:pt x="81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755240" y="3615840"/>
                <a:ext cx="76320" cy="2180520"/>
              </a:xfrm>
              <a:custGeom>
                <a:avLst/>
                <a:gdLst/>
                <a:ahLst/>
                <a:rect l="l" t="t" r="r" b="b"/>
                <a:pathLst>
                  <a:path w="116" h="3746">
                    <a:moveTo>
                      <a:pt x="0" y="50"/>
                    </a:moveTo>
                    <a:lnTo>
                      <a:pt x="40" y="3746"/>
                    </a:lnTo>
                    <a:lnTo>
                      <a:pt x="116" y="3738"/>
                    </a:lnTo>
                    <a:lnTo>
                      <a:pt x="116" y="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478840" y="3615840"/>
                <a:ext cx="76320" cy="2137320"/>
              </a:xfrm>
              <a:custGeom>
                <a:avLst/>
                <a:gdLst/>
                <a:ahLst/>
                <a:rect l="l" t="t" r="r" b="b"/>
                <a:pathLst>
                  <a:path w="116" h="3672">
                    <a:moveTo>
                      <a:pt x="17" y="0"/>
                    </a:moveTo>
                    <a:lnTo>
                      <a:pt x="0" y="3662"/>
                    </a:lnTo>
                    <a:lnTo>
                      <a:pt x="99" y="3672"/>
                    </a:lnTo>
                    <a:lnTo>
                      <a:pt x="116" y="8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214320" y="3615840"/>
                <a:ext cx="71280" cy="2146680"/>
              </a:xfrm>
              <a:custGeom>
                <a:avLst/>
                <a:gdLst/>
                <a:ahLst/>
                <a:rect l="l" t="t" r="r" b="b"/>
                <a:pathLst>
                  <a:path w="109" h="3689">
                    <a:moveTo>
                      <a:pt x="8" y="17"/>
                    </a:moveTo>
                    <a:lnTo>
                      <a:pt x="0" y="3689"/>
                    </a:lnTo>
                    <a:lnTo>
                      <a:pt x="109" y="3689"/>
                    </a:lnTo>
                    <a:lnTo>
                      <a:pt x="109" y="0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728680" y="3720600"/>
                <a:ext cx="990000" cy="1914840"/>
              </a:xfrm>
              <a:custGeom>
                <a:avLst/>
                <a:gdLst/>
                <a:ahLst/>
                <a:rect l="l" t="t" r="r" b="b"/>
                <a:pathLst>
                  <a:path w="1501" h="3291">
                    <a:moveTo>
                      <a:pt x="109" y="802"/>
                    </a:moveTo>
                    <a:lnTo>
                      <a:pt x="512" y="479"/>
                    </a:lnTo>
                    <a:lnTo>
                      <a:pt x="751" y="213"/>
                    </a:lnTo>
                    <a:lnTo>
                      <a:pt x="877" y="0"/>
                    </a:lnTo>
                    <a:lnTo>
                      <a:pt x="1316" y="59"/>
                    </a:lnTo>
                    <a:lnTo>
                      <a:pt x="1501" y="141"/>
                    </a:lnTo>
                    <a:lnTo>
                      <a:pt x="1364" y="801"/>
                    </a:lnTo>
                    <a:lnTo>
                      <a:pt x="1442" y="3247"/>
                    </a:lnTo>
                    <a:lnTo>
                      <a:pt x="845" y="3291"/>
                    </a:lnTo>
                    <a:lnTo>
                      <a:pt x="137" y="3259"/>
                    </a:lnTo>
                    <a:lnTo>
                      <a:pt x="101" y="1139"/>
                    </a:lnTo>
                    <a:lnTo>
                      <a:pt x="0" y="839"/>
                    </a:lnTo>
                    <a:lnTo>
                      <a:pt x="109" y="802"/>
                    </a:lnTo>
                    <a:lnTo>
                      <a:pt x="109" y="8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641760" y="4413240"/>
                <a:ext cx="990360" cy="1247760"/>
              </a:xfrm>
              <a:custGeom>
                <a:avLst/>
                <a:gdLst/>
                <a:ahLst/>
                <a:rect l="l" t="t" r="r" b="b"/>
                <a:pathLst>
                  <a:path w="1500" h="2145">
                    <a:moveTo>
                      <a:pt x="108" y="803"/>
                    </a:moveTo>
                    <a:lnTo>
                      <a:pt x="511" y="479"/>
                    </a:lnTo>
                    <a:lnTo>
                      <a:pt x="753" y="213"/>
                    </a:lnTo>
                    <a:lnTo>
                      <a:pt x="876" y="0"/>
                    </a:lnTo>
                    <a:lnTo>
                      <a:pt x="1315" y="61"/>
                    </a:lnTo>
                    <a:lnTo>
                      <a:pt x="1500" y="141"/>
                    </a:lnTo>
                    <a:lnTo>
                      <a:pt x="1363" y="801"/>
                    </a:lnTo>
                    <a:lnTo>
                      <a:pt x="1338" y="2090"/>
                    </a:lnTo>
                    <a:lnTo>
                      <a:pt x="760" y="2145"/>
                    </a:lnTo>
                    <a:lnTo>
                      <a:pt x="108" y="2122"/>
                    </a:lnTo>
                    <a:lnTo>
                      <a:pt x="100" y="1139"/>
                    </a:lnTo>
                    <a:lnTo>
                      <a:pt x="0" y="841"/>
                    </a:lnTo>
                    <a:lnTo>
                      <a:pt x="108" y="803"/>
                    </a:lnTo>
                    <a:lnTo>
                      <a:pt x="108" y="80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30680" y="4955760"/>
                <a:ext cx="471240" cy="711000"/>
              </a:xfrm>
              <a:custGeom>
                <a:avLst/>
                <a:gdLst/>
                <a:ahLst/>
                <a:rect l="l" t="t" r="r" b="b"/>
                <a:pathLst>
                  <a:path w="715" h="1220">
                    <a:moveTo>
                      <a:pt x="131" y="0"/>
                    </a:moveTo>
                    <a:lnTo>
                      <a:pt x="319" y="32"/>
                    </a:lnTo>
                    <a:lnTo>
                      <a:pt x="701" y="264"/>
                    </a:lnTo>
                    <a:lnTo>
                      <a:pt x="658" y="760"/>
                    </a:lnTo>
                    <a:lnTo>
                      <a:pt x="715" y="1220"/>
                    </a:lnTo>
                    <a:lnTo>
                      <a:pt x="7" y="1163"/>
                    </a:lnTo>
                    <a:lnTo>
                      <a:pt x="81" y="239"/>
                    </a:lnTo>
                    <a:lnTo>
                      <a:pt x="0" y="25"/>
                    </a:lnTo>
                    <a:lnTo>
                      <a:pt x="131" y="0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8fc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07520" y="4259520"/>
                <a:ext cx="504360" cy="1378080"/>
              </a:xfrm>
              <a:custGeom>
                <a:avLst/>
                <a:gdLst/>
                <a:ahLst/>
                <a:rect l="l" t="t" r="r" b="b"/>
                <a:pathLst>
                  <a:path w="765" h="2369">
                    <a:moveTo>
                      <a:pt x="0" y="38"/>
                    </a:moveTo>
                    <a:lnTo>
                      <a:pt x="238" y="0"/>
                    </a:lnTo>
                    <a:lnTo>
                      <a:pt x="765" y="272"/>
                    </a:lnTo>
                    <a:lnTo>
                      <a:pt x="709" y="390"/>
                    </a:lnTo>
                    <a:lnTo>
                      <a:pt x="641" y="1219"/>
                    </a:lnTo>
                    <a:lnTo>
                      <a:pt x="688" y="2369"/>
                    </a:lnTo>
                    <a:lnTo>
                      <a:pt x="17" y="2333"/>
                    </a:lnTo>
                    <a:lnTo>
                      <a:pt x="82" y="1449"/>
                    </a:lnTo>
                    <a:lnTo>
                      <a:pt x="101" y="414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8fc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64320" y="4476240"/>
                <a:ext cx="478080" cy="436320"/>
              </a:xfrm>
              <a:custGeom>
                <a:avLst/>
                <a:gdLst/>
                <a:ahLst/>
                <a:rect l="l" t="t" r="r" b="b"/>
                <a:pathLst>
                  <a:path w="725" h="751">
                    <a:moveTo>
                      <a:pt x="0" y="659"/>
                    </a:moveTo>
                    <a:lnTo>
                      <a:pt x="67" y="616"/>
                    </a:lnTo>
                    <a:lnTo>
                      <a:pt x="35" y="519"/>
                    </a:lnTo>
                    <a:lnTo>
                      <a:pt x="177" y="416"/>
                    </a:lnTo>
                    <a:lnTo>
                      <a:pt x="337" y="173"/>
                    </a:lnTo>
                    <a:lnTo>
                      <a:pt x="409" y="80"/>
                    </a:lnTo>
                    <a:lnTo>
                      <a:pt x="483" y="83"/>
                    </a:lnTo>
                    <a:lnTo>
                      <a:pt x="535" y="0"/>
                    </a:lnTo>
                    <a:lnTo>
                      <a:pt x="689" y="51"/>
                    </a:lnTo>
                    <a:lnTo>
                      <a:pt x="666" y="102"/>
                    </a:lnTo>
                    <a:lnTo>
                      <a:pt x="725" y="148"/>
                    </a:lnTo>
                    <a:lnTo>
                      <a:pt x="613" y="287"/>
                    </a:lnTo>
                    <a:lnTo>
                      <a:pt x="498" y="431"/>
                    </a:lnTo>
                    <a:lnTo>
                      <a:pt x="327" y="696"/>
                    </a:lnTo>
                    <a:lnTo>
                      <a:pt x="257" y="696"/>
                    </a:lnTo>
                    <a:lnTo>
                      <a:pt x="192" y="751"/>
                    </a:lnTo>
                    <a:lnTo>
                      <a:pt x="90" y="692"/>
                    </a:lnTo>
                    <a:lnTo>
                      <a:pt x="0" y="659"/>
                    </a:lnTo>
                    <a:lnTo>
                      <a:pt x="0" y="659"/>
                    </a:lnTo>
                    <a:close/>
                  </a:path>
                </a:pathLst>
              </a:custGeom>
              <a:solidFill>
                <a:srgbClr val="8fc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50880" y="3787920"/>
                <a:ext cx="477720" cy="437400"/>
              </a:xfrm>
              <a:custGeom>
                <a:avLst/>
                <a:gdLst/>
                <a:ahLst/>
                <a:rect l="l" t="t" r="r" b="b"/>
                <a:pathLst>
                  <a:path w="725" h="751">
                    <a:moveTo>
                      <a:pt x="0" y="662"/>
                    </a:moveTo>
                    <a:lnTo>
                      <a:pt x="69" y="616"/>
                    </a:lnTo>
                    <a:lnTo>
                      <a:pt x="36" y="519"/>
                    </a:lnTo>
                    <a:lnTo>
                      <a:pt x="177" y="416"/>
                    </a:lnTo>
                    <a:lnTo>
                      <a:pt x="339" y="175"/>
                    </a:lnTo>
                    <a:lnTo>
                      <a:pt x="409" y="82"/>
                    </a:lnTo>
                    <a:lnTo>
                      <a:pt x="483" y="84"/>
                    </a:lnTo>
                    <a:lnTo>
                      <a:pt x="534" y="0"/>
                    </a:lnTo>
                    <a:lnTo>
                      <a:pt x="690" y="53"/>
                    </a:lnTo>
                    <a:lnTo>
                      <a:pt x="668" y="105"/>
                    </a:lnTo>
                    <a:lnTo>
                      <a:pt x="725" y="148"/>
                    </a:lnTo>
                    <a:lnTo>
                      <a:pt x="612" y="287"/>
                    </a:lnTo>
                    <a:lnTo>
                      <a:pt x="500" y="433"/>
                    </a:lnTo>
                    <a:lnTo>
                      <a:pt x="329" y="698"/>
                    </a:lnTo>
                    <a:lnTo>
                      <a:pt x="259" y="698"/>
                    </a:lnTo>
                    <a:lnTo>
                      <a:pt x="194" y="751"/>
                    </a:lnTo>
                    <a:lnTo>
                      <a:pt x="91" y="694"/>
                    </a:lnTo>
                    <a:lnTo>
                      <a:pt x="0" y="662"/>
                    </a:lnTo>
                    <a:lnTo>
                      <a:pt x="0" y="662"/>
                    </a:lnTo>
                    <a:close/>
                  </a:path>
                </a:pathLst>
              </a:custGeom>
              <a:solidFill>
                <a:srgbClr val="8fc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641760" y="4413240"/>
                <a:ext cx="1019520" cy="670320"/>
              </a:xfrm>
              <a:custGeom>
                <a:avLst/>
                <a:gdLst/>
                <a:ahLst/>
                <a:rect l="l" t="t" r="r" b="b"/>
                <a:pathLst>
                  <a:path w="1543" h="1152">
                    <a:moveTo>
                      <a:pt x="876" y="0"/>
                    </a:moveTo>
                    <a:lnTo>
                      <a:pt x="678" y="265"/>
                    </a:lnTo>
                    <a:lnTo>
                      <a:pt x="334" y="609"/>
                    </a:lnTo>
                    <a:lnTo>
                      <a:pt x="0" y="841"/>
                    </a:lnTo>
                    <a:lnTo>
                      <a:pt x="275" y="873"/>
                    </a:lnTo>
                    <a:lnTo>
                      <a:pt x="564" y="979"/>
                    </a:lnTo>
                    <a:lnTo>
                      <a:pt x="867" y="1152"/>
                    </a:lnTo>
                    <a:lnTo>
                      <a:pt x="1043" y="797"/>
                    </a:lnTo>
                    <a:lnTo>
                      <a:pt x="1344" y="362"/>
                    </a:lnTo>
                    <a:lnTo>
                      <a:pt x="1543" y="135"/>
                    </a:lnTo>
                    <a:lnTo>
                      <a:pt x="1363" y="48"/>
                    </a:lnTo>
                    <a:lnTo>
                      <a:pt x="958" y="14"/>
                    </a:lnTo>
                    <a:lnTo>
                      <a:pt x="1285" y="93"/>
                    </a:lnTo>
                    <a:lnTo>
                      <a:pt x="1452" y="156"/>
                    </a:lnTo>
                    <a:lnTo>
                      <a:pt x="1317" y="270"/>
                    </a:lnTo>
                    <a:lnTo>
                      <a:pt x="1026" y="694"/>
                    </a:lnTo>
                    <a:lnTo>
                      <a:pt x="817" y="1029"/>
                    </a:lnTo>
                    <a:lnTo>
                      <a:pt x="414" y="841"/>
                    </a:lnTo>
                    <a:lnTo>
                      <a:pt x="184" y="808"/>
                    </a:lnTo>
                    <a:lnTo>
                      <a:pt x="464" y="571"/>
                    </a:lnTo>
                    <a:lnTo>
                      <a:pt x="758" y="247"/>
                    </a:lnTo>
                    <a:lnTo>
                      <a:pt x="876" y="0"/>
                    </a:lnTo>
                    <a:lnTo>
                      <a:pt x="8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641760" y="4491000"/>
                <a:ext cx="1019520" cy="1194120"/>
              </a:xfrm>
              <a:custGeom>
                <a:avLst/>
                <a:gdLst/>
                <a:ahLst/>
                <a:rect l="l" t="t" r="r" b="b"/>
                <a:pathLst>
                  <a:path w="1543" h="2052">
                    <a:moveTo>
                      <a:pt x="0" y="706"/>
                    </a:moveTo>
                    <a:lnTo>
                      <a:pt x="59" y="1017"/>
                    </a:lnTo>
                    <a:lnTo>
                      <a:pt x="76" y="1459"/>
                    </a:lnTo>
                    <a:lnTo>
                      <a:pt x="76" y="2040"/>
                    </a:lnTo>
                    <a:lnTo>
                      <a:pt x="905" y="2052"/>
                    </a:lnTo>
                    <a:lnTo>
                      <a:pt x="1403" y="1976"/>
                    </a:lnTo>
                    <a:lnTo>
                      <a:pt x="1414" y="1082"/>
                    </a:lnTo>
                    <a:lnTo>
                      <a:pt x="1458" y="339"/>
                    </a:lnTo>
                    <a:lnTo>
                      <a:pt x="1543" y="0"/>
                    </a:lnTo>
                    <a:lnTo>
                      <a:pt x="1458" y="71"/>
                    </a:lnTo>
                    <a:lnTo>
                      <a:pt x="1317" y="236"/>
                    </a:lnTo>
                    <a:lnTo>
                      <a:pt x="1367" y="280"/>
                    </a:lnTo>
                    <a:lnTo>
                      <a:pt x="1205" y="527"/>
                    </a:lnTo>
                    <a:lnTo>
                      <a:pt x="1334" y="485"/>
                    </a:lnTo>
                    <a:lnTo>
                      <a:pt x="1119" y="808"/>
                    </a:lnTo>
                    <a:lnTo>
                      <a:pt x="1317" y="765"/>
                    </a:lnTo>
                    <a:lnTo>
                      <a:pt x="1087" y="1050"/>
                    </a:lnTo>
                    <a:lnTo>
                      <a:pt x="1302" y="1067"/>
                    </a:lnTo>
                    <a:lnTo>
                      <a:pt x="1032" y="1352"/>
                    </a:lnTo>
                    <a:lnTo>
                      <a:pt x="1285" y="1335"/>
                    </a:lnTo>
                    <a:lnTo>
                      <a:pt x="1038" y="1523"/>
                    </a:lnTo>
                    <a:lnTo>
                      <a:pt x="1220" y="1573"/>
                    </a:lnTo>
                    <a:lnTo>
                      <a:pt x="1026" y="1723"/>
                    </a:lnTo>
                    <a:lnTo>
                      <a:pt x="1258" y="1788"/>
                    </a:lnTo>
                    <a:lnTo>
                      <a:pt x="861" y="1955"/>
                    </a:lnTo>
                    <a:lnTo>
                      <a:pt x="815" y="1451"/>
                    </a:lnTo>
                    <a:lnTo>
                      <a:pt x="848" y="1120"/>
                    </a:lnTo>
                    <a:lnTo>
                      <a:pt x="576" y="1130"/>
                    </a:lnTo>
                    <a:lnTo>
                      <a:pt x="291" y="1050"/>
                    </a:lnTo>
                    <a:lnTo>
                      <a:pt x="608" y="1373"/>
                    </a:lnTo>
                    <a:lnTo>
                      <a:pt x="308" y="1432"/>
                    </a:lnTo>
                    <a:lnTo>
                      <a:pt x="505" y="1573"/>
                    </a:lnTo>
                    <a:lnTo>
                      <a:pt x="678" y="1637"/>
                    </a:lnTo>
                    <a:lnTo>
                      <a:pt x="458" y="1702"/>
                    </a:lnTo>
                    <a:lnTo>
                      <a:pt x="302" y="1723"/>
                    </a:lnTo>
                    <a:lnTo>
                      <a:pt x="646" y="1905"/>
                    </a:lnTo>
                    <a:lnTo>
                      <a:pt x="161" y="1900"/>
                    </a:lnTo>
                    <a:lnTo>
                      <a:pt x="173" y="1696"/>
                    </a:lnTo>
                    <a:lnTo>
                      <a:pt x="146" y="1379"/>
                    </a:lnTo>
                    <a:lnTo>
                      <a:pt x="156" y="997"/>
                    </a:lnTo>
                    <a:lnTo>
                      <a:pt x="76" y="791"/>
                    </a:lnTo>
                    <a:lnTo>
                      <a:pt x="452" y="765"/>
                    </a:lnTo>
                    <a:lnTo>
                      <a:pt x="108" y="668"/>
                    </a:lnTo>
                    <a:lnTo>
                      <a:pt x="0" y="706"/>
                    </a:lnTo>
                    <a:lnTo>
                      <a:pt x="0" y="7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29760" y="3720600"/>
                <a:ext cx="1019160" cy="671400"/>
              </a:xfrm>
              <a:custGeom>
                <a:avLst/>
                <a:gdLst/>
                <a:ahLst/>
                <a:rect l="l" t="t" r="r" b="b"/>
                <a:pathLst>
                  <a:path w="1544" h="1152">
                    <a:moveTo>
                      <a:pt x="877" y="0"/>
                    </a:moveTo>
                    <a:lnTo>
                      <a:pt x="677" y="264"/>
                    </a:lnTo>
                    <a:lnTo>
                      <a:pt x="333" y="608"/>
                    </a:lnTo>
                    <a:lnTo>
                      <a:pt x="0" y="840"/>
                    </a:lnTo>
                    <a:lnTo>
                      <a:pt x="274" y="873"/>
                    </a:lnTo>
                    <a:lnTo>
                      <a:pt x="565" y="979"/>
                    </a:lnTo>
                    <a:lnTo>
                      <a:pt x="865" y="1152"/>
                    </a:lnTo>
                    <a:lnTo>
                      <a:pt x="1044" y="797"/>
                    </a:lnTo>
                    <a:lnTo>
                      <a:pt x="1345" y="359"/>
                    </a:lnTo>
                    <a:lnTo>
                      <a:pt x="1544" y="135"/>
                    </a:lnTo>
                    <a:lnTo>
                      <a:pt x="1354" y="42"/>
                    </a:lnTo>
                    <a:lnTo>
                      <a:pt x="943" y="8"/>
                    </a:lnTo>
                    <a:lnTo>
                      <a:pt x="1308" y="82"/>
                    </a:lnTo>
                    <a:lnTo>
                      <a:pt x="1453" y="156"/>
                    </a:lnTo>
                    <a:lnTo>
                      <a:pt x="1318" y="268"/>
                    </a:lnTo>
                    <a:lnTo>
                      <a:pt x="1027" y="694"/>
                    </a:lnTo>
                    <a:lnTo>
                      <a:pt x="818" y="1029"/>
                    </a:lnTo>
                    <a:lnTo>
                      <a:pt x="415" y="840"/>
                    </a:lnTo>
                    <a:lnTo>
                      <a:pt x="183" y="808"/>
                    </a:lnTo>
                    <a:lnTo>
                      <a:pt x="462" y="570"/>
                    </a:lnTo>
                    <a:lnTo>
                      <a:pt x="759" y="247"/>
                    </a:lnTo>
                    <a:lnTo>
                      <a:pt x="877" y="0"/>
                    </a:lnTo>
                    <a:lnTo>
                      <a:pt x="8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29760" y="3799800"/>
                <a:ext cx="1019160" cy="1879920"/>
              </a:xfrm>
              <a:custGeom>
                <a:avLst/>
                <a:gdLst/>
                <a:ahLst/>
                <a:rect l="l" t="t" r="r" b="b"/>
                <a:pathLst>
                  <a:path w="1544" h="3230">
                    <a:moveTo>
                      <a:pt x="0" y="705"/>
                    </a:moveTo>
                    <a:lnTo>
                      <a:pt x="90" y="1196"/>
                    </a:lnTo>
                    <a:lnTo>
                      <a:pt x="84" y="2361"/>
                    </a:lnTo>
                    <a:lnTo>
                      <a:pt x="103" y="2793"/>
                    </a:lnTo>
                    <a:lnTo>
                      <a:pt x="73" y="3171"/>
                    </a:lnTo>
                    <a:lnTo>
                      <a:pt x="888" y="3230"/>
                    </a:lnTo>
                    <a:lnTo>
                      <a:pt x="1443" y="3158"/>
                    </a:lnTo>
                    <a:lnTo>
                      <a:pt x="1443" y="1392"/>
                    </a:lnTo>
                    <a:lnTo>
                      <a:pt x="1485" y="226"/>
                    </a:lnTo>
                    <a:lnTo>
                      <a:pt x="1544" y="0"/>
                    </a:lnTo>
                    <a:lnTo>
                      <a:pt x="1331" y="179"/>
                    </a:lnTo>
                    <a:lnTo>
                      <a:pt x="1402" y="279"/>
                    </a:lnTo>
                    <a:lnTo>
                      <a:pt x="1284" y="468"/>
                    </a:lnTo>
                    <a:lnTo>
                      <a:pt x="1362" y="563"/>
                    </a:lnTo>
                    <a:lnTo>
                      <a:pt x="1208" y="741"/>
                    </a:lnTo>
                    <a:lnTo>
                      <a:pt x="1343" y="776"/>
                    </a:lnTo>
                    <a:lnTo>
                      <a:pt x="1113" y="1072"/>
                    </a:lnTo>
                    <a:lnTo>
                      <a:pt x="1278" y="1173"/>
                    </a:lnTo>
                    <a:lnTo>
                      <a:pt x="1076" y="1361"/>
                    </a:lnTo>
                    <a:lnTo>
                      <a:pt x="1301" y="1451"/>
                    </a:lnTo>
                    <a:lnTo>
                      <a:pt x="1090" y="1652"/>
                    </a:lnTo>
                    <a:lnTo>
                      <a:pt x="1337" y="1681"/>
                    </a:lnTo>
                    <a:lnTo>
                      <a:pt x="1124" y="1859"/>
                    </a:lnTo>
                    <a:lnTo>
                      <a:pt x="1301" y="1924"/>
                    </a:lnTo>
                    <a:lnTo>
                      <a:pt x="1065" y="2101"/>
                    </a:lnTo>
                    <a:lnTo>
                      <a:pt x="1272" y="2179"/>
                    </a:lnTo>
                    <a:lnTo>
                      <a:pt x="1065" y="2367"/>
                    </a:lnTo>
                    <a:lnTo>
                      <a:pt x="1320" y="2451"/>
                    </a:lnTo>
                    <a:lnTo>
                      <a:pt x="1059" y="2692"/>
                    </a:lnTo>
                    <a:lnTo>
                      <a:pt x="1320" y="2728"/>
                    </a:lnTo>
                    <a:lnTo>
                      <a:pt x="1107" y="2852"/>
                    </a:lnTo>
                    <a:lnTo>
                      <a:pt x="1326" y="2941"/>
                    </a:lnTo>
                    <a:lnTo>
                      <a:pt x="941" y="3101"/>
                    </a:lnTo>
                    <a:lnTo>
                      <a:pt x="841" y="3065"/>
                    </a:lnTo>
                    <a:lnTo>
                      <a:pt x="824" y="1261"/>
                    </a:lnTo>
                    <a:lnTo>
                      <a:pt x="883" y="1061"/>
                    </a:lnTo>
                    <a:lnTo>
                      <a:pt x="468" y="1190"/>
                    </a:lnTo>
                    <a:lnTo>
                      <a:pt x="658" y="1350"/>
                    </a:lnTo>
                    <a:lnTo>
                      <a:pt x="409" y="1521"/>
                    </a:lnTo>
                    <a:lnTo>
                      <a:pt x="639" y="1675"/>
                    </a:lnTo>
                    <a:lnTo>
                      <a:pt x="440" y="1799"/>
                    </a:lnTo>
                    <a:lnTo>
                      <a:pt x="687" y="1989"/>
                    </a:lnTo>
                    <a:lnTo>
                      <a:pt x="434" y="2101"/>
                    </a:lnTo>
                    <a:lnTo>
                      <a:pt x="652" y="2320"/>
                    </a:lnTo>
                    <a:lnTo>
                      <a:pt x="409" y="2398"/>
                    </a:lnTo>
                    <a:lnTo>
                      <a:pt x="658" y="2569"/>
                    </a:lnTo>
                    <a:lnTo>
                      <a:pt x="409" y="2591"/>
                    </a:lnTo>
                    <a:lnTo>
                      <a:pt x="681" y="2841"/>
                    </a:lnTo>
                    <a:lnTo>
                      <a:pt x="451" y="2882"/>
                    </a:lnTo>
                    <a:lnTo>
                      <a:pt x="675" y="3090"/>
                    </a:lnTo>
                    <a:lnTo>
                      <a:pt x="185" y="3078"/>
                    </a:lnTo>
                    <a:lnTo>
                      <a:pt x="162" y="2782"/>
                    </a:lnTo>
                    <a:lnTo>
                      <a:pt x="156" y="2107"/>
                    </a:lnTo>
                    <a:lnTo>
                      <a:pt x="162" y="1221"/>
                    </a:lnTo>
                    <a:lnTo>
                      <a:pt x="84" y="781"/>
                    </a:lnTo>
                    <a:lnTo>
                      <a:pt x="308" y="741"/>
                    </a:lnTo>
                    <a:lnTo>
                      <a:pt x="109" y="681"/>
                    </a:lnTo>
                    <a:lnTo>
                      <a:pt x="0" y="705"/>
                    </a:lnTo>
                    <a:lnTo>
                      <a:pt x="0" y="7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03480" y="4497120"/>
                <a:ext cx="392040" cy="376200"/>
              </a:xfrm>
              <a:custGeom>
                <a:avLst/>
                <a:gdLst/>
                <a:ahLst/>
                <a:rect l="l" t="t" r="r" b="b"/>
                <a:pathLst>
                  <a:path w="593" h="646">
                    <a:moveTo>
                      <a:pt x="481" y="0"/>
                    </a:moveTo>
                    <a:lnTo>
                      <a:pt x="451" y="83"/>
                    </a:lnTo>
                    <a:lnTo>
                      <a:pt x="274" y="344"/>
                    </a:lnTo>
                    <a:lnTo>
                      <a:pt x="59" y="511"/>
                    </a:lnTo>
                    <a:lnTo>
                      <a:pt x="118" y="549"/>
                    </a:lnTo>
                    <a:lnTo>
                      <a:pt x="112" y="582"/>
                    </a:lnTo>
                    <a:lnTo>
                      <a:pt x="0" y="629"/>
                    </a:lnTo>
                    <a:lnTo>
                      <a:pt x="101" y="646"/>
                    </a:lnTo>
                    <a:lnTo>
                      <a:pt x="183" y="591"/>
                    </a:lnTo>
                    <a:lnTo>
                      <a:pt x="177" y="526"/>
                    </a:lnTo>
                    <a:lnTo>
                      <a:pt x="156" y="496"/>
                    </a:lnTo>
                    <a:lnTo>
                      <a:pt x="285" y="403"/>
                    </a:lnTo>
                    <a:lnTo>
                      <a:pt x="422" y="194"/>
                    </a:lnTo>
                    <a:lnTo>
                      <a:pt x="494" y="72"/>
                    </a:lnTo>
                    <a:lnTo>
                      <a:pt x="531" y="80"/>
                    </a:lnTo>
                    <a:lnTo>
                      <a:pt x="593" y="59"/>
                    </a:lnTo>
                    <a:lnTo>
                      <a:pt x="521" y="53"/>
                    </a:lnTo>
                    <a:lnTo>
                      <a:pt x="481" y="0"/>
                    </a:lnTo>
                    <a:lnTo>
                      <a:pt x="4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886200" y="4463280"/>
                <a:ext cx="594360" cy="485280"/>
              </a:xfrm>
              <a:custGeom>
                <a:avLst/>
                <a:gdLst/>
                <a:ahLst/>
                <a:rect l="l" t="t" r="r" b="b"/>
                <a:pathLst>
                  <a:path w="902" h="833">
                    <a:moveTo>
                      <a:pt x="508" y="57"/>
                    </a:moveTo>
                    <a:lnTo>
                      <a:pt x="567" y="80"/>
                    </a:lnTo>
                    <a:lnTo>
                      <a:pt x="607" y="55"/>
                    </a:lnTo>
                    <a:lnTo>
                      <a:pt x="613" y="0"/>
                    </a:lnTo>
                    <a:lnTo>
                      <a:pt x="833" y="62"/>
                    </a:lnTo>
                    <a:lnTo>
                      <a:pt x="818" y="101"/>
                    </a:lnTo>
                    <a:lnTo>
                      <a:pt x="824" y="140"/>
                    </a:lnTo>
                    <a:lnTo>
                      <a:pt x="902" y="167"/>
                    </a:lnTo>
                    <a:lnTo>
                      <a:pt x="715" y="348"/>
                    </a:lnTo>
                    <a:lnTo>
                      <a:pt x="468" y="762"/>
                    </a:lnTo>
                    <a:lnTo>
                      <a:pt x="381" y="741"/>
                    </a:lnTo>
                    <a:lnTo>
                      <a:pt x="327" y="783"/>
                    </a:lnTo>
                    <a:lnTo>
                      <a:pt x="322" y="833"/>
                    </a:lnTo>
                    <a:lnTo>
                      <a:pt x="225" y="756"/>
                    </a:lnTo>
                    <a:lnTo>
                      <a:pt x="0" y="692"/>
                    </a:lnTo>
                    <a:lnTo>
                      <a:pt x="80" y="671"/>
                    </a:lnTo>
                    <a:lnTo>
                      <a:pt x="210" y="692"/>
                    </a:lnTo>
                    <a:lnTo>
                      <a:pt x="301" y="745"/>
                    </a:lnTo>
                    <a:lnTo>
                      <a:pt x="327" y="698"/>
                    </a:lnTo>
                    <a:lnTo>
                      <a:pt x="377" y="677"/>
                    </a:lnTo>
                    <a:lnTo>
                      <a:pt x="445" y="686"/>
                    </a:lnTo>
                    <a:lnTo>
                      <a:pt x="537" y="542"/>
                    </a:lnTo>
                    <a:lnTo>
                      <a:pt x="693" y="298"/>
                    </a:lnTo>
                    <a:lnTo>
                      <a:pt x="810" y="186"/>
                    </a:lnTo>
                    <a:lnTo>
                      <a:pt x="765" y="159"/>
                    </a:lnTo>
                    <a:lnTo>
                      <a:pt x="774" y="89"/>
                    </a:lnTo>
                    <a:lnTo>
                      <a:pt x="656" y="45"/>
                    </a:lnTo>
                    <a:lnTo>
                      <a:pt x="620" y="116"/>
                    </a:lnTo>
                    <a:lnTo>
                      <a:pt x="558" y="137"/>
                    </a:lnTo>
                    <a:lnTo>
                      <a:pt x="508" y="57"/>
                    </a:lnTo>
                    <a:lnTo>
                      <a:pt x="50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995080" y="3806640"/>
                <a:ext cx="390960" cy="376200"/>
              </a:xfrm>
              <a:custGeom>
                <a:avLst/>
                <a:gdLst/>
                <a:ahLst/>
                <a:rect l="l" t="t" r="r" b="b"/>
                <a:pathLst>
                  <a:path w="593" h="647">
                    <a:moveTo>
                      <a:pt x="482" y="0"/>
                    </a:moveTo>
                    <a:lnTo>
                      <a:pt x="452" y="84"/>
                    </a:lnTo>
                    <a:lnTo>
                      <a:pt x="273" y="345"/>
                    </a:lnTo>
                    <a:lnTo>
                      <a:pt x="58" y="512"/>
                    </a:lnTo>
                    <a:lnTo>
                      <a:pt x="117" y="550"/>
                    </a:lnTo>
                    <a:lnTo>
                      <a:pt x="114" y="582"/>
                    </a:lnTo>
                    <a:lnTo>
                      <a:pt x="0" y="630"/>
                    </a:lnTo>
                    <a:lnTo>
                      <a:pt x="102" y="647"/>
                    </a:lnTo>
                    <a:lnTo>
                      <a:pt x="182" y="594"/>
                    </a:lnTo>
                    <a:lnTo>
                      <a:pt x="176" y="529"/>
                    </a:lnTo>
                    <a:lnTo>
                      <a:pt x="155" y="497"/>
                    </a:lnTo>
                    <a:lnTo>
                      <a:pt x="285" y="403"/>
                    </a:lnTo>
                    <a:lnTo>
                      <a:pt x="422" y="194"/>
                    </a:lnTo>
                    <a:lnTo>
                      <a:pt x="494" y="73"/>
                    </a:lnTo>
                    <a:lnTo>
                      <a:pt x="530" y="80"/>
                    </a:lnTo>
                    <a:lnTo>
                      <a:pt x="593" y="61"/>
                    </a:lnTo>
                    <a:lnTo>
                      <a:pt x="522" y="54"/>
                    </a:lnTo>
                    <a:lnTo>
                      <a:pt x="482" y="0"/>
                    </a:lnTo>
                    <a:lnTo>
                      <a:pt x="4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976720" y="3772800"/>
                <a:ext cx="595440" cy="485280"/>
              </a:xfrm>
              <a:custGeom>
                <a:avLst/>
                <a:gdLst/>
                <a:ahLst/>
                <a:rect l="l" t="t" r="r" b="b"/>
                <a:pathLst>
                  <a:path w="901" h="833">
                    <a:moveTo>
                      <a:pt x="509" y="57"/>
                    </a:moveTo>
                    <a:lnTo>
                      <a:pt x="566" y="80"/>
                    </a:lnTo>
                    <a:lnTo>
                      <a:pt x="608" y="55"/>
                    </a:lnTo>
                    <a:lnTo>
                      <a:pt x="614" y="0"/>
                    </a:lnTo>
                    <a:lnTo>
                      <a:pt x="833" y="63"/>
                    </a:lnTo>
                    <a:lnTo>
                      <a:pt x="817" y="101"/>
                    </a:lnTo>
                    <a:lnTo>
                      <a:pt x="825" y="141"/>
                    </a:lnTo>
                    <a:lnTo>
                      <a:pt x="901" y="168"/>
                    </a:lnTo>
                    <a:lnTo>
                      <a:pt x="715" y="348"/>
                    </a:lnTo>
                    <a:lnTo>
                      <a:pt x="468" y="763"/>
                    </a:lnTo>
                    <a:lnTo>
                      <a:pt x="382" y="742"/>
                    </a:lnTo>
                    <a:lnTo>
                      <a:pt x="329" y="784"/>
                    </a:lnTo>
                    <a:lnTo>
                      <a:pt x="323" y="833"/>
                    </a:lnTo>
                    <a:lnTo>
                      <a:pt x="226" y="757"/>
                    </a:lnTo>
                    <a:lnTo>
                      <a:pt x="0" y="692"/>
                    </a:lnTo>
                    <a:lnTo>
                      <a:pt x="80" y="671"/>
                    </a:lnTo>
                    <a:lnTo>
                      <a:pt x="209" y="692"/>
                    </a:lnTo>
                    <a:lnTo>
                      <a:pt x="300" y="748"/>
                    </a:lnTo>
                    <a:lnTo>
                      <a:pt x="329" y="698"/>
                    </a:lnTo>
                    <a:lnTo>
                      <a:pt x="376" y="677"/>
                    </a:lnTo>
                    <a:lnTo>
                      <a:pt x="447" y="687"/>
                    </a:lnTo>
                    <a:lnTo>
                      <a:pt x="538" y="542"/>
                    </a:lnTo>
                    <a:lnTo>
                      <a:pt x="694" y="299"/>
                    </a:lnTo>
                    <a:lnTo>
                      <a:pt x="810" y="187"/>
                    </a:lnTo>
                    <a:lnTo>
                      <a:pt x="764" y="160"/>
                    </a:lnTo>
                    <a:lnTo>
                      <a:pt x="774" y="90"/>
                    </a:lnTo>
                    <a:lnTo>
                      <a:pt x="656" y="48"/>
                    </a:lnTo>
                    <a:lnTo>
                      <a:pt x="620" y="118"/>
                    </a:lnTo>
                    <a:lnTo>
                      <a:pt x="557" y="137"/>
                    </a:lnTo>
                    <a:lnTo>
                      <a:pt x="509" y="57"/>
                    </a:lnTo>
                    <a:lnTo>
                      <a:pt x="50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21280" y="4699440"/>
                <a:ext cx="126360" cy="68760"/>
              </a:xfrm>
              <a:custGeom>
                <a:avLst/>
                <a:gdLst/>
                <a:ahLst/>
                <a:rect l="l" t="t" r="r" b="b"/>
                <a:pathLst>
                  <a:path w="190" h="118">
                    <a:moveTo>
                      <a:pt x="19" y="0"/>
                    </a:moveTo>
                    <a:lnTo>
                      <a:pt x="30" y="43"/>
                    </a:lnTo>
                    <a:lnTo>
                      <a:pt x="89" y="78"/>
                    </a:lnTo>
                    <a:lnTo>
                      <a:pt x="135" y="83"/>
                    </a:lnTo>
                    <a:lnTo>
                      <a:pt x="190" y="62"/>
                    </a:lnTo>
                    <a:lnTo>
                      <a:pt x="146" y="118"/>
                    </a:lnTo>
                    <a:lnTo>
                      <a:pt x="59" y="118"/>
                    </a:lnTo>
                    <a:lnTo>
                      <a:pt x="11" y="80"/>
                    </a:lnTo>
                    <a:lnTo>
                      <a:pt x="0" y="36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170240" y="4621680"/>
                <a:ext cx="134640" cy="62640"/>
              </a:xfrm>
              <a:custGeom>
                <a:avLst/>
                <a:gdLst/>
                <a:ahLst/>
                <a:rect l="l" t="t" r="r" b="b"/>
                <a:pathLst>
                  <a:path w="205" h="106">
                    <a:moveTo>
                      <a:pt x="0" y="57"/>
                    </a:moveTo>
                    <a:lnTo>
                      <a:pt x="44" y="34"/>
                    </a:lnTo>
                    <a:lnTo>
                      <a:pt x="97" y="34"/>
                    </a:lnTo>
                    <a:lnTo>
                      <a:pt x="133" y="47"/>
                    </a:lnTo>
                    <a:lnTo>
                      <a:pt x="166" y="66"/>
                    </a:lnTo>
                    <a:lnTo>
                      <a:pt x="175" y="106"/>
                    </a:lnTo>
                    <a:lnTo>
                      <a:pt x="205" y="72"/>
                    </a:lnTo>
                    <a:lnTo>
                      <a:pt x="181" y="41"/>
                    </a:lnTo>
                    <a:lnTo>
                      <a:pt x="116" y="0"/>
                    </a:lnTo>
                    <a:lnTo>
                      <a:pt x="55" y="0"/>
                    </a:lnTo>
                    <a:lnTo>
                      <a:pt x="27" y="9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221160" y="3998880"/>
                <a:ext cx="124920" cy="68400"/>
              </a:xfrm>
              <a:custGeom>
                <a:avLst/>
                <a:gdLst/>
                <a:ahLst/>
                <a:rect l="l" t="t" r="r" b="b"/>
                <a:pathLst>
                  <a:path w="190" h="118">
                    <a:moveTo>
                      <a:pt x="19" y="0"/>
                    </a:moveTo>
                    <a:lnTo>
                      <a:pt x="30" y="44"/>
                    </a:lnTo>
                    <a:lnTo>
                      <a:pt x="91" y="78"/>
                    </a:lnTo>
                    <a:lnTo>
                      <a:pt x="135" y="84"/>
                    </a:lnTo>
                    <a:lnTo>
                      <a:pt x="190" y="63"/>
                    </a:lnTo>
                    <a:lnTo>
                      <a:pt x="146" y="118"/>
                    </a:lnTo>
                    <a:lnTo>
                      <a:pt x="59" y="118"/>
                    </a:lnTo>
                    <a:lnTo>
                      <a:pt x="11" y="82"/>
                    </a:lnTo>
                    <a:lnTo>
                      <a:pt x="0" y="36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268680" y="3921840"/>
                <a:ext cx="137160" cy="61200"/>
              </a:xfrm>
              <a:custGeom>
                <a:avLst/>
                <a:gdLst/>
                <a:ahLst/>
                <a:rect l="l" t="t" r="r" b="b"/>
                <a:pathLst>
                  <a:path w="207" h="107">
                    <a:moveTo>
                      <a:pt x="0" y="57"/>
                    </a:moveTo>
                    <a:lnTo>
                      <a:pt x="44" y="36"/>
                    </a:lnTo>
                    <a:lnTo>
                      <a:pt x="97" y="36"/>
                    </a:lnTo>
                    <a:lnTo>
                      <a:pt x="135" y="48"/>
                    </a:lnTo>
                    <a:lnTo>
                      <a:pt x="165" y="67"/>
                    </a:lnTo>
                    <a:lnTo>
                      <a:pt x="175" y="107"/>
                    </a:lnTo>
                    <a:lnTo>
                      <a:pt x="207" y="72"/>
                    </a:lnTo>
                    <a:lnTo>
                      <a:pt x="181" y="42"/>
                    </a:lnTo>
                    <a:lnTo>
                      <a:pt x="116" y="0"/>
                    </a:lnTo>
                    <a:lnTo>
                      <a:pt x="55" y="0"/>
                    </a:lnTo>
                    <a:lnTo>
                      <a:pt x="29" y="10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321360" y="3597120"/>
                <a:ext cx="209880" cy="2422800"/>
              </a:xfrm>
              <a:custGeom>
                <a:avLst/>
                <a:gdLst/>
                <a:ahLst/>
                <a:rect l="l" t="t" r="r" b="b"/>
                <a:pathLst>
                  <a:path w="317" h="4162">
                    <a:moveTo>
                      <a:pt x="0" y="40"/>
                    </a:moveTo>
                    <a:lnTo>
                      <a:pt x="241" y="0"/>
                    </a:lnTo>
                    <a:lnTo>
                      <a:pt x="317" y="4128"/>
                    </a:lnTo>
                    <a:lnTo>
                      <a:pt x="200" y="4162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305520" y="5704200"/>
                <a:ext cx="3682800" cy="122040"/>
              </a:xfrm>
              <a:custGeom>
                <a:avLst/>
                <a:gdLst/>
                <a:ahLst/>
                <a:rect l="l" t="t" r="r" b="b"/>
                <a:pathLst>
                  <a:path w="5578" h="209">
                    <a:moveTo>
                      <a:pt x="34" y="67"/>
                    </a:moveTo>
                    <a:lnTo>
                      <a:pt x="5546" y="0"/>
                    </a:lnTo>
                    <a:lnTo>
                      <a:pt x="5578" y="209"/>
                    </a:lnTo>
                    <a:lnTo>
                      <a:pt x="0" y="209"/>
                    </a:lnTo>
                    <a:lnTo>
                      <a:pt x="34" y="6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508480" y="43992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08480" y="37843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543800" y="2514600"/>
            <a:ext cx="1219320" cy="36576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520" y="3657600"/>
            <a:ext cx="8610480" cy="53352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68280" y="560520"/>
            <a:ext cx="49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Comic Sans MS"/>
              </a:rPr>
              <a:t>Ejemplos en Latinoam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72000" y="1523880"/>
            <a:ext cx="96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Brasil. </a:t>
            </a:r>
            <a:r>
              <a:rPr b="1" lang="he-I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Programa de 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Nacional de </a:t>
            </a:r>
            <a:r>
              <a:rPr b="1" lang="he-I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Alimenta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ción</a:t>
            </a:r>
            <a:r>
              <a:rPr b="1" lang="he-I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 e Nutri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ción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680" y="2181240"/>
            <a:ext cx="897552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tímulo a acciones que propicien el 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acceso universal</a:t>
            </a: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los alimentos</a:t>
            </a:r>
            <a:r>
              <a:rPr b="1" lang="ar-SA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Garantía de la Seguridad y de la Calidad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y de la prestación de Servicios en el area de ali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Monitoramento de la situación alimentaria y nutricional</a:t>
            </a:r>
            <a:r>
              <a:rPr b="1" lang="ar-SA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Promoción de prácticas alimentarias y estilos de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salud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Prevención y control de déficits nutricionales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nfermedades</a:t>
            </a:r>
            <a:r>
              <a:rPr b="1" lang="ar-SA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 </a:t>
            </a: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asociadas a la alimentación y nut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Promoción de líneas de 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Desarrollo y capacitación de recursos 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58080" y="1600200"/>
            <a:ext cx="78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e crea el 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</a:rPr>
              <a:t>Ministerio de la Seguridad Alimentaria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Comic Sans MS"/>
              </a:rPr>
              <a:t>Combate al Ha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6160" y="407880"/>
            <a:ext cx="438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00"/>
                </a:solidFill>
                <a:latin typeface="Comic Sans MS"/>
              </a:rPr>
              <a:t>Programa Hambre 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40680" y="2712960"/>
            <a:ext cx="861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Objetivo del programa: 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garanti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zar la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segur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dad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limentar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a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y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nutricional 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 l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po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blación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brasil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ñ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Es</a:t>
            </a:r>
            <a:r>
              <a:rPr b="1" lang="he-IL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 u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n</a:t>
            </a:r>
            <a:r>
              <a:rPr b="1" lang="he-IL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a priorida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fome_zero" descr=""/>
          <p:cNvPicPr/>
          <p:nvPr/>
        </p:nvPicPr>
        <p:blipFill>
          <a:blip r:embed="rId1"/>
          <a:stretch/>
        </p:blipFill>
        <p:spPr>
          <a:xfrm>
            <a:off x="2212920" y="4038480"/>
            <a:ext cx="4716360" cy="232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bolsa%20escol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43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14640" y="1770120"/>
            <a:ext cx="851256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Familias con renta inferior a US$32 y con hij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6-15 años en la enseñanza básica </a:t>
            </a:r>
            <a:r>
              <a:rPr b="1" lang="es-ES_tradnl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 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recibe el benef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US$5 mensuales/niño, máximo de US$16/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Arial"/>
              </a:rPr>
              <a:t>Objetivo: promover la educación en familias de b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Arial"/>
              </a:rPr>
              <a:t>Renta, garantizando la permanencia del niño en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Arial"/>
              </a:rPr>
              <a:t>escuela</a:t>
            </a:r>
            <a:r>
              <a:rPr b="1" lang="ar-SA" sz="2400" spc="-1" strike="noStrike">
                <a:solidFill>
                  <a:srgbClr val="003399"/>
                </a:solidFill>
                <a:latin typeface="Comic Sans MS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33840" y="38088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Beca escu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8520" y="228600"/>
            <a:ext cx="8887320" cy="3934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Beca 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Programa de transferencia de renta destinado a famil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en Situación de pobreza, con renta percapita de has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US$35/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Familias con renta percapita de hasta 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US$17/mes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Fijo de US$17/mes. En el caso de hijos de 0-15 añ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  <a:ea typeface="Times New Roman"/>
              </a:rPr>
              <a:t>US$5/hijo hasta US$15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0520" y="5638680"/>
            <a:ext cx="9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1720" y="4267080"/>
            <a:ext cx="655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ctubre 2004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5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,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9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mi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lones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de famíl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Costo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US$ 145.407.078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5715000"/>
            <a:ext cx="634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006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11,4 mil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ones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de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amíl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s-ES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Costo </a:t>
            </a:r>
            <a:r>
              <a:rPr b="1" lang="es-ES" sz="2400" spc="-1" strike="noStrike">
                <a:solidFill>
                  <a:srgbClr val="99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US$ 171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79160" y="398520"/>
            <a:ext cx="55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Principales objetivos de las interve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5960" y="1752480"/>
            <a:ext cx="5626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Transferencia de din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ntrega de ali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ntrega de productos para fines espe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ereales" descr=""/>
          <p:cNvPicPr/>
          <p:nvPr/>
        </p:nvPicPr>
        <p:blipFill>
          <a:blip r:embed="rId1"/>
          <a:stretch/>
        </p:blipFill>
        <p:spPr>
          <a:xfrm>
            <a:off x="6781680" y="4419720"/>
            <a:ext cx="1995480" cy="2235240"/>
          </a:xfrm>
          <a:prstGeom prst="rect">
            <a:avLst/>
          </a:prstGeom>
          <a:ln w="0">
            <a:noFill/>
          </a:ln>
        </p:spPr>
      </p:pic>
      <p:pic>
        <p:nvPicPr>
          <p:cNvPr id="49" name="dinero2" descr=""/>
          <p:cNvPicPr/>
          <p:nvPr/>
        </p:nvPicPr>
        <p:blipFill>
          <a:blip r:embed="rId2"/>
          <a:stretch/>
        </p:blipFill>
        <p:spPr>
          <a:xfrm>
            <a:off x="5181480" y="4724280"/>
            <a:ext cx="1435320" cy="1911600"/>
          </a:xfrm>
          <a:prstGeom prst="rect">
            <a:avLst/>
          </a:prstGeom>
          <a:ln w="0">
            <a:noFill/>
          </a:ln>
        </p:spPr>
      </p:pic>
      <p:pic>
        <p:nvPicPr>
          <p:cNvPr id="50" name="informacion%20nutricional" descr=""/>
          <p:cNvPicPr/>
          <p:nvPr/>
        </p:nvPicPr>
        <p:blipFill>
          <a:blip r:embed="rId3"/>
          <a:stretch/>
        </p:blipFill>
        <p:spPr>
          <a:xfrm>
            <a:off x="7848720" y="3009960"/>
            <a:ext cx="1082520" cy="1295280"/>
          </a:xfrm>
          <a:prstGeom prst="rect">
            <a:avLst/>
          </a:prstGeom>
          <a:ln w="0">
            <a:noFill/>
          </a:ln>
        </p:spPr>
      </p:pic>
      <p:pic>
        <p:nvPicPr>
          <p:cNvPr id="51" name="pesasorejones" descr=""/>
          <p:cNvPicPr/>
          <p:nvPr/>
        </p:nvPicPr>
        <p:blipFill>
          <a:blip r:embed="rId4"/>
          <a:stretch/>
        </p:blipFill>
        <p:spPr>
          <a:xfrm>
            <a:off x="6858000" y="2971800"/>
            <a:ext cx="1028880" cy="1371600"/>
          </a:xfrm>
          <a:prstGeom prst="rect">
            <a:avLst/>
          </a:prstGeom>
          <a:ln w="0">
            <a:noFill/>
          </a:ln>
        </p:spPr>
      </p:pic>
      <p:pic>
        <p:nvPicPr>
          <p:cNvPr id="52" name="piram2" descr=""/>
          <p:cNvPicPr/>
          <p:nvPr/>
        </p:nvPicPr>
        <p:blipFill>
          <a:blip r:embed="rId5"/>
          <a:stretch/>
        </p:blipFill>
        <p:spPr>
          <a:xfrm>
            <a:off x="3429000" y="4952880"/>
            <a:ext cx="162396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80520" y="106668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Comic Sans MS"/>
              </a:rPr>
              <a:t>Programa no gubern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8440" y="38088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Pastoral del Ni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0320" y="1874880"/>
            <a:ext cx="49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alizado por la iglesia cató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1800" y="2579760"/>
            <a:ext cx="82609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inámica: capacitación de líderes comunitarios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siden en la propia comunidad para la movi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 las familias con relación a los cuidados d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hi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4600" y="4648320"/>
            <a:ext cx="86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Visitas domiciliar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as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mens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uales:1 millón visitas/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158040" y="5334120"/>
            <a:ext cx="94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D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í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a d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el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 Peso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: 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32 mil comunidades reúnem a cada m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e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s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7080" y="5943600"/>
            <a:ext cx="62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Reuni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on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es mens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uales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de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l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os líd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09920" y="2746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1440" y="762120"/>
            <a:ext cx="56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1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Apoio integral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a las embar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Rodolfo Buhrer"/>
          <p:cNvPicPr/>
          <p:nvPr/>
        </p:nvPicPr>
        <p:blipFill>
          <a:blip r:embed="rId1"/>
          <a:stretch/>
        </p:blipFill>
        <p:spPr>
          <a:xfrm>
            <a:off x="7543800" y="457200"/>
            <a:ext cx="942840" cy="1886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08440" y="1447920"/>
            <a:ext cx="49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2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ncentivo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lactancia ma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400" y="205740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3.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Vigilância nutricional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0" y="266688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4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Alimenta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ión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enriquec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7800" y="3429000"/>
            <a:ext cx="40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5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ontrol de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la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diar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he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4240" y="4038480"/>
            <a:ext cx="69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6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ontrol de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enfermedades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respirat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o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rias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2960" y="4724280"/>
            <a:ext cx="32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Medicina familiar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126000" y="5456160"/>
            <a:ext cx="68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Preven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ión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de ac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dentes dom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e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sticos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-289080" y="6035760"/>
            <a:ext cx="808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9.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Preven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ión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d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e la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viol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e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ncia contra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el niño en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ambiente 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Arquivo da Pastoral da Criança"/>
          <p:cNvPicPr/>
          <p:nvPr/>
        </p:nvPicPr>
        <p:blipFill>
          <a:blip r:embed="rId2"/>
          <a:stretch/>
        </p:blipFill>
        <p:spPr>
          <a:xfrm>
            <a:off x="6324480" y="4495680"/>
            <a:ext cx="2009880" cy="130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17680" y="1112760"/>
            <a:ext cx="5273640" cy="459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Municípios (64%)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3.55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1360" y="1722600"/>
            <a:ext cx="6950160" cy="459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Comunidades cadastradas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32.74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286000"/>
            <a:ext cx="7712280" cy="459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Líderes comunitários a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c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tuantes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133.13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680" y="2971800"/>
            <a:ext cx="8702640" cy="8254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Famílias acompa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ñ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adas (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promedio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 mens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u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al)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1.135.96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6440" y="3475080"/>
            <a:ext cx="8321760" cy="8254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Embarazadas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 acompanhadas (média mensal)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6.84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2760" y="4084560"/>
            <a:ext cx="86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900"/>
                </a:solidFill>
                <a:latin typeface="Comic Sans MS"/>
                <a:ea typeface="Times New Roman"/>
              </a:rPr>
              <a:t>Niños menores de 6 años acompañados (promedio mensual)</a:t>
            </a:r>
            <a:r>
              <a:rPr b="1" lang="es-ES_tradnl" sz="2400" spc="-1" strike="noStrike">
                <a:solidFill>
                  <a:srgbClr val="004900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1.635.46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2760" y="522756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Adultos mayores 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acompanhados (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promedio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 mens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u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al)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23.17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040" y="6141960"/>
            <a:ext cx="84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Número aproximado de voluntários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153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3440" y="426960"/>
            <a:ext cx="40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Resultado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56640" y="609480"/>
            <a:ext cx="13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Comic Sans MS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1280" y="1673280"/>
            <a:ext cx="666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gresos (donaciones, aporte fiscal y privado):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US$ 9.425.1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71800" y="3308400"/>
            <a:ext cx="5222160" cy="19227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Gastos 200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tención en salud: US$ 7.190.6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sistencia social: US$ 479.7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ducación: US$ 2.368.7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98400" y="627120"/>
            <a:ext cx="255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Lactancia Ma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6560" y="1295280"/>
            <a:ext cx="4105440" cy="486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876920" y="685800"/>
            <a:ext cx="3809880" cy="1562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57200" y="1752480"/>
            <a:ext cx="3333600" cy="2192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04920" y="3429000"/>
            <a:ext cx="3200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Objetivo </a:t>
            </a:r>
            <a:r>
              <a:rPr b="1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comparar el costo de la alimentación complementar de la embarazada con el costo de la alimentación del niño con substitutos de la 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213080" y="2362320"/>
            <a:ext cx="4930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12760" y="4132440"/>
            <a:ext cx="893124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onclusiones: en familias de escasos recursos es más valido garantizar la alimentación complementaria de la embarazada que entregar substitutos lácteos al niñ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8840" y="5715000"/>
            <a:ext cx="862632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hile: Proyect FONIS/2004: Desarrollo de una fórmula láctea para la embaraza. Atalah y c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9920" y="53028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Comic Sans MS"/>
              </a:rPr>
              <a:t>Principales modelos de interv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69840" y="12366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hi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74960" y="1905120"/>
            <a:ext cx="34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ortificación de ali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99280" y="2438280"/>
            <a:ext cx="69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Programa Nacional de Alimentación Compleme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28960" y="345924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Vida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16280" y="2913120"/>
            <a:ext cx="45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Programa de Alimentación Esc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vidachile" descr=""/>
          <p:cNvPicPr/>
          <p:nvPr/>
        </p:nvPicPr>
        <p:blipFill>
          <a:blip r:embed="rId1"/>
          <a:stretch/>
        </p:blipFill>
        <p:spPr>
          <a:xfrm>
            <a:off x="6934320" y="5400720"/>
            <a:ext cx="2030400" cy="1457280"/>
          </a:xfrm>
          <a:prstGeom prst="rect">
            <a:avLst/>
          </a:prstGeom>
          <a:ln w="0">
            <a:noFill/>
          </a:ln>
        </p:spPr>
      </p:pic>
      <p:pic>
        <p:nvPicPr>
          <p:cNvPr id="60" name="FOTO1001" descr=""/>
          <p:cNvPicPr/>
          <p:nvPr/>
        </p:nvPicPr>
        <p:blipFill>
          <a:blip r:embed="rId2"/>
          <a:stretch/>
        </p:blipFill>
        <p:spPr>
          <a:xfrm>
            <a:off x="5105520" y="4114800"/>
            <a:ext cx="1733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33720" y="20574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828800" y="762120"/>
          <a:ext cx="7315200" cy="531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762120"/>
                    <a:ext cx="7315200" cy="53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0" y="304920"/>
            <a:ext cx="6477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Fortificacion Har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1981080"/>
            <a:ext cx="73915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sto del programa para 2002 fue de US $ 275,465  (20 % relacionado a monitorización de la fortificac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or mujer recibiendo 400 ug fue US $ 0.1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. Costo por NTD prevenida US $ 1,57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. Costo por NTD o muerte fetal prevenida  US $ 5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52480" y="1600200"/>
            <a:ext cx="73915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sto por tratamiento medico y gastos en reabilitación durante los primeros 20 años de vida de un paciente con NTD  US $ 100,2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i el programa previene 110 casos son ahorrados US $ 10,973,3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stos del programa por NTD prevenida es 30-40 veces menor que el costo de tratamiento medico y reabil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66680" y="1066680"/>
            <a:ext cx="7315200" cy="55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99"/>
                </a:solidFill>
                <a:latin typeface="Century Gothic"/>
              </a:rPr>
              <a:t>EVALUACIÓN DE IMPAC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99"/>
                </a:solidFill>
                <a:latin typeface="Century Gothic"/>
              </a:rPr>
              <a:t>PROGRAMA DE ALIMENTACIÓN ESCO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9"/>
                </a:solidFill>
                <a:latin typeface="Century Gothic"/>
              </a:rPr>
              <a:t>Fundación Facultad de Ciencias Soc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9"/>
                </a:solidFill>
                <a:latin typeface="Century Gothic"/>
              </a:rPr>
              <a:t>Universidad de Ch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9"/>
                </a:solidFill>
                <a:latin typeface="Century Gothic"/>
              </a:rPr>
              <a:t>JUNAE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9"/>
                </a:solidFill>
                <a:latin typeface="Century Gothic"/>
              </a:rPr>
              <a:t>Departamento de Planificación, Gestión, Estud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Unidad de Investigación y Desarrollo Estraté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entury Gothic"/>
              </a:rPr>
              <a:t>Abril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2666880"/>
            <a:ext cx="8153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log_gob2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1066680" cy="989280"/>
          </a:xfrm>
          <a:prstGeom prst="rect">
            <a:avLst/>
          </a:prstGeom>
          <a:ln w="0">
            <a:noFill/>
          </a:ln>
        </p:spPr>
      </p:pic>
      <p:pic>
        <p:nvPicPr>
          <p:cNvPr id="73" name="ninos22" descr=""/>
          <p:cNvPicPr/>
          <p:nvPr/>
        </p:nvPicPr>
        <p:blipFill>
          <a:blip r:embed="rId2"/>
          <a:stretch/>
        </p:blipFill>
        <p:spPr>
          <a:xfrm>
            <a:off x="3616200" y="5688000"/>
            <a:ext cx="2251080" cy="941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95280" y="836640"/>
            <a:ext cx="739152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Jerarquía de los Objetivos del P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Contribuir a la reducción de la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deserción esc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Contribuir a la reducción de los niveles de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ausent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Contribuir al buen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estado nutricional</a:t>
            </a: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 de los esco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Indicadores de Logro Analiz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295280" y="3246480"/>
          <a:ext cx="7543800" cy="3051000"/>
        </p:xfrm>
        <a:graphic>
          <a:graphicData uri="http://schemas.openxmlformats.org/drawingml/2006/table">
            <a:tbl>
              <a:tblPr/>
              <a:tblGrid>
                <a:gridCol w="3353040"/>
                <a:gridCol w="41907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 Focal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resencia de variables generadoras de vulnerabilidad en los sujet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 PAE como complemento aliment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nsumo del desayuno, almuerzo y once en la casa o en el colegio, sin duplicidad ni sustitu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 PAE como preventor de deserción esco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cuerdo con frases relacionadas con el rol del PAE como preventor de la deserción escol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 PAE como preventor de ausentismo esco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cuerdo con frases relacionadas con el rol del PAE como preventor del ausentismo escol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1906920" y="210960"/>
            <a:ext cx="60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OBJETIVOS DEL PAE E INDICADORES DE LOG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66680" y="304920"/>
            <a:ext cx="784872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Eficacia en el PAE como complemento alimen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Considerando el desayuno, almuerzo y once, el PAE este actúa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60000"/>
              </a:lnSpc>
              <a:buClr>
                <a:srgbClr val="0000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Complemento </a:t>
            </a: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si el/la estudiante consume las tres com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Sustituto </a:t>
            </a: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si el/la estudiante consume menos de tres com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Suplemento </a:t>
            </a: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si el/la estudiante consume más de tres com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5105520"/>
            <a:ext cx="3581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PAE como sustit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5627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12% de los tutores declaran que el alimento del alumno en la semana es </a:t>
            </a:r>
            <a:r>
              <a:rPr b="1" lang="es-ES_tradnl" sz="1800" spc="-1" strike="noStrike">
                <a:solidFill>
                  <a:srgbClr val="990000"/>
                </a:solidFill>
                <a:latin typeface="Comic Sans MS"/>
              </a:rPr>
              <a:t>SIEMPRE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 insu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13,8% de los alumnos no almuerzan o desayunan en casa y solo comen en el cole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981080" y="2819520"/>
          <a:ext cx="4808520" cy="22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19520"/>
                    <a:ext cx="4808520" cy="22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860920" y="2286000"/>
            <a:ext cx="34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PAE como complemento alim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3T22:35:16Z</dcterms:created>
  <dc:creator>Anna Pinheiro</dc:creator>
  <dc:description/>
  <dc:language>en-US</dc:language>
  <cp:lastModifiedBy>Anna Pinheiro</cp:lastModifiedBy>
  <dcterms:modified xsi:type="dcterms:W3CDTF">2004-11-15T00:17:28Z</dcterms:modified>
  <cp:revision>63</cp:revision>
  <dc:subject/>
  <dc:title>Presentación de PowerPoint</dc:title>
</cp:coreProperties>
</file>