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754-2699-424D-95A7-08CDEDDD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860-4B49-4966-A72D-C717977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706-6A66-4026-A742-ADD0ECAE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1E3-D1D9-4EAE-98EC-96471FF9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37C-2809-4F92-B394-7DEE91DB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6DD-17BE-4F12-B7EB-364D1D0E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002-DA4C-4342-9BB3-40D3AB5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C44-7DF1-4632-B216-3AF71B9A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8DD-56F3-4268-9934-633883E7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20C-F4DE-436A-8CB6-0B70BEF7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EB5-C321-4E9A-8F07-5062185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07C-6056-42C7-A27C-C30FB9C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7DA-D7A1-4AB3-9967-C8F88FD5BAA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iño2" descr=""/>
          <p:cNvPicPr/>
          <p:nvPr/>
        </p:nvPicPr>
        <p:blipFill>
          <a:blip r:embed="rId1"/>
          <a:stretch/>
        </p:blipFill>
        <p:spPr>
          <a:xfrm>
            <a:off x="7804080" y="3429000"/>
            <a:ext cx="133992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040" y="1066680"/>
            <a:ext cx="7711920" cy="1922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Intervenciones alimentario nutricionales y su impacto en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334120"/>
            <a:ext cx="571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nna Christina Pinheiro Fern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Sc Nutricion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conomía Alimentaria y Familiar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lzheimer" descr=""/>
          <p:cNvPicPr/>
          <p:nvPr/>
        </p:nvPicPr>
        <p:blipFill>
          <a:blip r:embed="rId2"/>
          <a:stretch/>
        </p:blipFill>
        <p:spPr>
          <a:xfrm>
            <a:off x="7996320" y="5362560"/>
            <a:ext cx="114768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ninos%20pobre" descr=""/>
          <p:cNvPicPr/>
          <p:nvPr/>
        </p:nvPicPr>
        <p:blipFill>
          <a:blip r:embed="rId3"/>
          <a:stretch/>
        </p:blipFill>
        <p:spPr>
          <a:xfrm>
            <a:off x="6629400" y="4738680"/>
            <a:ext cx="13874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71680" y="685800"/>
          <a:ext cx="8001000" cy="153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685800"/>
                    <a:ext cx="800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7680" y="260820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ercepción del PAE como preventor de ausentismo y deser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95280" y="3429000"/>
          <a:ext cx="5752800" cy="1117440"/>
        </p:xfrm>
        <a:graphic>
          <a:graphicData uri="http://schemas.openxmlformats.org/drawingml/2006/table">
            <a:tbl>
              <a:tblPr/>
              <a:tblGrid>
                <a:gridCol w="2829240"/>
                <a:gridCol w="1508760"/>
                <a:gridCol w="14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Si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Ausen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Deser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09480" y="4724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omic Sans MS"/>
              </a:rPr>
              <a:t>Diferencias en deserción escolar en familias pobres según acceden al PA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33920" y="5410080"/>
          <a:ext cx="5105160" cy="1298520"/>
        </p:xfrm>
        <a:graphic>
          <a:graphicData uri="http://schemas.openxmlformats.org/drawingml/2006/table">
            <a:tbl>
              <a:tblPr/>
              <a:tblGrid>
                <a:gridCol w="4339440"/>
                <a:gridCol w="765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ogares pobres con deser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 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120" y="304920"/>
            <a:ext cx="83217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Beneficios Sociales Dire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AE es un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subsidio no monetario – o en especie-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os hogares que l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ciben,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mitiéndoles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ibe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r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ingresos pa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l consumo de otros bie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so a un servicio de alimentación nutricionalment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  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decuad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a las necesidades escolares, que de otra forma no habría sido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sibl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que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edieran.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720" y="25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RESULTADOS DEL COMPONENTE DE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048120"/>
            <a:ext cx="7391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9.1% más de recursos si pretendemos prevenir el ausentismo y la deserción escolar en educación básic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13.6% más de recursos si pretendemos prevenir el ausentismo y la deserción escolar en educación medi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7,2% más de recursos si pretendemos prevenir el ausentismo y la deserción escolar en educación básica y media con otro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90520" y="2397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 DEL COMPON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NTABIL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40" y="1533600"/>
            <a:ext cx="36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3560" y="1438200"/>
            <a:ext cx="67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or cada $ 100 que el Estado invierte en forma anual, el beneficio estimado en términos monetarios generados para la sociedad es de $1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8480" y="3505320"/>
            <a:ext cx="4577760" cy="2514600"/>
            <a:chOff x="2508480" y="3505320"/>
            <a:chExt cx="4577760" cy="2514600"/>
          </a:xfrm>
        </p:grpSpPr>
        <p:sp>
          <p:nvSpPr>
            <p:cNvPr id="96" name=""/>
            <p:cNvSpPr/>
            <p:nvPr/>
          </p:nvSpPr>
          <p:spPr>
            <a:xfrm>
              <a:off x="3321360" y="3505320"/>
              <a:ext cx="3764880" cy="2277000"/>
            </a:xfrm>
            <a:custGeom>
              <a:avLst/>
              <a:gdLst/>
              <a:ahLst/>
              <a:rect l="l" t="t" r="r" b="b"/>
              <a:pathLst>
                <a:path w="5702" h="3913">
                  <a:moveTo>
                    <a:pt x="0" y="84"/>
                  </a:moveTo>
                  <a:lnTo>
                    <a:pt x="306" y="3730"/>
                  </a:lnTo>
                  <a:lnTo>
                    <a:pt x="5445" y="3913"/>
                  </a:lnTo>
                  <a:lnTo>
                    <a:pt x="5702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305520" y="3597120"/>
              <a:ext cx="3776760" cy="2422800"/>
              <a:chOff x="3305520" y="3597120"/>
              <a:chExt cx="3776760" cy="2422800"/>
            </a:xfrm>
          </p:grpSpPr>
          <p:sp>
            <p:nvSpPr>
              <p:cNvPr id="98" name=""/>
              <p:cNvSpPr/>
              <p:nvPr/>
            </p:nvSpPr>
            <p:spPr>
              <a:xfrm>
                <a:off x="3398040" y="3921840"/>
                <a:ext cx="3684240" cy="72000"/>
              </a:xfrm>
              <a:custGeom>
                <a:avLst/>
                <a:gdLst/>
                <a:ahLst/>
                <a:rect l="l" t="t" r="r" b="b"/>
                <a:pathLst>
                  <a:path w="5580" h="126">
                    <a:moveTo>
                      <a:pt x="51" y="0"/>
                    </a:moveTo>
                    <a:lnTo>
                      <a:pt x="5580" y="25"/>
                    </a:lnTo>
                    <a:lnTo>
                      <a:pt x="5580" y="126"/>
                    </a:lnTo>
                    <a:lnTo>
                      <a:pt x="0" y="74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9320" y="4449240"/>
                <a:ext cx="3562560" cy="78120"/>
              </a:xfrm>
              <a:custGeom>
                <a:avLst/>
                <a:gdLst/>
                <a:ahLst/>
                <a:rect l="l" t="t" r="r" b="b"/>
                <a:pathLst>
                  <a:path w="5396" h="133">
                    <a:moveTo>
                      <a:pt x="0" y="0"/>
                    </a:moveTo>
                    <a:lnTo>
                      <a:pt x="5396" y="34"/>
                    </a:lnTo>
                    <a:lnTo>
                      <a:pt x="5396" y="133"/>
                    </a:lnTo>
                    <a:lnTo>
                      <a:pt x="1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86240" y="5103720"/>
                <a:ext cx="3496680" cy="57960"/>
              </a:xfrm>
              <a:custGeom>
                <a:avLst/>
                <a:gdLst/>
                <a:ahLst/>
                <a:rect l="l" t="t" r="r" b="b"/>
                <a:pathLst>
                  <a:path w="5295" h="100">
                    <a:moveTo>
                      <a:pt x="0" y="17"/>
                    </a:moveTo>
                    <a:lnTo>
                      <a:pt x="5295" y="0"/>
                    </a:lnTo>
                    <a:lnTo>
                      <a:pt x="5295" y="100"/>
                    </a:lnTo>
                    <a:lnTo>
                      <a:pt x="15" y="10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63320" y="3615840"/>
                <a:ext cx="81720" cy="2171160"/>
              </a:xfrm>
              <a:custGeom>
                <a:avLst/>
                <a:gdLst/>
                <a:ahLst/>
                <a:rect l="l" t="t" r="r" b="b"/>
                <a:pathLst>
                  <a:path w="123" h="3731">
                    <a:moveTo>
                      <a:pt x="0" y="25"/>
                    </a:moveTo>
                    <a:lnTo>
                      <a:pt x="24" y="3731"/>
                    </a:lnTo>
                    <a:lnTo>
                      <a:pt x="123" y="3721"/>
                    </a:lnTo>
                    <a:lnTo>
                      <a:pt x="8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55240" y="3615840"/>
                <a:ext cx="76320" cy="2180520"/>
              </a:xfrm>
              <a:custGeom>
                <a:avLst/>
                <a:gdLst/>
                <a:ahLst/>
                <a:rect l="l" t="t" r="r" b="b"/>
                <a:pathLst>
                  <a:path w="116" h="3746">
                    <a:moveTo>
                      <a:pt x="0" y="50"/>
                    </a:moveTo>
                    <a:lnTo>
                      <a:pt x="40" y="3746"/>
                    </a:lnTo>
                    <a:lnTo>
                      <a:pt x="116" y="3738"/>
                    </a:lnTo>
                    <a:lnTo>
                      <a:pt x="116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78840" y="3615840"/>
                <a:ext cx="76320" cy="2137320"/>
              </a:xfrm>
              <a:custGeom>
                <a:avLst/>
                <a:gdLst/>
                <a:ahLst/>
                <a:rect l="l" t="t" r="r" b="b"/>
                <a:pathLst>
                  <a:path w="116" h="3672">
                    <a:moveTo>
                      <a:pt x="17" y="0"/>
                    </a:moveTo>
                    <a:lnTo>
                      <a:pt x="0" y="3662"/>
                    </a:lnTo>
                    <a:lnTo>
                      <a:pt x="99" y="3672"/>
                    </a:lnTo>
                    <a:lnTo>
                      <a:pt x="116" y="8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14320" y="3615840"/>
                <a:ext cx="71280" cy="2146680"/>
              </a:xfrm>
              <a:custGeom>
                <a:avLst/>
                <a:gdLst/>
                <a:ahLst/>
                <a:rect l="l" t="t" r="r" b="b"/>
                <a:pathLst>
                  <a:path w="109" h="3689">
                    <a:moveTo>
                      <a:pt x="8" y="17"/>
                    </a:moveTo>
                    <a:lnTo>
                      <a:pt x="0" y="3689"/>
                    </a:lnTo>
                    <a:lnTo>
                      <a:pt x="109" y="3689"/>
                    </a:lnTo>
                    <a:lnTo>
                      <a:pt x="109" y="0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28680" y="3720600"/>
                <a:ext cx="990000" cy="1914840"/>
              </a:xfrm>
              <a:custGeom>
                <a:avLst/>
                <a:gdLst/>
                <a:ahLst/>
                <a:rect l="l" t="t" r="r" b="b"/>
                <a:pathLst>
                  <a:path w="1501" h="3291">
                    <a:moveTo>
                      <a:pt x="109" y="802"/>
                    </a:moveTo>
                    <a:lnTo>
                      <a:pt x="512" y="479"/>
                    </a:lnTo>
                    <a:lnTo>
                      <a:pt x="751" y="213"/>
                    </a:lnTo>
                    <a:lnTo>
                      <a:pt x="877" y="0"/>
                    </a:lnTo>
                    <a:lnTo>
                      <a:pt x="1316" y="59"/>
                    </a:lnTo>
                    <a:lnTo>
                      <a:pt x="1501" y="141"/>
                    </a:lnTo>
                    <a:lnTo>
                      <a:pt x="1364" y="801"/>
                    </a:lnTo>
                    <a:lnTo>
                      <a:pt x="1442" y="3247"/>
                    </a:lnTo>
                    <a:lnTo>
                      <a:pt x="845" y="3291"/>
                    </a:lnTo>
                    <a:lnTo>
                      <a:pt x="137" y="3259"/>
                    </a:lnTo>
                    <a:lnTo>
                      <a:pt x="101" y="1139"/>
                    </a:lnTo>
                    <a:lnTo>
                      <a:pt x="0" y="839"/>
                    </a:lnTo>
                    <a:lnTo>
                      <a:pt x="109" y="802"/>
                    </a:lnTo>
                    <a:lnTo>
                      <a:pt x="109" y="8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1760" y="4413240"/>
                <a:ext cx="990360" cy="1247760"/>
              </a:xfrm>
              <a:custGeom>
                <a:avLst/>
                <a:gdLst/>
                <a:ahLst/>
                <a:rect l="l" t="t" r="r" b="b"/>
                <a:pathLst>
                  <a:path w="1500" h="2145">
                    <a:moveTo>
                      <a:pt x="108" y="803"/>
                    </a:moveTo>
                    <a:lnTo>
                      <a:pt x="511" y="479"/>
                    </a:lnTo>
                    <a:lnTo>
                      <a:pt x="753" y="213"/>
                    </a:lnTo>
                    <a:lnTo>
                      <a:pt x="876" y="0"/>
                    </a:lnTo>
                    <a:lnTo>
                      <a:pt x="1315" y="61"/>
                    </a:lnTo>
                    <a:lnTo>
                      <a:pt x="1500" y="141"/>
                    </a:lnTo>
                    <a:lnTo>
                      <a:pt x="1363" y="801"/>
                    </a:lnTo>
                    <a:lnTo>
                      <a:pt x="1338" y="2090"/>
                    </a:lnTo>
                    <a:lnTo>
                      <a:pt x="760" y="2145"/>
                    </a:lnTo>
                    <a:lnTo>
                      <a:pt x="108" y="2122"/>
                    </a:lnTo>
                    <a:lnTo>
                      <a:pt x="100" y="1139"/>
                    </a:lnTo>
                    <a:lnTo>
                      <a:pt x="0" y="841"/>
                    </a:lnTo>
                    <a:lnTo>
                      <a:pt x="108" y="803"/>
                    </a:lnTo>
                    <a:lnTo>
                      <a:pt x="108" y="80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30680" y="4955760"/>
                <a:ext cx="471240" cy="711000"/>
              </a:xfrm>
              <a:custGeom>
                <a:avLst/>
                <a:gdLst/>
                <a:ahLst/>
                <a:rect l="l" t="t" r="r" b="b"/>
                <a:pathLst>
                  <a:path w="715" h="1220">
                    <a:moveTo>
                      <a:pt x="131" y="0"/>
                    </a:moveTo>
                    <a:lnTo>
                      <a:pt x="319" y="32"/>
                    </a:lnTo>
                    <a:lnTo>
                      <a:pt x="701" y="264"/>
                    </a:lnTo>
                    <a:lnTo>
                      <a:pt x="658" y="760"/>
                    </a:lnTo>
                    <a:lnTo>
                      <a:pt x="715" y="1220"/>
                    </a:lnTo>
                    <a:lnTo>
                      <a:pt x="7" y="1163"/>
                    </a:lnTo>
                    <a:lnTo>
                      <a:pt x="81" y="239"/>
                    </a:lnTo>
                    <a:lnTo>
                      <a:pt x="0" y="25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07520" y="4259520"/>
                <a:ext cx="504360" cy="1378080"/>
              </a:xfrm>
              <a:custGeom>
                <a:avLst/>
                <a:gdLst/>
                <a:ahLst/>
                <a:rect l="l" t="t" r="r" b="b"/>
                <a:pathLst>
                  <a:path w="765" h="2369">
                    <a:moveTo>
                      <a:pt x="0" y="38"/>
                    </a:moveTo>
                    <a:lnTo>
                      <a:pt x="238" y="0"/>
                    </a:lnTo>
                    <a:lnTo>
                      <a:pt x="765" y="272"/>
                    </a:lnTo>
                    <a:lnTo>
                      <a:pt x="709" y="390"/>
                    </a:lnTo>
                    <a:lnTo>
                      <a:pt x="641" y="1219"/>
                    </a:lnTo>
                    <a:lnTo>
                      <a:pt x="688" y="2369"/>
                    </a:lnTo>
                    <a:lnTo>
                      <a:pt x="17" y="2333"/>
                    </a:lnTo>
                    <a:lnTo>
                      <a:pt x="82" y="1449"/>
                    </a:lnTo>
                    <a:lnTo>
                      <a:pt x="101" y="41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4320" y="4476240"/>
                <a:ext cx="478080" cy="43632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59"/>
                    </a:moveTo>
                    <a:lnTo>
                      <a:pt x="67" y="616"/>
                    </a:lnTo>
                    <a:lnTo>
                      <a:pt x="35" y="519"/>
                    </a:lnTo>
                    <a:lnTo>
                      <a:pt x="177" y="416"/>
                    </a:lnTo>
                    <a:lnTo>
                      <a:pt x="337" y="173"/>
                    </a:lnTo>
                    <a:lnTo>
                      <a:pt x="409" y="80"/>
                    </a:lnTo>
                    <a:lnTo>
                      <a:pt x="483" y="83"/>
                    </a:lnTo>
                    <a:lnTo>
                      <a:pt x="535" y="0"/>
                    </a:lnTo>
                    <a:lnTo>
                      <a:pt x="689" y="51"/>
                    </a:lnTo>
                    <a:lnTo>
                      <a:pt x="666" y="102"/>
                    </a:lnTo>
                    <a:lnTo>
                      <a:pt x="725" y="148"/>
                    </a:lnTo>
                    <a:lnTo>
                      <a:pt x="613" y="287"/>
                    </a:lnTo>
                    <a:lnTo>
                      <a:pt x="498" y="431"/>
                    </a:lnTo>
                    <a:lnTo>
                      <a:pt x="327" y="696"/>
                    </a:lnTo>
                    <a:lnTo>
                      <a:pt x="257" y="696"/>
                    </a:lnTo>
                    <a:lnTo>
                      <a:pt x="192" y="751"/>
                    </a:lnTo>
                    <a:lnTo>
                      <a:pt x="90" y="692"/>
                    </a:lnTo>
                    <a:lnTo>
                      <a:pt x="0" y="659"/>
                    </a:lnTo>
                    <a:lnTo>
                      <a:pt x="0" y="659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50880" y="3787920"/>
                <a:ext cx="477720" cy="43740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62"/>
                    </a:moveTo>
                    <a:lnTo>
                      <a:pt x="69" y="616"/>
                    </a:lnTo>
                    <a:lnTo>
                      <a:pt x="36" y="519"/>
                    </a:lnTo>
                    <a:lnTo>
                      <a:pt x="177" y="416"/>
                    </a:lnTo>
                    <a:lnTo>
                      <a:pt x="339" y="175"/>
                    </a:lnTo>
                    <a:lnTo>
                      <a:pt x="409" y="82"/>
                    </a:lnTo>
                    <a:lnTo>
                      <a:pt x="483" y="84"/>
                    </a:lnTo>
                    <a:lnTo>
                      <a:pt x="534" y="0"/>
                    </a:lnTo>
                    <a:lnTo>
                      <a:pt x="690" y="53"/>
                    </a:lnTo>
                    <a:lnTo>
                      <a:pt x="668" y="105"/>
                    </a:lnTo>
                    <a:lnTo>
                      <a:pt x="725" y="148"/>
                    </a:lnTo>
                    <a:lnTo>
                      <a:pt x="612" y="287"/>
                    </a:lnTo>
                    <a:lnTo>
                      <a:pt x="500" y="433"/>
                    </a:lnTo>
                    <a:lnTo>
                      <a:pt x="329" y="698"/>
                    </a:lnTo>
                    <a:lnTo>
                      <a:pt x="259" y="698"/>
                    </a:lnTo>
                    <a:lnTo>
                      <a:pt x="194" y="751"/>
                    </a:lnTo>
                    <a:lnTo>
                      <a:pt x="91" y="694"/>
                    </a:lnTo>
                    <a:lnTo>
                      <a:pt x="0" y="662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41760" y="4413240"/>
                <a:ext cx="1019520" cy="670320"/>
              </a:xfrm>
              <a:custGeom>
                <a:avLst/>
                <a:gdLst/>
                <a:ahLst/>
                <a:rect l="l" t="t" r="r" b="b"/>
                <a:pathLst>
                  <a:path w="1543" h="1152">
                    <a:moveTo>
                      <a:pt x="876" y="0"/>
                    </a:moveTo>
                    <a:lnTo>
                      <a:pt x="678" y="265"/>
                    </a:lnTo>
                    <a:lnTo>
                      <a:pt x="334" y="609"/>
                    </a:lnTo>
                    <a:lnTo>
                      <a:pt x="0" y="841"/>
                    </a:lnTo>
                    <a:lnTo>
                      <a:pt x="275" y="873"/>
                    </a:lnTo>
                    <a:lnTo>
                      <a:pt x="564" y="979"/>
                    </a:lnTo>
                    <a:lnTo>
                      <a:pt x="867" y="1152"/>
                    </a:lnTo>
                    <a:lnTo>
                      <a:pt x="1043" y="797"/>
                    </a:lnTo>
                    <a:lnTo>
                      <a:pt x="1344" y="362"/>
                    </a:lnTo>
                    <a:lnTo>
                      <a:pt x="1543" y="135"/>
                    </a:lnTo>
                    <a:lnTo>
                      <a:pt x="1363" y="48"/>
                    </a:lnTo>
                    <a:lnTo>
                      <a:pt x="958" y="14"/>
                    </a:lnTo>
                    <a:lnTo>
                      <a:pt x="1285" y="93"/>
                    </a:lnTo>
                    <a:lnTo>
                      <a:pt x="1452" y="156"/>
                    </a:lnTo>
                    <a:lnTo>
                      <a:pt x="1317" y="270"/>
                    </a:lnTo>
                    <a:lnTo>
                      <a:pt x="1026" y="694"/>
                    </a:lnTo>
                    <a:lnTo>
                      <a:pt x="817" y="1029"/>
                    </a:lnTo>
                    <a:lnTo>
                      <a:pt x="414" y="841"/>
                    </a:lnTo>
                    <a:lnTo>
                      <a:pt x="184" y="808"/>
                    </a:lnTo>
                    <a:lnTo>
                      <a:pt x="464" y="571"/>
                    </a:lnTo>
                    <a:lnTo>
                      <a:pt x="758" y="247"/>
                    </a:lnTo>
                    <a:lnTo>
                      <a:pt x="876" y="0"/>
                    </a:lnTo>
                    <a:lnTo>
                      <a:pt x="8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41760" y="4491000"/>
                <a:ext cx="1019520" cy="1194120"/>
              </a:xfrm>
              <a:custGeom>
                <a:avLst/>
                <a:gdLst/>
                <a:ahLst/>
                <a:rect l="l" t="t" r="r" b="b"/>
                <a:pathLst>
                  <a:path w="1543" h="2052">
                    <a:moveTo>
                      <a:pt x="0" y="706"/>
                    </a:moveTo>
                    <a:lnTo>
                      <a:pt x="59" y="1017"/>
                    </a:lnTo>
                    <a:lnTo>
                      <a:pt x="76" y="1459"/>
                    </a:lnTo>
                    <a:lnTo>
                      <a:pt x="76" y="2040"/>
                    </a:lnTo>
                    <a:lnTo>
                      <a:pt x="905" y="2052"/>
                    </a:lnTo>
                    <a:lnTo>
                      <a:pt x="1403" y="1976"/>
                    </a:lnTo>
                    <a:lnTo>
                      <a:pt x="1414" y="1082"/>
                    </a:lnTo>
                    <a:lnTo>
                      <a:pt x="1458" y="339"/>
                    </a:lnTo>
                    <a:lnTo>
                      <a:pt x="1543" y="0"/>
                    </a:lnTo>
                    <a:lnTo>
                      <a:pt x="1458" y="71"/>
                    </a:lnTo>
                    <a:lnTo>
                      <a:pt x="1317" y="236"/>
                    </a:lnTo>
                    <a:lnTo>
                      <a:pt x="1367" y="280"/>
                    </a:lnTo>
                    <a:lnTo>
                      <a:pt x="1205" y="527"/>
                    </a:lnTo>
                    <a:lnTo>
                      <a:pt x="1334" y="485"/>
                    </a:lnTo>
                    <a:lnTo>
                      <a:pt x="1119" y="808"/>
                    </a:lnTo>
                    <a:lnTo>
                      <a:pt x="1317" y="765"/>
                    </a:lnTo>
                    <a:lnTo>
                      <a:pt x="1087" y="1050"/>
                    </a:lnTo>
                    <a:lnTo>
                      <a:pt x="1302" y="1067"/>
                    </a:lnTo>
                    <a:lnTo>
                      <a:pt x="1032" y="1352"/>
                    </a:lnTo>
                    <a:lnTo>
                      <a:pt x="1285" y="1335"/>
                    </a:lnTo>
                    <a:lnTo>
                      <a:pt x="1038" y="1523"/>
                    </a:lnTo>
                    <a:lnTo>
                      <a:pt x="1220" y="1573"/>
                    </a:lnTo>
                    <a:lnTo>
                      <a:pt x="1026" y="1723"/>
                    </a:lnTo>
                    <a:lnTo>
                      <a:pt x="1258" y="1788"/>
                    </a:lnTo>
                    <a:lnTo>
                      <a:pt x="861" y="1955"/>
                    </a:lnTo>
                    <a:lnTo>
                      <a:pt x="815" y="1451"/>
                    </a:lnTo>
                    <a:lnTo>
                      <a:pt x="848" y="1120"/>
                    </a:lnTo>
                    <a:lnTo>
                      <a:pt x="576" y="1130"/>
                    </a:lnTo>
                    <a:lnTo>
                      <a:pt x="291" y="1050"/>
                    </a:lnTo>
                    <a:lnTo>
                      <a:pt x="608" y="1373"/>
                    </a:lnTo>
                    <a:lnTo>
                      <a:pt x="308" y="1432"/>
                    </a:lnTo>
                    <a:lnTo>
                      <a:pt x="505" y="1573"/>
                    </a:lnTo>
                    <a:lnTo>
                      <a:pt x="678" y="1637"/>
                    </a:lnTo>
                    <a:lnTo>
                      <a:pt x="458" y="1702"/>
                    </a:lnTo>
                    <a:lnTo>
                      <a:pt x="302" y="1723"/>
                    </a:lnTo>
                    <a:lnTo>
                      <a:pt x="646" y="1905"/>
                    </a:lnTo>
                    <a:lnTo>
                      <a:pt x="161" y="1900"/>
                    </a:lnTo>
                    <a:lnTo>
                      <a:pt x="173" y="1696"/>
                    </a:lnTo>
                    <a:lnTo>
                      <a:pt x="146" y="1379"/>
                    </a:lnTo>
                    <a:lnTo>
                      <a:pt x="156" y="997"/>
                    </a:lnTo>
                    <a:lnTo>
                      <a:pt x="76" y="791"/>
                    </a:lnTo>
                    <a:lnTo>
                      <a:pt x="452" y="765"/>
                    </a:lnTo>
                    <a:lnTo>
                      <a:pt x="108" y="668"/>
                    </a:lnTo>
                    <a:lnTo>
                      <a:pt x="0" y="706"/>
                    </a:lnTo>
                    <a:lnTo>
                      <a:pt x="0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9760" y="3720600"/>
                <a:ext cx="1019160" cy="671400"/>
              </a:xfrm>
              <a:custGeom>
                <a:avLst/>
                <a:gdLst/>
                <a:ahLst/>
                <a:rect l="l" t="t" r="r" b="b"/>
                <a:pathLst>
                  <a:path w="1544" h="1152">
                    <a:moveTo>
                      <a:pt x="877" y="0"/>
                    </a:moveTo>
                    <a:lnTo>
                      <a:pt x="677" y="264"/>
                    </a:lnTo>
                    <a:lnTo>
                      <a:pt x="333" y="608"/>
                    </a:lnTo>
                    <a:lnTo>
                      <a:pt x="0" y="840"/>
                    </a:lnTo>
                    <a:lnTo>
                      <a:pt x="274" y="873"/>
                    </a:lnTo>
                    <a:lnTo>
                      <a:pt x="565" y="979"/>
                    </a:lnTo>
                    <a:lnTo>
                      <a:pt x="865" y="1152"/>
                    </a:lnTo>
                    <a:lnTo>
                      <a:pt x="1044" y="797"/>
                    </a:lnTo>
                    <a:lnTo>
                      <a:pt x="1345" y="359"/>
                    </a:lnTo>
                    <a:lnTo>
                      <a:pt x="1544" y="135"/>
                    </a:lnTo>
                    <a:lnTo>
                      <a:pt x="1354" y="42"/>
                    </a:lnTo>
                    <a:lnTo>
                      <a:pt x="943" y="8"/>
                    </a:lnTo>
                    <a:lnTo>
                      <a:pt x="1308" y="82"/>
                    </a:lnTo>
                    <a:lnTo>
                      <a:pt x="1453" y="156"/>
                    </a:lnTo>
                    <a:lnTo>
                      <a:pt x="1318" y="268"/>
                    </a:lnTo>
                    <a:lnTo>
                      <a:pt x="1027" y="694"/>
                    </a:lnTo>
                    <a:lnTo>
                      <a:pt x="818" y="1029"/>
                    </a:lnTo>
                    <a:lnTo>
                      <a:pt x="415" y="840"/>
                    </a:lnTo>
                    <a:lnTo>
                      <a:pt x="183" y="808"/>
                    </a:lnTo>
                    <a:lnTo>
                      <a:pt x="462" y="570"/>
                    </a:lnTo>
                    <a:lnTo>
                      <a:pt x="759" y="247"/>
                    </a:lnTo>
                    <a:lnTo>
                      <a:pt x="877" y="0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29760" y="3799800"/>
                <a:ext cx="1019160" cy="1879920"/>
              </a:xfrm>
              <a:custGeom>
                <a:avLst/>
                <a:gdLst/>
                <a:ahLst/>
                <a:rect l="l" t="t" r="r" b="b"/>
                <a:pathLst>
                  <a:path w="1544" h="3230">
                    <a:moveTo>
                      <a:pt x="0" y="705"/>
                    </a:moveTo>
                    <a:lnTo>
                      <a:pt x="90" y="1196"/>
                    </a:lnTo>
                    <a:lnTo>
                      <a:pt x="84" y="2361"/>
                    </a:lnTo>
                    <a:lnTo>
                      <a:pt x="103" y="2793"/>
                    </a:lnTo>
                    <a:lnTo>
                      <a:pt x="73" y="3171"/>
                    </a:lnTo>
                    <a:lnTo>
                      <a:pt x="888" y="3230"/>
                    </a:lnTo>
                    <a:lnTo>
                      <a:pt x="1443" y="3158"/>
                    </a:lnTo>
                    <a:lnTo>
                      <a:pt x="1443" y="1392"/>
                    </a:lnTo>
                    <a:lnTo>
                      <a:pt x="1485" y="226"/>
                    </a:lnTo>
                    <a:lnTo>
                      <a:pt x="1544" y="0"/>
                    </a:lnTo>
                    <a:lnTo>
                      <a:pt x="1331" y="179"/>
                    </a:lnTo>
                    <a:lnTo>
                      <a:pt x="1402" y="279"/>
                    </a:lnTo>
                    <a:lnTo>
                      <a:pt x="1284" y="468"/>
                    </a:lnTo>
                    <a:lnTo>
                      <a:pt x="1362" y="563"/>
                    </a:lnTo>
                    <a:lnTo>
                      <a:pt x="1208" y="741"/>
                    </a:lnTo>
                    <a:lnTo>
                      <a:pt x="1343" y="776"/>
                    </a:lnTo>
                    <a:lnTo>
                      <a:pt x="1113" y="1072"/>
                    </a:lnTo>
                    <a:lnTo>
                      <a:pt x="1278" y="1173"/>
                    </a:lnTo>
                    <a:lnTo>
                      <a:pt x="1076" y="1361"/>
                    </a:lnTo>
                    <a:lnTo>
                      <a:pt x="1301" y="1451"/>
                    </a:lnTo>
                    <a:lnTo>
                      <a:pt x="1090" y="1652"/>
                    </a:lnTo>
                    <a:lnTo>
                      <a:pt x="1337" y="1681"/>
                    </a:lnTo>
                    <a:lnTo>
                      <a:pt x="1124" y="1859"/>
                    </a:lnTo>
                    <a:lnTo>
                      <a:pt x="1301" y="1924"/>
                    </a:lnTo>
                    <a:lnTo>
                      <a:pt x="1065" y="2101"/>
                    </a:lnTo>
                    <a:lnTo>
                      <a:pt x="1272" y="2179"/>
                    </a:lnTo>
                    <a:lnTo>
                      <a:pt x="1065" y="2367"/>
                    </a:lnTo>
                    <a:lnTo>
                      <a:pt x="1320" y="2451"/>
                    </a:lnTo>
                    <a:lnTo>
                      <a:pt x="1059" y="2692"/>
                    </a:lnTo>
                    <a:lnTo>
                      <a:pt x="1320" y="2728"/>
                    </a:lnTo>
                    <a:lnTo>
                      <a:pt x="1107" y="2852"/>
                    </a:lnTo>
                    <a:lnTo>
                      <a:pt x="1326" y="2941"/>
                    </a:lnTo>
                    <a:lnTo>
                      <a:pt x="941" y="3101"/>
                    </a:lnTo>
                    <a:lnTo>
                      <a:pt x="841" y="3065"/>
                    </a:lnTo>
                    <a:lnTo>
                      <a:pt x="824" y="1261"/>
                    </a:lnTo>
                    <a:lnTo>
                      <a:pt x="883" y="1061"/>
                    </a:lnTo>
                    <a:lnTo>
                      <a:pt x="468" y="1190"/>
                    </a:lnTo>
                    <a:lnTo>
                      <a:pt x="658" y="1350"/>
                    </a:lnTo>
                    <a:lnTo>
                      <a:pt x="409" y="1521"/>
                    </a:lnTo>
                    <a:lnTo>
                      <a:pt x="639" y="1675"/>
                    </a:lnTo>
                    <a:lnTo>
                      <a:pt x="440" y="1799"/>
                    </a:lnTo>
                    <a:lnTo>
                      <a:pt x="687" y="1989"/>
                    </a:lnTo>
                    <a:lnTo>
                      <a:pt x="434" y="2101"/>
                    </a:lnTo>
                    <a:lnTo>
                      <a:pt x="652" y="2320"/>
                    </a:lnTo>
                    <a:lnTo>
                      <a:pt x="409" y="2398"/>
                    </a:lnTo>
                    <a:lnTo>
                      <a:pt x="658" y="2569"/>
                    </a:lnTo>
                    <a:lnTo>
                      <a:pt x="409" y="2591"/>
                    </a:lnTo>
                    <a:lnTo>
                      <a:pt x="681" y="2841"/>
                    </a:lnTo>
                    <a:lnTo>
                      <a:pt x="451" y="2882"/>
                    </a:lnTo>
                    <a:lnTo>
                      <a:pt x="675" y="3090"/>
                    </a:lnTo>
                    <a:lnTo>
                      <a:pt x="185" y="3078"/>
                    </a:lnTo>
                    <a:lnTo>
                      <a:pt x="162" y="2782"/>
                    </a:lnTo>
                    <a:lnTo>
                      <a:pt x="156" y="2107"/>
                    </a:lnTo>
                    <a:lnTo>
                      <a:pt x="162" y="1221"/>
                    </a:lnTo>
                    <a:lnTo>
                      <a:pt x="84" y="781"/>
                    </a:lnTo>
                    <a:lnTo>
                      <a:pt x="308" y="741"/>
                    </a:lnTo>
                    <a:lnTo>
                      <a:pt x="109" y="681"/>
                    </a:lnTo>
                    <a:lnTo>
                      <a:pt x="0" y="705"/>
                    </a:ln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03480" y="4497120"/>
                <a:ext cx="392040" cy="376200"/>
              </a:xfrm>
              <a:custGeom>
                <a:avLst/>
                <a:gdLst/>
                <a:ahLst/>
                <a:rect l="l" t="t" r="r" b="b"/>
                <a:pathLst>
                  <a:path w="593" h="646">
                    <a:moveTo>
                      <a:pt x="481" y="0"/>
                    </a:moveTo>
                    <a:lnTo>
                      <a:pt x="451" y="83"/>
                    </a:lnTo>
                    <a:lnTo>
                      <a:pt x="274" y="344"/>
                    </a:lnTo>
                    <a:lnTo>
                      <a:pt x="59" y="511"/>
                    </a:lnTo>
                    <a:lnTo>
                      <a:pt x="118" y="549"/>
                    </a:lnTo>
                    <a:lnTo>
                      <a:pt x="112" y="582"/>
                    </a:lnTo>
                    <a:lnTo>
                      <a:pt x="0" y="629"/>
                    </a:lnTo>
                    <a:lnTo>
                      <a:pt x="101" y="646"/>
                    </a:lnTo>
                    <a:lnTo>
                      <a:pt x="183" y="591"/>
                    </a:lnTo>
                    <a:lnTo>
                      <a:pt x="177" y="526"/>
                    </a:lnTo>
                    <a:lnTo>
                      <a:pt x="156" y="496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2"/>
                    </a:lnTo>
                    <a:lnTo>
                      <a:pt x="531" y="80"/>
                    </a:lnTo>
                    <a:lnTo>
                      <a:pt x="593" y="59"/>
                    </a:lnTo>
                    <a:lnTo>
                      <a:pt x="521" y="53"/>
                    </a:lnTo>
                    <a:lnTo>
                      <a:pt x="481" y="0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86200" y="4463280"/>
                <a:ext cx="594360" cy="485280"/>
              </a:xfrm>
              <a:custGeom>
                <a:avLst/>
                <a:gdLst/>
                <a:ahLst/>
                <a:rect l="l" t="t" r="r" b="b"/>
                <a:pathLst>
                  <a:path w="902" h="833">
                    <a:moveTo>
                      <a:pt x="508" y="57"/>
                    </a:moveTo>
                    <a:lnTo>
                      <a:pt x="567" y="80"/>
                    </a:lnTo>
                    <a:lnTo>
                      <a:pt x="607" y="55"/>
                    </a:lnTo>
                    <a:lnTo>
                      <a:pt x="613" y="0"/>
                    </a:lnTo>
                    <a:lnTo>
                      <a:pt x="833" y="62"/>
                    </a:lnTo>
                    <a:lnTo>
                      <a:pt x="818" y="101"/>
                    </a:lnTo>
                    <a:lnTo>
                      <a:pt x="824" y="140"/>
                    </a:lnTo>
                    <a:lnTo>
                      <a:pt x="902" y="167"/>
                    </a:lnTo>
                    <a:lnTo>
                      <a:pt x="715" y="348"/>
                    </a:lnTo>
                    <a:lnTo>
                      <a:pt x="468" y="762"/>
                    </a:lnTo>
                    <a:lnTo>
                      <a:pt x="381" y="741"/>
                    </a:lnTo>
                    <a:lnTo>
                      <a:pt x="327" y="783"/>
                    </a:lnTo>
                    <a:lnTo>
                      <a:pt x="322" y="833"/>
                    </a:lnTo>
                    <a:lnTo>
                      <a:pt x="225" y="756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10" y="692"/>
                    </a:lnTo>
                    <a:lnTo>
                      <a:pt x="301" y="745"/>
                    </a:lnTo>
                    <a:lnTo>
                      <a:pt x="327" y="698"/>
                    </a:lnTo>
                    <a:lnTo>
                      <a:pt x="377" y="677"/>
                    </a:lnTo>
                    <a:lnTo>
                      <a:pt x="445" y="686"/>
                    </a:lnTo>
                    <a:lnTo>
                      <a:pt x="537" y="542"/>
                    </a:lnTo>
                    <a:lnTo>
                      <a:pt x="693" y="298"/>
                    </a:lnTo>
                    <a:lnTo>
                      <a:pt x="810" y="186"/>
                    </a:lnTo>
                    <a:lnTo>
                      <a:pt x="765" y="159"/>
                    </a:lnTo>
                    <a:lnTo>
                      <a:pt x="774" y="89"/>
                    </a:lnTo>
                    <a:lnTo>
                      <a:pt x="656" y="45"/>
                    </a:lnTo>
                    <a:lnTo>
                      <a:pt x="620" y="116"/>
                    </a:lnTo>
                    <a:lnTo>
                      <a:pt x="558" y="137"/>
                    </a:lnTo>
                    <a:lnTo>
                      <a:pt x="508" y="57"/>
                    </a:lnTo>
                    <a:lnTo>
                      <a:pt x="50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95080" y="3806640"/>
                <a:ext cx="390960" cy="376200"/>
              </a:xfrm>
              <a:custGeom>
                <a:avLst/>
                <a:gdLst/>
                <a:ahLst/>
                <a:rect l="l" t="t" r="r" b="b"/>
                <a:pathLst>
                  <a:path w="593" h="647">
                    <a:moveTo>
                      <a:pt x="482" y="0"/>
                    </a:moveTo>
                    <a:lnTo>
                      <a:pt x="452" y="84"/>
                    </a:lnTo>
                    <a:lnTo>
                      <a:pt x="273" y="345"/>
                    </a:lnTo>
                    <a:lnTo>
                      <a:pt x="58" y="512"/>
                    </a:lnTo>
                    <a:lnTo>
                      <a:pt x="117" y="550"/>
                    </a:lnTo>
                    <a:lnTo>
                      <a:pt x="114" y="582"/>
                    </a:lnTo>
                    <a:lnTo>
                      <a:pt x="0" y="630"/>
                    </a:lnTo>
                    <a:lnTo>
                      <a:pt x="102" y="647"/>
                    </a:lnTo>
                    <a:lnTo>
                      <a:pt x="182" y="594"/>
                    </a:lnTo>
                    <a:lnTo>
                      <a:pt x="176" y="529"/>
                    </a:lnTo>
                    <a:lnTo>
                      <a:pt x="155" y="497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3"/>
                    </a:lnTo>
                    <a:lnTo>
                      <a:pt x="530" y="80"/>
                    </a:lnTo>
                    <a:lnTo>
                      <a:pt x="593" y="61"/>
                    </a:lnTo>
                    <a:lnTo>
                      <a:pt x="522" y="54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76720" y="3772800"/>
                <a:ext cx="595440" cy="485280"/>
              </a:xfrm>
              <a:custGeom>
                <a:avLst/>
                <a:gdLst/>
                <a:ahLst/>
                <a:rect l="l" t="t" r="r" b="b"/>
                <a:pathLst>
                  <a:path w="901" h="833">
                    <a:moveTo>
                      <a:pt x="509" y="57"/>
                    </a:moveTo>
                    <a:lnTo>
                      <a:pt x="566" y="80"/>
                    </a:lnTo>
                    <a:lnTo>
                      <a:pt x="608" y="55"/>
                    </a:lnTo>
                    <a:lnTo>
                      <a:pt x="614" y="0"/>
                    </a:lnTo>
                    <a:lnTo>
                      <a:pt x="833" y="63"/>
                    </a:lnTo>
                    <a:lnTo>
                      <a:pt x="817" y="101"/>
                    </a:lnTo>
                    <a:lnTo>
                      <a:pt x="825" y="141"/>
                    </a:lnTo>
                    <a:lnTo>
                      <a:pt x="901" y="168"/>
                    </a:lnTo>
                    <a:lnTo>
                      <a:pt x="715" y="348"/>
                    </a:lnTo>
                    <a:lnTo>
                      <a:pt x="468" y="763"/>
                    </a:lnTo>
                    <a:lnTo>
                      <a:pt x="382" y="742"/>
                    </a:lnTo>
                    <a:lnTo>
                      <a:pt x="329" y="784"/>
                    </a:lnTo>
                    <a:lnTo>
                      <a:pt x="323" y="833"/>
                    </a:lnTo>
                    <a:lnTo>
                      <a:pt x="226" y="757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09" y="692"/>
                    </a:lnTo>
                    <a:lnTo>
                      <a:pt x="300" y="748"/>
                    </a:lnTo>
                    <a:lnTo>
                      <a:pt x="329" y="698"/>
                    </a:lnTo>
                    <a:lnTo>
                      <a:pt x="376" y="677"/>
                    </a:lnTo>
                    <a:lnTo>
                      <a:pt x="447" y="687"/>
                    </a:lnTo>
                    <a:lnTo>
                      <a:pt x="538" y="542"/>
                    </a:lnTo>
                    <a:lnTo>
                      <a:pt x="694" y="299"/>
                    </a:lnTo>
                    <a:lnTo>
                      <a:pt x="810" y="187"/>
                    </a:lnTo>
                    <a:lnTo>
                      <a:pt x="764" y="160"/>
                    </a:lnTo>
                    <a:lnTo>
                      <a:pt x="774" y="90"/>
                    </a:lnTo>
                    <a:lnTo>
                      <a:pt x="656" y="48"/>
                    </a:lnTo>
                    <a:lnTo>
                      <a:pt x="620" y="118"/>
                    </a:lnTo>
                    <a:lnTo>
                      <a:pt x="557" y="137"/>
                    </a:lnTo>
                    <a:lnTo>
                      <a:pt x="509" y="57"/>
                    </a:lnTo>
                    <a:lnTo>
                      <a:pt x="50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1280" y="4699440"/>
                <a:ext cx="126360" cy="687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3"/>
                    </a:lnTo>
                    <a:lnTo>
                      <a:pt x="89" y="78"/>
                    </a:lnTo>
                    <a:lnTo>
                      <a:pt x="135" y="83"/>
                    </a:lnTo>
                    <a:lnTo>
                      <a:pt x="190" y="62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0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70240" y="4621680"/>
                <a:ext cx="134640" cy="62640"/>
              </a:xfrm>
              <a:custGeom>
                <a:avLst/>
                <a:gdLst/>
                <a:ahLst/>
                <a:rect l="l" t="t" r="r" b="b"/>
                <a:pathLst>
                  <a:path w="205" h="106">
                    <a:moveTo>
                      <a:pt x="0" y="57"/>
                    </a:moveTo>
                    <a:lnTo>
                      <a:pt x="44" y="34"/>
                    </a:lnTo>
                    <a:lnTo>
                      <a:pt x="97" y="34"/>
                    </a:lnTo>
                    <a:lnTo>
                      <a:pt x="133" y="47"/>
                    </a:lnTo>
                    <a:lnTo>
                      <a:pt x="166" y="66"/>
                    </a:lnTo>
                    <a:lnTo>
                      <a:pt x="175" y="106"/>
                    </a:lnTo>
                    <a:lnTo>
                      <a:pt x="205" y="72"/>
                    </a:lnTo>
                    <a:lnTo>
                      <a:pt x="181" y="41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7" y="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21160" y="399888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4"/>
                    </a:lnTo>
                    <a:lnTo>
                      <a:pt x="91" y="78"/>
                    </a:lnTo>
                    <a:lnTo>
                      <a:pt x="135" y="84"/>
                    </a:lnTo>
                    <a:lnTo>
                      <a:pt x="190" y="63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2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68680" y="3921840"/>
                <a:ext cx="137160" cy="61200"/>
              </a:xfrm>
              <a:custGeom>
                <a:avLst/>
                <a:gdLst/>
                <a:ahLst/>
                <a:rect l="l" t="t" r="r" b="b"/>
                <a:pathLst>
                  <a:path w="207" h="107">
                    <a:moveTo>
                      <a:pt x="0" y="57"/>
                    </a:moveTo>
                    <a:lnTo>
                      <a:pt x="44" y="36"/>
                    </a:lnTo>
                    <a:lnTo>
                      <a:pt x="97" y="36"/>
                    </a:lnTo>
                    <a:lnTo>
                      <a:pt x="135" y="48"/>
                    </a:lnTo>
                    <a:lnTo>
                      <a:pt x="165" y="67"/>
                    </a:lnTo>
                    <a:lnTo>
                      <a:pt x="175" y="107"/>
                    </a:lnTo>
                    <a:lnTo>
                      <a:pt x="207" y="72"/>
                    </a:lnTo>
                    <a:lnTo>
                      <a:pt x="181" y="42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9" y="1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21360" y="3597120"/>
                <a:ext cx="209880" cy="2422800"/>
              </a:xfrm>
              <a:custGeom>
                <a:avLst/>
                <a:gdLst/>
                <a:ahLst/>
                <a:rect l="l" t="t" r="r" b="b"/>
                <a:pathLst>
                  <a:path w="317" h="4162">
                    <a:moveTo>
                      <a:pt x="0" y="40"/>
                    </a:moveTo>
                    <a:lnTo>
                      <a:pt x="241" y="0"/>
                    </a:lnTo>
                    <a:lnTo>
                      <a:pt x="317" y="4128"/>
                    </a:lnTo>
                    <a:lnTo>
                      <a:pt x="200" y="4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520" y="5704200"/>
                <a:ext cx="3682800" cy="122040"/>
              </a:xfrm>
              <a:custGeom>
                <a:avLst/>
                <a:gdLst/>
                <a:ahLst/>
                <a:rect l="l" t="t" r="r" b="b"/>
                <a:pathLst>
                  <a:path w="5578" h="209">
                    <a:moveTo>
                      <a:pt x="34" y="67"/>
                    </a:moveTo>
                    <a:lnTo>
                      <a:pt x="5546" y="0"/>
                    </a:lnTo>
                    <a:lnTo>
                      <a:pt x="5578" y="209"/>
                    </a:lnTo>
                    <a:lnTo>
                      <a:pt x="0" y="209"/>
                    </a:lnTo>
                    <a:lnTo>
                      <a:pt x="34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508480" y="43992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08480" y="3784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43800" y="2514600"/>
            <a:ext cx="1219320" cy="36576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365760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8280" y="5605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Ejemplos en Latinoa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2000" y="1523880"/>
            <a:ext cx="96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rasil.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Programa de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Nacional de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 e Nutri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80" y="2181240"/>
            <a:ext cx="89755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tímulo a acciones que propicien el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cceso universal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los alimento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Garantía de la Seguridad y de la Cali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y de la prestación de Servicios en el area de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Monitoramento de la situación alimentaria y nutricional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Promoción de prácticas alimentarias y estilos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alu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evención y control de déficits nutricional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asociadas a la alimentación y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omoción de líneas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Desarrollo y capacitación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8080" y="1600200"/>
            <a:ext cx="78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e crea el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Ministerio de la Seguridad Alimentari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Combate al Ha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160" y="407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Programa Hambre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0680" y="2712960"/>
            <a:ext cx="86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bjetivo del programa: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arant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ar l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egu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dad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liment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nutricional 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 l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p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lación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bras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Es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 u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a prior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ome_zero" descr=""/>
          <p:cNvPicPr/>
          <p:nvPr/>
        </p:nvPicPr>
        <p:blipFill>
          <a:blip r:embed="rId1"/>
          <a:stretch/>
        </p:blipFill>
        <p:spPr>
          <a:xfrm>
            <a:off x="2212920" y="4038480"/>
            <a:ext cx="4716360" cy="232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olsa%20esco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40" y="1770120"/>
            <a:ext cx="85125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inferior a US$32 y con hij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6-15 años en la enseñanza básica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ecibe el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5 mensuales/niño, máximo de US$16/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Objetivo: promover la educación en familias de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Renta, garantizando la permanencia del niño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escuela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3840" y="3808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Beca esc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8520" y="228600"/>
            <a:ext cx="8887320" cy="3934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Bec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Programa de transferencia de renta destinado a famil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en Situación de pobreza, con renta percapita de ha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35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percapita de hasta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US$17/mes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ijo de US$17/mes. En el caso de hijos de 0-15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US$5/hijo hasta US$15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520" y="563868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720" y="4267080"/>
            <a:ext cx="65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tubre 2004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5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m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 famí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US$ 145.407.078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715000"/>
            <a:ext cx="63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06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1,4 m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mí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US$ 17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9160" y="39852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incipales objetivos de las inter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5960" y="1752480"/>
            <a:ext cx="562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erencia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productos para fin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ereales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1995480" cy="2235240"/>
          </a:xfrm>
          <a:prstGeom prst="rect">
            <a:avLst/>
          </a:prstGeom>
          <a:ln w="0">
            <a:noFill/>
          </a:ln>
        </p:spPr>
      </p:pic>
      <p:pic>
        <p:nvPicPr>
          <p:cNvPr id="49" name="dinero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1435320" cy="1911600"/>
          </a:xfrm>
          <a:prstGeom prst="rect">
            <a:avLst/>
          </a:prstGeom>
          <a:ln w="0">
            <a:noFill/>
          </a:ln>
        </p:spPr>
      </p:pic>
      <p:pic>
        <p:nvPicPr>
          <p:cNvPr id="50" name="informacion%20nutricional" descr=""/>
          <p:cNvPicPr/>
          <p:nvPr/>
        </p:nvPicPr>
        <p:blipFill>
          <a:blip r:embed="rId3"/>
          <a:stretch/>
        </p:blipFill>
        <p:spPr>
          <a:xfrm>
            <a:off x="7848720" y="300996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esasorejones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ram2" descr=""/>
          <p:cNvPicPr/>
          <p:nvPr/>
        </p:nvPicPr>
        <p:blipFill>
          <a:blip r:embed="rId5"/>
          <a:stretch/>
        </p:blipFill>
        <p:spPr>
          <a:xfrm>
            <a:off x="3429000" y="4952880"/>
            <a:ext cx="1623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80520" y="106668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rograma no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440" y="3808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Pastoral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0320" y="18748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alizado por la iglesia cat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1800" y="2579760"/>
            <a:ext cx="82609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námica: capacitación de líderes comunitari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siden en la propia comunidad para la movi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 las familias con relación a los cuidados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h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600" y="4648320"/>
            <a:ext cx="86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sitas domicil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a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uales:1 millón visitas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158040" y="5334120"/>
            <a:ext cx="9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í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 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Peso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: 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32 mil comunidades reúnem a cada m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7080" y="594360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Reuni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n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s men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uales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s líd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09920" y="274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440" y="76212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poio integral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 las embar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Rodolfo Buhrer"/>
          <p:cNvPicPr/>
          <p:nvPr/>
        </p:nvPicPr>
        <p:blipFill>
          <a:blip r:embed="rId1"/>
          <a:stretch/>
        </p:blipFill>
        <p:spPr>
          <a:xfrm>
            <a:off x="7543800" y="457200"/>
            <a:ext cx="942840" cy="1886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8440" y="1447920"/>
            <a:ext cx="49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centivo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0574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gilância nutriciona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0" y="26668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enriquec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800" y="3429000"/>
            <a:ext cx="40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5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h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240" y="4038480"/>
            <a:ext cx="69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6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respirat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ia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960" y="472428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dicina famili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26000" y="545616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e ac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dentes dom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tico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289080" y="6035760"/>
            <a:ext cx="80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9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 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viol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cia contra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l niñ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mbient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Arquivo da Pastoral da Criança"/>
          <p:cNvPicPr/>
          <p:nvPr/>
        </p:nvPicPr>
        <p:blipFill>
          <a:blip r:embed="rId2"/>
          <a:stretch/>
        </p:blipFill>
        <p:spPr>
          <a:xfrm>
            <a:off x="6324480" y="4495680"/>
            <a:ext cx="2009880" cy="13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17680" y="1112760"/>
            <a:ext cx="527364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Municípios (64%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55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360" y="1722600"/>
            <a:ext cx="695016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omunidades cadastrada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2.74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771228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Líderes comunitários 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tuante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33.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680" y="2971800"/>
            <a:ext cx="870264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Famílias acomp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ñ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a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135.96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6440" y="3475080"/>
            <a:ext cx="832176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Embarazadas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acompanhadas (média mens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6.84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760" y="408456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900"/>
                </a:solidFill>
                <a:latin typeface="Comic Sans MS"/>
                <a:ea typeface="Times New Roman"/>
              </a:rPr>
              <a:t>Niños menores de 6 años acompañados (promedio mensual)</a:t>
            </a:r>
            <a:r>
              <a:rPr b="1" lang="es-ES_tradnl" sz="2400" spc="-1" strike="noStrike">
                <a:solidFill>
                  <a:srgbClr val="004900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635.4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" y="52275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ultos mayores 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companhado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3.1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040" y="614196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Número aproximado de voluntário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53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440" y="42696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6640" y="60948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1280" y="1673280"/>
            <a:ext cx="66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gresos (donaciones, aporte fiscal y privado)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S$ 9.425.1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3308400"/>
            <a:ext cx="522216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astos 200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tención en salud: US$ 7.190.6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sistencia social: US$ 479.7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: US$ 2.368.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98400" y="62712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ctancia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6560" y="1295280"/>
            <a:ext cx="4105440" cy="4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09880" cy="1562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3333600" cy="219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42900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bjetivo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comparar el costo de la alimentación complementar de la embarazada con el costo de la alimentación del niño con substitutos de la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13080" y="2362320"/>
            <a:ext cx="49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2760" y="4132440"/>
            <a:ext cx="89312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nclusiones: en familias de escasos recursos es más valido garantizar la alimentación complementaria de la embarazada que entregar substitutos lácteos al niñ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840" y="5715000"/>
            <a:ext cx="86263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 Proyect FONIS/2004: Desarrollo de una fórmula láctea para la embaraza. Atalah y 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9920" y="5302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Principales modelos de inter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9840" y="1236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4960" y="19051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ortificación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9280" y="2438280"/>
            <a:ext cx="69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Nacional de Aliment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8960" y="3459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ida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16280" y="2913120"/>
            <a:ext cx="45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de Alimenta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vidachile" descr=""/>
          <p:cNvPicPr/>
          <p:nvPr/>
        </p:nvPicPr>
        <p:blipFill>
          <a:blip r:embed="rId1"/>
          <a:stretch/>
        </p:blipFill>
        <p:spPr>
          <a:xfrm>
            <a:off x="6934320" y="5400720"/>
            <a:ext cx="203040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FOTO1001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173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20574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762120"/>
          <a:ext cx="7315200" cy="53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762120"/>
                    <a:ext cx="73152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Fortificacion Ha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8108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del programa para 2002 fue de US $ 275,465  (20 % relacionado a monitorización de la fortificac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r mujer recibiendo 400 ug fue US $ 0.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Costo por NTD prevenida US $ 1,57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Costo por NTD o muerte fetal prevenida  US $ 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160020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por tratamiento medico y gastos en reabilitación durante los primeros 20 años de vida de un paciente con NTD  US $ 100,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 el programa previene 110 casos son ahorrados US $ 10,973,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s del programa por NTD prevenida es 30-40 veces menor que el costo de tratamiento medico y reabil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066680"/>
            <a:ext cx="731520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EVALUACIÓN DE IMPA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PROGRAMA DE ALIMENTACIÓN ESCO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Fundación Facultad de Ciencia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JUNA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Departamento de Planificación, Gestión, Estu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Unidad de Investigación y Desarroll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entury Gothic"/>
              </a:rPr>
              <a:t>Abril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666880"/>
            <a:ext cx="8153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_gob2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1066680" cy="989280"/>
          </a:xfrm>
          <a:prstGeom prst="rect">
            <a:avLst/>
          </a:prstGeom>
          <a:ln w="0">
            <a:noFill/>
          </a:ln>
        </p:spPr>
      </p:pic>
      <p:pic>
        <p:nvPicPr>
          <p:cNvPr id="73" name="ninos22" descr=""/>
          <p:cNvPicPr/>
          <p:nvPr/>
        </p:nvPicPr>
        <p:blipFill>
          <a:blip r:embed="rId2"/>
          <a:stretch/>
        </p:blipFill>
        <p:spPr>
          <a:xfrm>
            <a:off x="3616200" y="5688000"/>
            <a:ext cx="2251080" cy="94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836640"/>
            <a:ext cx="739152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Jerarquía de los Objetivos del 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a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deserción esc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os niveles d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ausen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l buen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estado nutricional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 de los esco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Indicadores de Logro An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95280" y="3246480"/>
          <a:ext cx="7543800" cy="3051000"/>
        </p:xfrm>
        <a:graphic>
          <a:graphicData uri="http://schemas.openxmlformats.org/drawingml/2006/table">
            <a:tbl>
              <a:tblPr/>
              <a:tblGrid>
                <a:gridCol w="3353040"/>
                <a:gridCol w="4190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 Focal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sencia de variables generadoras de vulnerabilidad en los suje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 PAE como complemento alimen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nsumo del desayuno, almuerzo y once en la casa o en el colegio, sin duplicidad ni sustitu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 PAE como preventor de deserción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 la deserción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 PAE como preventor de ausentismo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l ausentismo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06920" y="210960"/>
            <a:ext cx="60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OBJETIVOS DEL PAE E INDICADORES DE 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304920"/>
            <a:ext cx="7848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ficacia en el PAE como complemento ali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siderando el desayuno, almuerzo y once, el PAE este actúa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6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Com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las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stitu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eno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á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1055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AE como su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2% de los tutores declaran que el alimento del alumno en la semana es </a:t>
            </a:r>
            <a:r>
              <a:rPr b="1" lang="es-ES_tradnl" sz="1800" spc="-1" strike="noStrike">
                <a:solidFill>
                  <a:srgbClr val="990000"/>
                </a:solidFill>
                <a:latin typeface="Comic Sans MS"/>
              </a:rPr>
              <a:t>SIEMPRE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in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3,8% de los alumnos no almuerzan o desayunan en casa y solo comen en el cole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81080" y="2819520"/>
          <a:ext cx="48085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8085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860920" y="2286000"/>
            <a:ext cx="34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PAE como complemento ali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22:35:16Z</dcterms:created>
  <dc:creator>Anna Pinheiro</dc:creator>
  <dc:description/>
  <dc:language>en-US</dc:language>
  <cp:lastModifiedBy>Anna Pinheiro</cp:lastModifiedBy>
  <dcterms:modified xsi:type="dcterms:W3CDTF">2004-11-15T00:17:28Z</dcterms:modified>
  <cp:revision>63</cp:revision>
  <dc:subject/>
  <dc:title>Presentación de PowerPoint</dc:title>
</cp:coreProperties>
</file>