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1.jpeg" ContentType="image/jpeg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6671-50E7-4CDC-BE7B-C782569D9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0901-7C2A-4AF8-A5E8-10A019374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700F-2943-4812-8840-740234F32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331D-7C73-411D-B8DB-4DC540D05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19F4-EA13-4E72-AADA-7FEDE27C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534D-87E5-4884-8AFB-14445812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29E2D-DCA6-46E3-8892-37B2EEE3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974B-EF10-4076-A1F0-70C3112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6F479-5B48-470C-BE1D-C967B56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CA1A-D902-4FEB-9E7C-0F53CD2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D6CC8-23ED-49CD-BD2E-9D103F7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E407-0C50-470B-A542-EE81627DF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F4354-CC9A-4FFB-BE79-B8C2C4F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B0BB2-4CB0-4C72-B27B-BDC2DFA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D0EF-9478-48F5-92F0-A36D2C9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0DE0-FEDF-4F83-A56D-6D2430E1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B11E-CD8E-4D51-997F-950213B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FC18-F5CA-45DC-B865-A485FDEA5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6D7B-4257-4069-8529-4AA5FB753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432D-0491-41C6-A521-CCB1D396B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B8B9-2126-4A51-8909-8F48107C7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01E3-500A-4878-84B4-F08FC5918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1E7D-5CEE-4DCE-93E2-6B8E4583C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B3A0-E11C-4C68-8639-94EFE2323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685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143000"/>
            <a:ext cx="6094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143000"/>
            <a:ext cx="5605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5335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Fundación Niño y Cá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44EF-2D6D-44CF-92F4-100722D6DF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E1DC-4E86-4BAD-93EF-022F8D6A0AE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819520"/>
            <a:ext cx="9143640" cy="976320"/>
            <a:chOff x="0" y="2819520"/>
            <a:chExt cx="9143640" cy="976320"/>
          </a:xfrm>
        </p:grpSpPr>
        <p:grpSp>
          <p:nvGrpSpPr>
            <p:cNvPr id="52" name=""/>
            <p:cNvGrpSpPr/>
            <p:nvPr/>
          </p:nvGrpSpPr>
          <p:grpSpPr>
            <a:xfrm>
              <a:off x="294840" y="2919600"/>
              <a:ext cx="721440" cy="440280"/>
              <a:chOff x="294840" y="2919600"/>
              <a:chExt cx="721440" cy="440280"/>
            </a:xfrm>
          </p:grpSpPr>
          <p:sp>
            <p:nvSpPr>
              <p:cNvPr id="53" name=""/>
              <p:cNvSpPr/>
              <p:nvPr/>
            </p:nvSpPr>
            <p:spPr>
              <a:xfrm>
                <a:off x="294840" y="2919600"/>
                <a:ext cx="443880" cy="44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83280" y="2919600"/>
                <a:ext cx="3330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0480" y="3311280"/>
              <a:ext cx="748440" cy="440280"/>
              <a:chOff x="420480" y="3311280"/>
              <a:chExt cx="748440" cy="440280"/>
            </a:xfrm>
          </p:grpSpPr>
          <p:sp>
            <p:nvSpPr>
              <p:cNvPr id="56" name=""/>
              <p:cNvSpPr/>
              <p:nvPr/>
            </p:nvSpPr>
            <p:spPr>
              <a:xfrm>
                <a:off x="420480" y="3311280"/>
                <a:ext cx="427680" cy="440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4520" y="3311280"/>
                <a:ext cx="3744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3243240"/>
              <a:ext cx="568800" cy="39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400" y="2819520"/>
              <a:ext cx="32040" cy="9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0760" y="3582000"/>
              <a:ext cx="8822880" cy="5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Modelos de intervención </a:t>
            </a: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alimentario nutricional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ardo Atala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partamento de Nutrició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acultad de Medicin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1588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5029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Prevalencia de RN con peso al nacer menor de 2.500 gr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1520" y="6248520"/>
            <a:ext cx="76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Fuente  : SCN/UNS. 5th Report of the World Nutrition Situation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228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Se están cumpliendo las metas de la Cumbre Mundial de la Alimentac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en desarrollo con alta mortalidad (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DALYs)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desarrollado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(DALYs)</a:t>
            </a: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06440" y="228600"/>
            <a:ext cx="843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tuación nutricional del niño </a:t>
            </a:r>
            <a:br>
              <a:rPr sz="3600"/>
            </a:b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menor de 6 años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6324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ente: Ministerio de Salud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908000"/>
            <a:ext cx="856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sectoriales con 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osible impacto en nutri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neamient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gric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Viv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0644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Programas de reducción 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de la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477120" cy="304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63244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5840" y="1295280"/>
            <a:ext cx="8839080" cy="4819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"/>
              </a:rPr>
              <a:t>Programas de agua potable y alcantarillado  (Chile sectores urb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de educa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asa de analfabetismo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Promedio de años de estudio ha aumentado de 4,0 a 9,2 en las personas de menores ingre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2003: se decretan 12 años de educación  obligatoria: 8 de básica, 4 d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060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30600" y="254160"/>
            <a:ext cx="59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en Alimentación y </a:t>
            </a:r>
            <a:br>
              <a:rPr sz="2800"/>
            </a:b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Nutrición para la Enseñanza Bás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6095880"/>
            <a:ext cx="74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www.inta.cl/educacionennutricion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Alimentación: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dimensión ética y moral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7662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oda persona tiene derecho a un ni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 vida adecuado que le asegure, así como a su familia, la salud y el bienestar,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y en especial la alimentación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, el vestido, la vivienda, la asistencia médica y los servicios sociales necesari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rtículo 25, </a:t>
            </a:r>
            <a:r>
              <a:rPr b="0" lang="es-ES_tradnl" sz="3200" spc="-1" strike="noStrike">
                <a:solidFill>
                  <a:srgbClr val="3333ff"/>
                </a:solidFill>
                <a:latin typeface="Arial"/>
              </a:rPr>
              <a:t>Declaración Universal de los Derechos Humanos, 19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191120" cy="30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asa na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763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ogramas de paternidad respo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4800600" cy="2833920"/>
          </a:xfrm>
          <a:prstGeom prst="rect">
            <a:avLst/>
          </a:prstGeom>
          <a:ln w="0">
            <a:noFill/>
          </a:ln>
        </p:spPr>
      </p:pic>
      <p:pic>
        <p:nvPicPr>
          <p:cNvPr id="178" name="poblac2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4952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 de atención materno Infantil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371600"/>
            <a:ext cx="8077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nfasis en lo preven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Concentración de actividades en perío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ctuar con criterio de ries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nutri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omento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valuación nutricional en cada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alizar acciones en función del 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14360"/>
            <a:ext cx="8629560" cy="5153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omento de la lactancia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terna exclus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iesgo de peso-edad &lt; -1 DE según tipo de 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4680" y="6248520"/>
            <a:ext cx="74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  : Castillo, Atalah, Bol Of Sanit Panam 1996; 119: 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incipales programas y actividades en alimentación y nutrición en Chile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NAC: materno-infant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E: alimentación esco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CAM: adulto may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romoción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Fortificación de ali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tiquetado nutrici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guias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0352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guias%20am" descr=""/>
          <p:cNvPicPr/>
          <p:nvPr/>
        </p:nvPicPr>
        <p:blipFill>
          <a:blip r:embed="rId2"/>
          <a:stretch/>
        </p:blipFill>
        <p:spPr>
          <a:xfrm>
            <a:off x="2743200" y="1981080"/>
            <a:ext cx="2973240" cy="3997440"/>
          </a:xfrm>
          <a:prstGeom prst="rect">
            <a:avLst/>
          </a:prstGeom>
          <a:ln w="0">
            <a:noFill/>
          </a:ln>
        </p:spPr>
      </p:pic>
      <p:pic>
        <p:nvPicPr>
          <p:cNvPr id="190" name="guias%20muj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43200" y="6324480"/>
            <a:ext cx="29541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Folato sérico (ng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-151200" y="3273480"/>
            <a:ext cx="1675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2280"/>
            <a:ext cx="8001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Distribución del folato sérico pr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post fortificación en mujeres chilenas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23000" y="2544840"/>
            <a:ext cx="279396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600200"/>
            <a:ext cx="7237440" cy="457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22840" y="5986440"/>
            <a:ext cx="144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13736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94052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62280" y="58672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32"/>
                </a:moveTo>
                <a:lnTo>
                  <a:pt x="6" y="0"/>
                </a:lnTo>
                <a:lnTo>
                  <a:pt x="24" y="5"/>
                </a:lnTo>
                <a:lnTo>
                  <a:pt x="18" y="37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55720" y="1989000"/>
            <a:ext cx="74880" cy="74880"/>
          </a:xfrm>
          <a:custGeom>
            <a:avLst/>
            <a:gdLst/>
            <a:ahLst/>
            <a:rect l="l" t="t" r="r" b="b"/>
            <a:pathLst>
              <a:path w="24" h="38">
                <a:moveTo>
                  <a:pt x="0" y="32"/>
                </a:moveTo>
                <a:lnTo>
                  <a:pt x="6" y="0"/>
                </a:lnTo>
                <a:lnTo>
                  <a:pt x="24" y="6"/>
                </a:lnTo>
                <a:lnTo>
                  <a:pt x="18" y="38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65440" y="19810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0"/>
                </a:moveTo>
                <a:lnTo>
                  <a:pt x="6" y="32"/>
                </a:lnTo>
                <a:lnTo>
                  <a:pt x="24" y="37"/>
                </a:lnTo>
                <a:lnTo>
                  <a:pt x="18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7440" y="5430960"/>
            <a:ext cx="74880" cy="74520"/>
          </a:xfrm>
          <a:custGeom>
            <a:avLst/>
            <a:gdLst/>
            <a:ahLst/>
            <a:rect l="l" t="t" r="r" b="b"/>
            <a:pathLst>
              <a:path w="24" h="27">
                <a:moveTo>
                  <a:pt x="0" y="0"/>
                </a:moveTo>
                <a:lnTo>
                  <a:pt x="6" y="22"/>
                </a:lnTo>
                <a:lnTo>
                  <a:pt x="24" y="27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5452920"/>
            <a:ext cx="74520" cy="74880"/>
          </a:xfrm>
          <a:custGeom>
            <a:avLst/>
            <a:gdLst/>
            <a:ahLst/>
            <a:rect l="l" t="t" r="r" b="b"/>
            <a:pathLst>
              <a:path w="36" h="37">
                <a:moveTo>
                  <a:pt x="0" y="21"/>
                </a:moveTo>
                <a:lnTo>
                  <a:pt x="30" y="37"/>
                </a:lnTo>
                <a:lnTo>
                  <a:pt x="36" y="16"/>
                </a:lnTo>
                <a:lnTo>
                  <a:pt x="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0960" y="5875200"/>
            <a:ext cx="74520" cy="74880"/>
          </a:xfrm>
          <a:custGeom>
            <a:avLst/>
            <a:gdLst/>
            <a:ahLst/>
            <a:rect l="l" t="t" r="r" b="b"/>
            <a:pathLst>
              <a:path w="25" h="32">
                <a:moveTo>
                  <a:pt x="0" y="21"/>
                </a:moveTo>
                <a:lnTo>
                  <a:pt x="19" y="32"/>
                </a:lnTo>
                <a:lnTo>
                  <a:pt x="25" y="10"/>
                </a:lnTo>
                <a:lnTo>
                  <a:pt x="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08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9932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675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24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1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820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357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042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29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99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786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39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710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11240" y="5964120"/>
            <a:ext cx="801720" cy="2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12960" y="5505480"/>
            <a:ext cx="803520" cy="458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16480" y="4141800"/>
            <a:ext cx="801360" cy="136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17840" y="4141800"/>
            <a:ext cx="81144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9280" y="4218120"/>
            <a:ext cx="799920" cy="141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9200" y="5634000"/>
            <a:ext cx="8017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5896080"/>
            <a:ext cx="8035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34440" y="5972040"/>
            <a:ext cx="801360" cy="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66960" y="5883120"/>
            <a:ext cx="7920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70120" y="1981080"/>
            <a:ext cx="7776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70400" y="54468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8320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89880" y="5943600"/>
            <a:ext cx="777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9800" y="5943600"/>
            <a:ext cx="795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5943600"/>
            <a:ext cx="792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0120" y="59198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70400" y="5460840"/>
            <a:ext cx="8100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72120" y="4097160"/>
            <a:ext cx="8244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83200" y="417204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6360" y="558792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89880" y="58532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9800" y="5927760"/>
            <a:ext cx="795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867280"/>
            <a:ext cx="2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956120"/>
            <a:ext cx="4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03704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12588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22680" y="22096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1295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7012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328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177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94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05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340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400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389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388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4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387680" y="2325600"/>
            <a:ext cx="679320" cy="74520"/>
            <a:chOff x="4387680" y="2325600"/>
            <a:chExt cx="679320" cy="74520"/>
          </a:xfrm>
        </p:grpSpPr>
        <p:sp>
          <p:nvSpPr>
            <p:cNvPr id="261" name=""/>
            <p:cNvSpPr/>
            <p:nvPr/>
          </p:nvSpPr>
          <p:spPr>
            <a:xfrm>
              <a:off x="4387680" y="2364480"/>
              <a:ext cx="679320" cy="5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2720" y="2325600"/>
              <a:ext cx="79560" cy="745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369760" y="1965240"/>
            <a:ext cx="26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 Fortificación (4.3 ± 1.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84160" y="2238480"/>
            <a:ext cx="292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ost Fortificación  (16.8 ± 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490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5120" y="1980720"/>
            <a:ext cx="83808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1981080"/>
            <a:ext cx="838440" cy="3505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5486400"/>
            <a:ext cx="838080" cy="4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5943600"/>
            <a:ext cx="312408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19720" y="2050920"/>
            <a:ext cx="678960" cy="74520"/>
            <a:chOff x="4419720" y="2050920"/>
            <a:chExt cx="678960" cy="74520"/>
          </a:xfrm>
        </p:grpSpPr>
        <p:sp>
          <p:nvSpPr>
            <p:cNvPr id="271" name=""/>
            <p:cNvSpPr/>
            <p:nvPr/>
          </p:nvSpPr>
          <p:spPr>
            <a:xfrm>
              <a:off x="4419720" y="2089800"/>
              <a:ext cx="678960" cy="54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4760" y="2050920"/>
              <a:ext cx="79560" cy="74520"/>
            </a:xfrm>
            <a:prstGeom prst="ellipse">
              <a:avLst/>
            </a:prstGeom>
            <a:solidFill>
              <a:srgbClr val="0000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260680" y="2479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=6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10666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Hertrampf et al, FASEB J 2002;16:A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29280" cy="4335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95280" y="30780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http://www.junaeb.cl/programa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Deserción escolar según nivel de ingreso y participación en el P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7060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92800" y="624852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ahoma"/>
              </a:rPr>
              <a:t>Fuente: CASE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Nutrición como base del desarroll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l estado nutricional es un indicador fundamental en las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etas del Milenio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 del Programa de Naciones Unidas para el desarrollo (PNU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 un reconocimiento a que las políticas, programas y procesos para mejorar la nutrición tien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un papel fundamental en el desarrollo global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tá presente en 6 de los 18 obje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: “Red de protección social de Nicaragua”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2193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nsferencia en dinero a familias rurales en extrema pobr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yuda condicionada al cumplimiento de acciones para mejorar el desarrollo del capital humano de los niñ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 gasto en 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ducir deserción los primeros 4 años de 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es controle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ejor estado nutricional en &lt; de 5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i no cumplen,  pierden el 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Nicaragua: cambios en indicadores sociales después de 2 años (% de la línea base)</a:t>
            </a: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1295280" y="1600200"/>
            <a:ext cx="10667880" cy="466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6880" y="62485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Fuente: 5th Report WNS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905120" y="3049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Lucida Handwriting"/>
              </a:rPr>
              <a:t>¡¡¡Gracias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logo%20uch" descr=""/>
          <p:cNvPicPr/>
          <p:nvPr/>
        </p:nvPicPr>
        <p:blipFill>
          <a:blip r:embed="rId1"/>
          <a:stretch/>
        </p:blipFill>
        <p:spPr>
          <a:xfrm>
            <a:off x="7924680" y="0"/>
            <a:ext cx="733680" cy="1271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ontribución de la nutrición para alcanzar las metas del mileni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1: erradicar la extrema pobreza y el ha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2: alcanzar educación primaria 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3: promover la igualdad de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4: reducir la mortalidad infan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5: mejorar la salud mat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6: combatir el VIH, malaria y otras infe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rco conceptual de la des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95280"/>
            <a:ext cx="1371600" cy="1219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Desnutr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121932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1337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Enferm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5053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uidados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81280"/>
            <a:ext cx="121932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ac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733920"/>
            <a:ext cx="129528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no salu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8769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66880" y="2209320"/>
            <a:ext cx="533520" cy="228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495320" y="2133720"/>
            <a:ext cx="685800" cy="304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5238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5146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1649520"/>
            <a:ext cx="129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Manif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59092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inmedi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subyac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2514600"/>
            <a:ext cx="0" cy="990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3047760"/>
            <a:ext cx="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33920" y="56386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2895120"/>
            <a:ext cx="99072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438280" y="2819160"/>
            <a:ext cx="60984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743200"/>
            <a:ext cx="2362320" cy="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5040" y="6176880"/>
            <a:ext cx="65206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Organización política, económica y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24280" y="4495320"/>
            <a:ext cx="457200" cy="1600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133360" y="4572000"/>
            <a:ext cx="533160" cy="1447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49528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59400"/>
            <a:ext cx="14475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bás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95880" y="31240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657600"/>
            <a:ext cx="129564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Serv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3047760"/>
            <a:ext cx="304560" cy="6094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4495680"/>
            <a:ext cx="838080" cy="1828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679400"/>
            <a:ext cx="8839080" cy="438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Es reversible el daño nutricional después de los 18 me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7840" y="6392880"/>
            <a:ext cx="37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Shrimpton et al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Cómo es la situación nutricional del preescolar en la reg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peso-edad en menores de 5 años (peso-edad 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25000" cy="510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talla-edad en menores </a:t>
            </a:r>
            <a:br>
              <a:rPr sz="3200"/>
            </a:b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e 5 años  (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5:14:54Z</dcterms:created>
  <dc:creator>Eduardo Atalah Samur</dc:creator>
  <dc:description/>
  <dc:language>en-US</dc:language>
  <cp:lastModifiedBy>EDUARDO ATALAH SAMUR</cp:lastModifiedBy>
  <cp:lastPrinted>2002-10-20T23:28:24Z</cp:lastPrinted>
  <dcterms:modified xsi:type="dcterms:W3CDTF">2004-11-04T19:37:07Z</dcterms:modified>
  <cp:revision>73</cp:revision>
  <dc:subject/>
  <dc:title> Prevención, tratamiento y control  de la desnutrición infantil. </dc:title>
</cp:coreProperties>
</file>