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10.wmf" ContentType="image/x-wmf"/>
  <Override PartName="/ppt/media/image2.png" ContentType="image/png"/>
  <Override PartName="/ppt/media/image19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21.jpeg" ContentType="image/jpeg"/>
  <Override PartName="/ppt/media/image22.png" ContentType="image/png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B4859-6A2C-4DB0-8CE1-B8B34D20F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E382-2A94-4B93-A679-B5D34DF3A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4CD73-8069-4FB9-B292-E029E3D3D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E2274-B572-4C8B-A32A-1185ADD92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154D6-41C6-466F-8051-869025CB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C4919-AD69-47B3-AD3D-4F1673EC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E0F16-078A-43A7-9358-237085ED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5361C-20AF-4CC4-B1B1-C02A32C0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271BE-E032-44FF-9B5C-2F729109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51080" y="228600"/>
            <a:ext cx="7107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D75EF-D374-4581-9C77-527FB14C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06EED-ED0A-4124-8BA6-759EDD4E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C22A-E3F4-4A38-A413-4F699DA5B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E19F4-24BD-4AD6-A915-1476081E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75E1D-71B0-419D-A36B-525DA55F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69466-7604-4111-8675-CF53558A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CAD9D-13C4-49CC-9758-57111502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5A83D-DA86-4431-A1C6-8C2DFCD5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D89D9-5F53-4B33-A31D-E54253578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3EBC-FF65-47D8-B67A-0EC487940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FB126-6FA5-43E7-9C24-0E56053CD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51080" y="228600"/>
            <a:ext cx="7107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3252-669F-4A27-8640-1984B27EC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EC250-4A1F-4FCC-B756-1D6DB9F02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4B896-B4D4-4EDD-B086-793F5A491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AFDC-59D9-4282-A2E5-4459F9DBA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762120"/>
            <a:ext cx="685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1143000"/>
            <a:ext cx="6094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1143000"/>
            <a:ext cx="5605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5335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Fundación Niño y Cán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A2D3-99C9-4BB5-9D17-2A056686939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423D-55AE-4285-9C16-78A5D40BB61B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2819520"/>
            <a:ext cx="9143640" cy="976320"/>
            <a:chOff x="0" y="2819520"/>
            <a:chExt cx="9143640" cy="976320"/>
          </a:xfrm>
        </p:grpSpPr>
        <p:grpSp>
          <p:nvGrpSpPr>
            <p:cNvPr id="52" name=""/>
            <p:cNvGrpSpPr/>
            <p:nvPr/>
          </p:nvGrpSpPr>
          <p:grpSpPr>
            <a:xfrm>
              <a:off x="294840" y="2919600"/>
              <a:ext cx="721440" cy="440280"/>
              <a:chOff x="294840" y="2919600"/>
              <a:chExt cx="721440" cy="440280"/>
            </a:xfrm>
          </p:grpSpPr>
          <p:sp>
            <p:nvSpPr>
              <p:cNvPr id="53" name=""/>
              <p:cNvSpPr/>
              <p:nvPr/>
            </p:nvSpPr>
            <p:spPr>
              <a:xfrm>
                <a:off x="294840" y="2919600"/>
                <a:ext cx="443880" cy="440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83280" y="2919600"/>
                <a:ext cx="333000" cy="440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20480" y="3311280"/>
              <a:ext cx="748440" cy="440280"/>
              <a:chOff x="420480" y="3311280"/>
              <a:chExt cx="748440" cy="440280"/>
            </a:xfrm>
          </p:grpSpPr>
          <p:sp>
            <p:nvSpPr>
              <p:cNvPr id="56" name=""/>
              <p:cNvSpPr/>
              <p:nvPr/>
            </p:nvSpPr>
            <p:spPr>
              <a:xfrm>
                <a:off x="420480" y="3311280"/>
                <a:ext cx="427680" cy="4402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94520" y="3311280"/>
                <a:ext cx="374400" cy="440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3243240"/>
              <a:ext cx="568800" cy="3913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4400" y="2819520"/>
              <a:ext cx="32040" cy="9763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20760" y="3582000"/>
              <a:ext cx="8822880" cy="51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_tradnl" sz="3600" spc="-1" strike="noStrike">
                <a:solidFill>
                  <a:srgbClr val="3333ff"/>
                </a:solidFill>
                <a:latin typeface="Arial"/>
              </a:rPr>
              <a:t>Modelos de intervención </a:t>
            </a:r>
            <a:br>
              <a:rPr sz="3600"/>
            </a:br>
            <a:r>
              <a:rPr b="0" lang="es-ES_tradnl" sz="3600" spc="-1" strike="noStrike">
                <a:solidFill>
                  <a:srgbClr val="3333ff"/>
                </a:solidFill>
                <a:latin typeface="Arial"/>
              </a:rPr>
              <a:t>alimentario nutricional 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duardo Atala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Departamento de Nutrición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Facultad de Medicina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15884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09680" y="1523880"/>
            <a:ext cx="50292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0132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144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Prevalencia de RN con peso al nacer menor de 2.500 gr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1520" y="6248520"/>
            <a:ext cx="76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Fuente  : SCN/UNS. 5th Report of the World Nutrition Situation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09480" y="2286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¿Se están cumpliendo las metas de la Cumbre Mundial de la Alimentació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Factores determinantes de la carga de enfermedad</a:t>
            </a: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en </a:t>
            </a:r>
            <a:r>
              <a:rPr b="0" lang="es-ES_tradnl" sz="2800" spc="-1" strike="noStrike">
                <a:solidFill>
                  <a:srgbClr val="808000"/>
                </a:solidFill>
                <a:latin typeface="Arial"/>
              </a:rPr>
              <a:t>países en desarrollo con alta mortalidad (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DALYs)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34360" cy="4600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14400" y="64771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Fuente: WHO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Factores determinantes de la carga de enfermedad</a:t>
            </a: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en </a:t>
            </a:r>
            <a:r>
              <a:rPr b="0" lang="es-ES_tradnl" sz="2800" spc="-1" strike="noStrike">
                <a:solidFill>
                  <a:srgbClr val="808000"/>
                </a:solidFill>
                <a:latin typeface="Arial"/>
              </a:rPr>
              <a:t>países desarrollados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(DALYs)</a:t>
            </a: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34360" cy="4600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14400" y="64771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Fuente: WHO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06440" y="228600"/>
            <a:ext cx="8432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tuación nutricional del niño </a:t>
            </a:r>
            <a:br>
              <a:rPr sz="3600"/>
            </a:b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menor de 6 años en C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63244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Fuente: Ministerio de Salud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908000"/>
            <a:ext cx="85694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35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Programas sectoriales con  </a:t>
            </a:r>
            <a:br>
              <a:rPr sz="3600"/>
            </a:b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posible impacto en nutrición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Saneamient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Agricul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Vivi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06440" y="228600"/>
            <a:ext cx="8280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G Times"/>
              </a:rPr>
              <a:t>Programas de reducción 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CG Times"/>
              </a:rPr>
              <a:t>de la pobr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477120" cy="3040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19520" y="3733920"/>
            <a:ext cx="632448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5840" y="1295280"/>
            <a:ext cx="8839080" cy="4819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"/>
              </a:rPr>
              <a:t>Programas de agua potable y alcantarillado  (Chile sectores urba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Programas de educación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Tasa de analfabetismo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Promedio de años de estudio ha aumentado de 4,0 a 9,2 en las personas de menores ingre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2003: se decretan 12 años de educación  obligatoria: 8 de básica, 4 de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572000" cy="4060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830600" y="254160"/>
            <a:ext cx="590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ducación en Alimentación y </a:t>
            </a:r>
            <a:br>
              <a:rPr sz="2800"/>
            </a:b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Nutrición para la Enseñanza Bás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6095880"/>
            <a:ext cx="74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www.inta.cl/educacionennutricion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0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Alimentación: </a:t>
            </a:r>
            <a:br>
              <a:rPr sz="3600"/>
            </a:b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dimensión ética y moral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905120"/>
            <a:ext cx="7662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Toda persona tiene derecho a un ni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de vida adecuado que le asegure, así como a su familia, la salud y el bienestar, </a:t>
            </a:r>
            <a:r>
              <a:rPr b="0" i="1" lang="es-ES_tradnl" sz="2800" spc="-1" strike="noStrike">
                <a:solidFill>
                  <a:srgbClr val="ff0000"/>
                </a:solidFill>
                <a:latin typeface="Arial"/>
              </a:rPr>
              <a:t>y en especial la alimentación</a:t>
            </a: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, el vestido, la vivienda, la asistencia médica y los servicios sociales necesari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rtículo 25, </a:t>
            </a:r>
            <a:r>
              <a:rPr b="0" lang="es-ES_tradnl" sz="3200" spc="-1" strike="noStrike">
                <a:solidFill>
                  <a:srgbClr val="3333ff"/>
                </a:solidFill>
                <a:latin typeface="Arial"/>
              </a:rPr>
              <a:t>Declaración Universal de los Derechos Humanos, 19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1598760"/>
            <a:ext cx="4191120" cy="30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Tasa nat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76320"/>
            <a:ext cx="7924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Programas de paternidad respo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4800600" cy="2833920"/>
          </a:xfrm>
          <a:prstGeom prst="rect">
            <a:avLst/>
          </a:prstGeom>
          <a:ln w="0">
            <a:noFill/>
          </a:ln>
        </p:spPr>
      </p:pic>
      <p:pic>
        <p:nvPicPr>
          <p:cNvPr id="178" name="poblac2" descr=""/>
          <p:cNvPicPr/>
          <p:nvPr/>
        </p:nvPicPr>
        <p:blipFill>
          <a:blip r:embed="rId3"/>
          <a:stretch/>
        </p:blipFill>
        <p:spPr>
          <a:xfrm>
            <a:off x="1905120" y="4191120"/>
            <a:ext cx="49528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Programa de atención materno Infantil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371600"/>
            <a:ext cx="8077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nfasis en lo preven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Concentración de actividades en períodos cr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Actuar con criterio de ries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ducación nutri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Fomento de la lactancia m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valuación nutricional en cada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Realizar acciones en función del diagnó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314360"/>
            <a:ext cx="8629560" cy="5153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5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Fomento de la lactancia </a:t>
            </a:r>
            <a:br>
              <a:rPr sz="3600"/>
            </a:b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materna exclus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Riesgo de peso-edad &lt; -1 DE según tipo de ali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4680" y="6248520"/>
            <a:ext cx="74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Fuente  : Castillo, Atalah, Bol Of Sanit Panam 1996; 119: 4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01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Principales programas y actividades en alimentación y nutrición en Chile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PNAC: materno-infanti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PAE: alimentación esco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PACAM: adulto may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Promoción de la salu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Fortificación de alimen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Etiquetado nutricion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guias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603520" cy="3657600"/>
          </a:xfrm>
          <a:prstGeom prst="rect">
            <a:avLst/>
          </a:prstGeom>
          <a:ln w="0">
            <a:noFill/>
          </a:ln>
        </p:spPr>
      </p:pic>
      <p:pic>
        <p:nvPicPr>
          <p:cNvPr id="189" name="guias%20am" descr=""/>
          <p:cNvPicPr/>
          <p:nvPr/>
        </p:nvPicPr>
        <p:blipFill>
          <a:blip r:embed="rId2"/>
          <a:stretch/>
        </p:blipFill>
        <p:spPr>
          <a:xfrm>
            <a:off x="2743200" y="1981080"/>
            <a:ext cx="2973240" cy="3997440"/>
          </a:xfrm>
          <a:prstGeom prst="rect">
            <a:avLst/>
          </a:prstGeom>
          <a:ln w="0">
            <a:noFill/>
          </a:ln>
        </p:spPr>
      </p:pic>
      <p:pic>
        <p:nvPicPr>
          <p:cNvPr id="190" name="guias%20muj" descr=""/>
          <p:cNvPicPr/>
          <p:nvPr/>
        </p:nvPicPr>
        <p:blipFill>
          <a:blip r:embed="rId3"/>
          <a:stretch/>
        </p:blipFill>
        <p:spPr>
          <a:xfrm>
            <a:off x="5638680" y="2819520"/>
            <a:ext cx="3014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743200" y="6324480"/>
            <a:ext cx="295416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Comic Sans MS"/>
              </a:rPr>
              <a:t>Folato sérico (ng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-151200" y="3273480"/>
            <a:ext cx="1675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Comic Sans MS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52280"/>
            <a:ext cx="8001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Comic Sans MS"/>
              </a:rPr>
              <a:t>Distribución del folato sérico pre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Comic Sans MS"/>
              </a:rPr>
              <a:t>post fortificación en mujeres chilenas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23000" y="2544840"/>
            <a:ext cx="2793960" cy="57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1600200"/>
            <a:ext cx="7237440" cy="457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722840" y="5986440"/>
            <a:ext cx="1440" cy="6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137360" y="5986440"/>
            <a:ext cx="1800" cy="6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940520" y="5986440"/>
            <a:ext cx="1800" cy="6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62280" y="5867280"/>
            <a:ext cx="74520" cy="74880"/>
          </a:xfrm>
          <a:custGeom>
            <a:avLst/>
            <a:gdLst/>
            <a:ahLst/>
            <a:rect l="l" t="t" r="r" b="b"/>
            <a:pathLst>
              <a:path w="24" h="37">
                <a:moveTo>
                  <a:pt x="0" y="32"/>
                </a:moveTo>
                <a:lnTo>
                  <a:pt x="6" y="0"/>
                </a:lnTo>
                <a:lnTo>
                  <a:pt x="24" y="5"/>
                </a:lnTo>
                <a:lnTo>
                  <a:pt x="18" y="37"/>
                </a:lnTo>
                <a:lnTo>
                  <a:pt x="0" y="32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55720" y="1989000"/>
            <a:ext cx="74880" cy="74880"/>
          </a:xfrm>
          <a:custGeom>
            <a:avLst/>
            <a:gdLst/>
            <a:ahLst/>
            <a:rect l="l" t="t" r="r" b="b"/>
            <a:pathLst>
              <a:path w="24" h="38">
                <a:moveTo>
                  <a:pt x="0" y="32"/>
                </a:moveTo>
                <a:lnTo>
                  <a:pt x="6" y="0"/>
                </a:lnTo>
                <a:lnTo>
                  <a:pt x="24" y="6"/>
                </a:lnTo>
                <a:lnTo>
                  <a:pt x="18" y="38"/>
                </a:lnTo>
                <a:lnTo>
                  <a:pt x="0" y="32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65440" y="1981080"/>
            <a:ext cx="74520" cy="74880"/>
          </a:xfrm>
          <a:custGeom>
            <a:avLst/>
            <a:gdLst/>
            <a:ahLst/>
            <a:rect l="l" t="t" r="r" b="b"/>
            <a:pathLst>
              <a:path w="24" h="37">
                <a:moveTo>
                  <a:pt x="0" y="0"/>
                </a:moveTo>
                <a:lnTo>
                  <a:pt x="6" y="32"/>
                </a:lnTo>
                <a:lnTo>
                  <a:pt x="24" y="37"/>
                </a:lnTo>
                <a:lnTo>
                  <a:pt x="18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57440" y="5430960"/>
            <a:ext cx="74880" cy="74520"/>
          </a:xfrm>
          <a:custGeom>
            <a:avLst/>
            <a:gdLst/>
            <a:ahLst/>
            <a:rect l="l" t="t" r="r" b="b"/>
            <a:pathLst>
              <a:path w="24" h="27">
                <a:moveTo>
                  <a:pt x="0" y="0"/>
                </a:moveTo>
                <a:lnTo>
                  <a:pt x="6" y="22"/>
                </a:lnTo>
                <a:lnTo>
                  <a:pt x="24" y="27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67160" y="5452920"/>
            <a:ext cx="74520" cy="74880"/>
          </a:xfrm>
          <a:custGeom>
            <a:avLst/>
            <a:gdLst/>
            <a:ahLst/>
            <a:rect l="l" t="t" r="r" b="b"/>
            <a:pathLst>
              <a:path w="36" h="37">
                <a:moveTo>
                  <a:pt x="0" y="21"/>
                </a:moveTo>
                <a:lnTo>
                  <a:pt x="30" y="37"/>
                </a:lnTo>
                <a:lnTo>
                  <a:pt x="36" y="16"/>
                </a:lnTo>
                <a:lnTo>
                  <a:pt x="6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0960" y="5875200"/>
            <a:ext cx="74520" cy="74880"/>
          </a:xfrm>
          <a:custGeom>
            <a:avLst/>
            <a:gdLst/>
            <a:ahLst/>
            <a:rect l="l" t="t" r="r" b="b"/>
            <a:pathLst>
              <a:path w="25" h="32">
                <a:moveTo>
                  <a:pt x="0" y="21"/>
                </a:moveTo>
                <a:lnTo>
                  <a:pt x="19" y="32"/>
                </a:lnTo>
                <a:lnTo>
                  <a:pt x="25" y="10"/>
                </a:lnTo>
                <a:lnTo>
                  <a:pt x="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088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9760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9932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6756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248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6124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18200" y="5927760"/>
            <a:ext cx="7488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35720" y="5927760"/>
            <a:ext cx="7488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67480" y="5927760"/>
            <a:ext cx="7488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0420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6296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19920" y="5927760"/>
            <a:ext cx="7488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78680" y="5927760"/>
            <a:ext cx="7488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3924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71000" y="5927760"/>
            <a:ext cx="74520" cy="74520"/>
          </a:xfrm>
          <a:prstGeom prst="rect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911240" y="5964120"/>
            <a:ext cx="801720" cy="22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712960" y="5505480"/>
            <a:ext cx="803520" cy="458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516480" y="4141800"/>
            <a:ext cx="801360" cy="1363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17840" y="4141800"/>
            <a:ext cx="811440" cy="76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29280" y="4218120"/>
            <a:ext cx="799920" cy="141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29200" y="5634000"/>
            <a:ext cx="801720" cy="262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30920" y="5896080"/>
            <a:ext cx="803520" cy="75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34440" y="5972040"/>
            <a:ext cx="801360" cy="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66960" y="5883120"/>
            <a:ext cx="79200" cy="7488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70120" y="1981080"/>
            <a:ext cx="77760" cy="7488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70400" y="5446800"/>
            <a:ext cx="81000" cy="7452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83200" y="5943600"/>
            <a:ext cx="81000" cy="7452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89880" y="5943600"/>
            <a:ext cx="77760" cy="7452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89800" y="5943600"/>
            <a:ext cx="79560" cy="7452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91520" y="5943600"/>
            <a:ext cx="81000" cy="7452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66960" y="5943600"/>
            <a:ext cx="7920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0120" y="5919840"/>
            <a:ext cx="7776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70400" y="5460840"/>
            <a:ext cx="81000" cy="7488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72120" y="4097160"/>
            <a:ext cx="82440" cy="7488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83200" y="4172040"/>
            <a:ext cx="8100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86360" y="5587920"/>
            <a:ext cx="7776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89880" y="5853240"/>
            <a:ext cx="7776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89800" y="5927760"/>
            <a:ext cx="7956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91520" y="5943600"/>
            <a:ext cx="81000" cy="745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867280"/>
            <a:ext cx="25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4956120"/>
            <a:ext cx="4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4037040"/>
            <a:ext cx="4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3125880"/>
            <a:ext cx="4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22680" y="22096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27000" y="1295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70120" y="6175440"/>
            <a:ext cx="36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73280" y="6175440"/>
            <a:ext cx="36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1776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1948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3056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3408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400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3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3896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3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38880" y="6175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4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387680" y="2325600"/>
            <a:ext cx="679320" cy="74520"/>
            <a:chOff x="4387680" y="2325600"/>
            <a:chExt cx="679320" cy="74520"/>
          </a:xfrm>
        </p:grpSpPr>
        <p:sp>
          <p:nvSpPr>
            <p:cNvPr id="261" name=""/>
            <p:cNvSpPr/>
            <p:nvPr/>
          </p:nvSpPr>
          <p:spPr>
            <a:xfrm>
              <a:off x="4387680" y="2364480"/>
              <a:ext cx="679320" cy="5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62720" y="2325600"/>
              <a:ext cx="79560" cy="7452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369760" y="1965240"/>
            <a:ext cx="26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 Fortificación (4.3 ± 1.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84160" y="2238480"/>
            <a:ext cx="292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ost Fortificación  (16.8 ± 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79840" y="3490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905120" y="1980720"/>
            <a:ext cx="83808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1981080"/>
            <a:ext cx="838440" cy="35053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05320" y="5486400"/>
            <a:ext cx="838080" cy="457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43400" y="5943600"/>
            <a:ext cx="312408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419720" y="2050920"/>
            <a:ext cx="678960" cy="74520"/>
            <a:chOff x="4419720" y="2050920"/>
            <a:chExt cx="678960" cy="74520"/>
          </a:xfrm>
        </p:grpSpPr>
        <p:sp>
          <p:nvSpPr>
            <p:cNvPr id="271" name=""/>
            <p:cNvSpPr/>
            <p:nvPr/>
          </p:nvSpPr>
          <p:spPr>
            <a:xfrm>
              <a:off x="4419720" y="2089800"/>
              <a:ext cx="678960" cy="54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94760" y="2050920"/>
              <a:ext cx="79560" cy="74520"/>
            </a:xfrm>
            <a:prstGeom prst="ellipse">
              <a:avLst/>
            </a:prstGeom>
            <a:solidFill>
              <a:srgbClr val="0000cc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5260680" y="24796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N=6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10666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Hertrampf et al, FASEB J 2002;16:A2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829280" cy="4335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295280" y="307800"/>
            <a:ext cx="76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http://www.junaeb.cl/programa.h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Deserción escolar según nivel de ingreso y participación en el P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770600" cy="4114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392800" y="624852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ahoma"/>
              </a:rPr>
              <a:t>Fuente: CASEN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Nutrición como base del desarrollo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l estado nutricional es un indicador fundamental en las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Metas del Milenio</a:t>
            </a: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 del Programa de Naciones Unidas para el desarrollo (PNU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s un reconocimiento a que las políticas, programas y procesos para mejorar la nutrición tienen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un papel fundamental en el desarrollo global</a:t>
            </a: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Está presente en 6 de los 18 objeti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3352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Programa: “Red de protección social de Nicaragua”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121932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Transferencia en dinero a familias rurales en extrema pobr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Ayuda condicionada al cumplimiento de acciones para mejorar el desarrollo del capital humano de los niñ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mayor gasto en ali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reducir deserción los primeros 4 años de 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mayores controles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mejor estado nutricional en &lt; de 5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"/>
              </a:rPr>
              <a:t>Si no cumplen,  pierden el benefic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Nicaragua: cambios en indicadores sociales después de 2 años (% de la línea base)</a:t>
            </a: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-1295280" y="1600200"/>
            <a:ext cx="10667880" cy="46674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86880" y="624852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Fuente: 5th Report WNS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905120" y="30492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Lucida Handwriting"/>
              </a:rPr>
              <a:t>¡¡¡Gracias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logo%20uch" descr=""/>
          <p:cNvPicPr/>
          <p:nvPr/>
        </p:nvPicPr>
        <p:blipFill>
          <a:blip r:embed="rId1"/>
          <a:stretch/>
        </p:blipFill>
        <p:spPr>
          <a:xfrm>
            <a:off x="7924680" y="0"/>
            <a:ext cx="733680" cy="12715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5530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Contribución de la nutrición para alcanzar las metas del milenio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1: erradicar la extrema pobreza y el ham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2: alcanzar educación primaria 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3: promover la igualdad de gé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4: reducir la mortalidad infan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5: mejorar la salud mater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eta 6: combatir el VIH, malaria y otras infec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Marco conceptual de la des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1295280"/>
            <a:ext cx="1371600" cy="1219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ff"/>
                </a:solidFill>
                <a:latin typeface="Times New Roman"/>
              </a:rPr>
              <a:t>Desnutr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133720"/>
            <a:ext cx="121932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Inadecu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consu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133720"/>
            <a:ext cx="121896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Enferm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3505320"/>
            <a:ext cx="121896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Inadecuad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cuidados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581280"/>
            <a:ext cx="1219320" cy="838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Inadecu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ac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733920"/>
            <a:ext cx="1295280" cy="761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Medio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no salu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876920"/>
            <a:ext cx="1523880" cy="99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Inadecuad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edu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666880" y="2209320"/>
            <a:ext cx="533520" cy="2286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495320" y="2133720"/>
            <a:ext cx="685800" cy="3045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152388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25146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1649520"/>
            <a:ext cx="1295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ff"/>
                </a:solidFill>
                <a:latin typeface="Times New Roman"/>
              </a:rPr>
              <a:t>Manife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ff"/>
                </a:solidFill>
                <a:latin typeface="Times New Roman"/>
              </a:rPr>
              <a:t>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581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2590920"/>
            <a:ext cx="14479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Cau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inmedia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3657600"/>
            <a:ext cx="14479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Cau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subyac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2514600"/>
            <a:ext cx="0" cy="9907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5120" y="3047760"/>
            <a:ext cx="0" cy="5331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733920" y="5638680"/>
            <a:ext cx="0" cy="5335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267080" y="2895120"/>
            <a:ext cx="990720" cy="6858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438280" y="2819160"/>
            <a:ext cx="609840" cy="6858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2743200"/>
            <a:ext cx="2362320" cy="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657600" y="4343400"/>
            <a:ext cx="0" cy="5335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5040" y="6176880"/>
            <a:ext cx="6520680" cy="520560"/>
          </a:xfrm>
          <a:prstGeom prst="rect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ff"/>
                </a:solidFill>
                <a:latin typeface="Times New Roman"/>
              </a:rPr>
              <a:t>Organización política, económica y so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24280" y="4495320"/>
            <a:ext cx="457200" cy="16002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2133360" y="4572000"/>
            <a:ext cx="533160" cy="1447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49528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5459400"/>
            <a:ext cx="144756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Cau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ff"/>
                </a:solidFill>
                <a:latin typeface="Times New Roman"/>
              </a:rPr>
              <a:t>básic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095880" y="3124080"/>
            <a:ext cx="0" cy="5335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3657600"/>
            <a:ext cx="129564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Inadecu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Serv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334120" y="3047760"/>
            <a:ext cx="304560" cy="6094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62720" y="4495680"/>
            <a:ext cx="838080" cy="18288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679400"/>
            <a:ext cx="8839080" cy="4386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228600"/>
            <a:ext cx="703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¿Es reversible el daño nutricional después de los 18 mes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87840" y="6392880"/>
            <a:ext cx="37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Fuente: Shrimpton et al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228600"/>
            <a:ext cx="703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¿Cómo es la situación nutricional del preescolar en la regió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144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Déficit de peso-edad en menores de 5 años (peso-edad &lt; -2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25000" cy="5105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36640" y="632448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Fuente: OMS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144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Déficit de talla-edad en menores </a:t>
            </a:r>
            <a:br>
              <a:rPr sz="3200"/>
            </a:b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de 5 años  (&lt; -2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5105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36640" y="632448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Fuente: OMS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05:14:54Z</dcterms:created>
  <dc:creator>Eduardo Atalah Samur</dc:creator>
  <dc:description/>
  <dc:language>en-US</dc:language>
  <cp:lastModifiedBy>EDUARDO ATALAH SAMUR</cp:lastModifiedBy>
  <cp:lastPrinted>2002-10-20T23:28:24Z</cp:lastPrinted>
  <dcterms:modified xsi:type="dcterms:W3CDTF">2004-11-04T19:37:07Z</dcterms:modified>
  <cp:revision>73</cp:revision>
  <dc:subject/>
  <dc:title> Prevención, tratamiento y control  de la desnutrición infantil. </dc:title>
</cp:coreProperties>
</file>