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1.jpeg" ContentType="image/jpeg"/>
  <Override PartName="/ppt/media/image22.png" ContentType="image/png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46FF-0BFE-4C22-BA93-FFC721AD5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2C8C-70ED-403E-9938-387E0D84A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37A6-1995-42CC-A7E7-10A1F1218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8382-A10F-4852-B882-B29A1A0F5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A183D-9725-49E1-B1ED-76EF4964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A18F7-5398-48CC-BBE4-EFA36BF5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5C14F-A6F3-4A4E-A3E6-1F5D3E2C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E864D-DDC8-4BDC-BF79-DB00E7B6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266C3-65C9-45C3-8EEA-2DACA51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51080" y="228600"/>
            <a:ext cx="7107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E1146-0A64-4C9C-8CE5-9423C8F6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0FB8-E11A-436A-8409-ECEAEAD8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6AC6-CCBE-4D28-8F9E-AC3B81134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34811-D23C-4762-9D39-205AA9D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B56AF-B9EA-46F6-A58D-27DA4C39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11C37-DBEC-44DE-8B07-B332CCDB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238BF-E007-48E9-BD4C-ABD80200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CC8FC-5564-43D0-8C6A-B30A3E04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5927-056F-461A-99EF-C93B4C8F6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BA4C-697C-4DA3-AB6E-0CCB7D535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67B5-35C3-48AD-8A1E-55CC31268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51080" y="228600"/>
            <a:ext cx="7107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EA12-7636-48BD-B427-16BD49658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DD9A-CBCF-414C-82F0-C1AEBD906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65B6-C7BD-4198-8370-3091D549C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4BC8-A1C8-4E83-BB24-74D51A983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762120"/>
            <a:ext cx="685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143000"/>
            <a:ext cx="6094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1143000"/>
            <a:ext cx="5605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5335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Fundación Niño y Cán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8D6E-E5B5-48AA-90DB-9EADDA3B90F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1A1F-9967-42CE-A93C-CFC02B0CFED4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2819520"/>
            <a:ext cx="9143640" cy="976320"/>
            <a:chOff x="0" y="2819520"/>
            <a:chExt cx="9143640" cy="976320"/>
          </a:xfrm>
        </p:grpSpPr>
        <p:grpSp>
          <p:nvGrpSpPr>
            <p:cNvPr id="52" name=""/>
            <p:cNvGrpSpPr/>
            <p:nvPr/>
          </p:nvGrpSpPr>
          <p:grpSpPr>
            <a:xfrm>
              <a:off x="294840" y="2919600"/>
              <a:ext cx="721440" cy="440280"/>
              <a:chOff x="294840" y="2919600"/>
              <a:chExt cx="721440" cy="440280"/>
            </a:xfrm>
          </p:grpSpPr>
          <p:sp>
            <p:nvSpPr>
              <p:cNvPr id="53" name=""/>
              <p:cNvSpPr/>
              <p:nvPr/>
            </p:nvSpPr>
            <p:spPr>
              <a:xfrm>
                <a:off x="294840" y="2919600"/>
                <a:ext cx="443880" cy="44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83280" y="2919600"/>
                <a:ext cx="333000" cy="440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20480" y="3311280"/>
              <a:ext cx="748440" cy="440280"/>
              <a:chOff x="420480" y="3311280"/>
              <a:chExt cx="748440" cy="440280"/>
            </a:xfrm>
          </p:grpSpPr>
          <p:sp>
            <p:nvSpPr>
              <p:cNvPr id="56" name=""/>
              <p:cNvSpPr/>
              <p:nvPr/>
            </p:nvSpPr>
            <p:spPr>
              <a:xfrm>
                <a:off x="420480" y="3311280"/>
                <a:ext cx="427680" cy="4402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94520" y="3311280"/>
                <a:ext cx="374400" cy="440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3243240"/>
              <a:ext cx="568800" cy="391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4400" y="2819520"/>
              <a:ext cx="32040" cy="9763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20760" y="3582000"/>
              <a:ext cx="8822880" cy="5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3333ff"/>
                </a:solidFill>
                <a:latin typeface="Arial"/>
              </a:rPr>
              <a:t>Modelos de intervención </a:t>
            </a:r>
            <a:br>
              <a:rPr sz="3600"/>
            </a:br>
            <a:r>
              <a:rPr b="0" lang="es-ES_tradnl" sz="3600" spc="-1" strike="noStrike">
                <a:solidFill>
                  <a:srgbClr val="3333ff"/>
                </a:solidFill>
                <a:latin typeface="Arial"/>
              </a:rPr>
              <a:t>alimentario nutricional 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ardo Atala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Departamento de Nutrició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Facultad de Medicina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15884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09680" y="1523880"/>
            <a:ext cx="50292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01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Prevalencia de RN con peso al nacer menor de 2.500 gr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1520" y="6248520"/>
            <a:ext cx="76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Fuente  : SCN/UNS. 5th Report of the World Nutrition Situation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2286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¿Se están cumpliendo las metas de la Cumbre Mundial de la Alimentació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Factores determinantes de la carga de enfermedad</a:t>
            </a: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en </a:t>
            </a:r>
            <a:r>
              <a:rPr b="0" lang="es-ES_tradnl" sz="2800" spc="-1" strike="noStrike">
                <a:solidFill>
                  <a:srgbClr val="808000"/>
                </a:solidFill>
                <a:latin typeface="Arial"/>
              </a:rPr>
              <a:t>países en desarrollo con alta mortalidad (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DALYs)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34360" cy="4600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14400" y="64771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Fuente: WHO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Factores determinantes de la carga de enfermedad</a:t>
            </a: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en </a:t>
            </a:r>
            <a:r>
              <a:rPr b="0" lang="es-ES_tradnl" sz="2800" spc="-1" strike="noStrike">
                <a:solidFill>
                  <a:srgbClr val="808000"/>
                </a:solidFill>
                <a:latin typeface="Arial"/>
              </a:rPr>
              <a:t>países desarrollado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(DALYs)</a:t>
            </a: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34360" cy="4600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4400" y="64771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Fuente: WHO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06440" y="228600"/>
            <a:ext cx="8432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tuación nutricional del niño </a:t>
            </a:r>
            <a:br>
              <a:rPr sz="3600"/>
            </a:b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menor de 6 años en C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6324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Fuente: Ministerio de Salud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908000"/>
            <a:ext cx="8569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s sectoriales con  </a:t>
            </a:r>
            <a:br>
              <a:rPr sz="3600"/>
            </a:b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osible impacto en nutrición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Saneamient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Agricul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Viv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06440" y="228600"/>
            <a:ext cx="8280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G Times"/>
              </a:rPr>
              <a:t>Programas de reducción 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CG Times"/>
              </a:rPr>
              <a:t>de la pob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477120" cy="3040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632448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5840" y="1295280"/>
            <a:ext cx="8839080" cy="4819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"/>
              </a:rPr>
              <a:t>Programas de agua potable y alcantarillado  (Chile sectores urba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s de educación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asa de analfabetismo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Promedio de años de estudio ha aumentado de 4,0 a 9,2 en las personas de menores ingre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2003: se decretan 12 años de educación  obligatoria: 8 de básica, 4 de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72000" cy="4060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30600" y="254160"/>
            <a:ext cx="590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cación en Alimentación y </a:t>
            </a:r>
            <a:br>
              <a:rPr sz="2800"/>
            </a:b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Nutrición para la Enseñanza Bás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6095880"/>
            <a:ext cx="74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www.inta.cl/educacionennutricion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Alimentación: </a:t>
            </a:r>
            <a:br>
              <a:rPr sz="3600"/>
            </a:b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dimensión ética y moral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05120"/>
            <a:ext cx="7662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oda persona tiene derecho a un ni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de vida adecuado que le asegure, así como a su familia, la salud y el bienestar,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y en especial la alimentación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, el vestido, la vivienda, la asistencia médica y los servicios sociales necesari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rtículo 25, </a:t>
            </a:r>
            <a:r>
              <a:rPr b="0" lang="es-ES_tradnl" sz="3200" spc="-1" strike="noStrike">
                <a:solidFill>
                  <a:srgbClr val="3333ff"/>
                </a:solidFill>
                <a:latin typeface="Arial"/>
              </a:rPr>
              <a:t>Declaración Universal de los Derechos Humanos, 19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598760"/>
            <a:ext cx="4191120" cy="30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Tasa na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763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Programas de paternidad respo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4800600" cy="2833920"/>
          </a:xfrm>
          <a:prstGeom prst="rect">
            <a:avLst/>
          </a:prstGeom>
          <a:ln w="0">
            <a:noFill/>
          </a:ln>
        </p:spPr>
      </p:pic>
      <p:pic>
        <p:nvPicPr>
          <p:cNvPr id="178" name="poblac2" descr=""/>
          <p:cNvPicPr/>
          <p:nvPr/>
        </p:nvPicPr>
        <p:blipFill>
          <a:blip r:embed="rId3"/>
          <a:stretch/>
        </p:blipFill>
        <p:spPr>
          <a:xfrm>
            <a:off x="1905120" y="4191120"/>
            <a:ext cx="49528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 de atención materno Infantil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371600"/>
            <a:ext cx="8077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nfasis en lo preven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Concentración de actividades en período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Actuar con criterio de ries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cación nutri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Fomento de la lactancia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valuación nutricional en cada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Realizar acciones en función del diagnó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314360"/>
            <a:ext cx="8629560" cy="5153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Fomento de la lactancia </a:t>
            </a:r>
            <a:br>
              <a:rPr sz="3600"/>
            </a:b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materna exclus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Riesgo de peso-edad &lt; -1 DE según tipo de 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4680" y="6248520"/>
            <a:ext cx="74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  : Castillo, Atalah, Bol Of Sanit Panam 1996; 119: 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0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rincipales programas y actividades en alimentación y nutrición en Chile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NAC: materno-infant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AE: alimentación esco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ACAM: adulto may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romoción de la sal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Fortificación de alimen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Etiquetado nutricion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guias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603520" cy="3657600"/>
          </a:xfrm>
          <a:prstGeom prst="rect">
            <a:avLst/>
          </a:prstGeom>
          <a:ln w="0">
            <a:noFill/>
          </a:ln>
        </p:spPr>
      </p:pic>
      <p:pic>
        <p:nvPicPr>
          <p:cNvPr id="189" name="guias%20am" descr=""/>
          <p:cNvPicPr/>
          <p:nvPr/>
        </p:nvPicPr>
        <p:blipFill>
          <a:blip r:embed="rId2"/>
          <a:stretch/>
        </p:blipFill>
        <p:spPr>
          <a:xfrm>
            <a:off x="2743200" y="1981080"/>
            <a:ext cx="2973240" cy="3997440"/>
          </a:xfrm>
          <a:prstGeom prst="rect">
            <a:avLst/>
          </a:prstGeom>
          <a:ln w="0">
            <a:noFill/>
          </a:ln>
        </p:spPr>
      </p:pic>
      <p:pic>
        <p:nvPicPr>
          <p:cNvPr id="190" name="guias%20muj" descr=""/>
          <p:cNvPicPr/>
          <p:nvPr/>
        </p:nvPicPr>
        <p:blipFill>
          <a:blip r:embed="rId3"/>
          <a:stretch/>
        </p:blipFill>
        <p:spPr>
          <a:xfrm>
            <a:off x="5638680" y="2819520"/>
            <a:ext cx="3014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43200" y="6324480"/>
            <a:ext cx="29541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Folato sérico (ng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-151200" y="3273480"/>
            <a:ext cx="1675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52280"/>
            <a:ext cx="8001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Comic Sans MS"/>
              </a:rPr>
              <a:t>Distribución del folato sérico pre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Comic Sans MS"/>
              </a:rPr>
              <a:t>post fortificación en mujeres chilenas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23000" y="2544840"/>
            <a:ext cx="2793960" cy="57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600200"/>
            <a:ext cx="7237440" cy="457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22840" y="5986440"/>
            <a:ext cx="1440" cy="6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137360" y="5986440"/>
            <a:ext cx="1800" cy="6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940520" y="5986440"/>
            <a:ext cx="1800" cy="6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62280" y="5867280"/>
            <a:ext cx="74520" cy="74880"/>
          </a:xfrm>
          <a:custGeom>
            <a:avLst/>
            <a:gdLst/>
            <a:ahLst/>
            <a:rect l="l" t="t" r="r" b="b"/>
            <a:pathLst>
              <a:path w="24" h="37">
                <a:moveTo>
                  <a:pt x="0" y="32"/>
                </a:moveTo>
                <a:lnTo>
                  <a:pt x="6" y="0"/>
                </a:lnTo>
                <a:lnTo>
                  <a:pt x="24" y="5"/>
                </a:lnTo>
                <a:lnTo>
                  <a:pt x="18" y="37"/>
                </a:lnTo>
                <a:lnTo>
                  <a:pt x="0" y="32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55720" y="1989000"/>
            <a:ext cx="74880" cy="74880"/>
          </a:xfrm>
          <a:custGeom>
            <a:avLst/>
            <a:gdLst/>
            <a:ahLst/>
            <a:rect l="l" t="t" r="r" b="b"/>
            <a:pathLst>
              <a:path w="24" h="38">
                <a:moveTo>
                  <a:pt x="0" y="32"/>
                </a:moveTo>
                <a:lnTo>
                  <a:pt x="6" y="0"/>
                </a:lnTo>
                <a:lnTo>
                  <a:pt x="24" y="6"/>
                </a:lnTo>
                <a:lnTo>
                  <a:pt x="18" y="38"/>
                </a:lnTo>
                <a:lnTo>
                  <a:pt x="0" y="32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65440" y="1981080"/>
            <a:ext cx="74520" cy="74880"/>
          </a:xfrm>
          <a:custGeom>
            <a:avLst/>
            <a:gdLst/>
            <a:ahLst/>
            <a:rect l="l" t="t" r="r" b="b"/>
            <a:pathLst>
              <a:path w="24" h="37">
                <a:moveTo>
                  <a:pt x="0" y="0"/>
                </a:moveTo>
                <a:lnTo>
                  <a:pt x="6" y="32"/>
                </a:lnTo>
                <a:lnTo>
                  <a:pt x="24" y="37"/>
                </a:lnTo>
                <a:lnTo>
                  <a:pt x="18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7440" y="5430960"/>
            <a:ext cx="74880" cy="74520"/>
          </a:xfrm>
          <a:custGeom>
            <a:avLst/>
            <a:gdLst/>
            <a:ahLst/>
            <a:rect l="l" t="t" r="r" b="b"/>
            <a:pathLst>
              <a:path w="24" h="27">
                <a:moveTo>
                  <a:pt x="0" y="0"/>
                </a:moveTo>
                <a:lnTo>
                  <a:pt x="6" y="22"/>
                </a:lnTo>
                <a:lnTo>
                  <a:pt x="24" y="27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67160" y="5452920"/>
            <a:ext cx="74520" cy="74880"/>
          </a:xfrm>
          <a:custGeom>
            <a:avLst/>
            <a:gdLst/>
            <a:ahLst/>
            <a:rect l="l" t="t" r="r" b="b"/>
            <a:pathLst>
              <a:path w="36" h="37">
                <a:moveTo>
                  <a:pt x="0" y="21"/>
                </a:moveTo>
                <a:lnTo>
                  <a:pt x="30" y="37"/>
                </a:lnTo>
                <a:lnTo>
                  <a:pt x="36" y="16"/>
                </a:lnTo>
                <a:lnTo>
                  <a:pt x="6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0960" y="5875200"/>
            <a:ext cx="74520" cy="74880"/>
          </a:xfrm>
          <a:custGeom>
            <a:avLst/>
            <a:gdLst/>
            <a:ahLst/>
            <a:rect l="l" t="t" r="r" b="b"/>
            <a:pathLst>
              <a:path w="25" h="32">
                <a:moveTo>
                  <a:pt x="0" y="21"/>
                </a:moveTo>
                <a:lnTo>
                  <a:pt x="19" y="32"/>
                </a:lnTo>
                <a:lnTo>
                  <a:pt x="25" y="10"/>
                </a:lnTo>
                <a:lnTo>
                  <a:pt x="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088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9760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9932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6756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248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124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820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3572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748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0420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6296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1992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7868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3924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7100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11240" y="5964120"/>
            <a:ext cx="801720" cy="22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12960" y="5505480"/>
            <a:ext cx="803520" cy="458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16480" y="4141800"/>
            <a:ext cx="801360" cy="136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17840" y="4141800"/>
            <a:ext cx="81144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29280" y="4218120"/>
            <a:ext cx="799920" cy="141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29200" y="5634000"/>
            <a:ext cx="801720" cy="262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30920" y="5896080"/>
            <a:ext cx="80352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34440" y="5972040"/>
            <a:ext cx="801360" cy="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66960" y="5883120"/>
            <a:ext cx="79200" cy="7488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70120" y="1981080"/>
            <a:ext cx="77760" cy="7488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70400" y="5446800"/>
            <a:ext cx="8100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83200" y="5943600"/>
            <a:ext cx="8100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89880" y="5943600"/>
            <a:ext cx="7776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89800" y="5943600"/>
            <a:ext cx="7956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91520" y="5943600"/>
            <a:ext cx="8100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66960" y="5943600"/>
            <a:ext cx="7920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0120" y="5919840"/>
            <a:ext cx="777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70400" y="5460840"/>
            <a:ext cx="81000" cy="7488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72120" y="4097160"/>
            <a:ext cx="82440" cy="7488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83200" y="4172040"/>
            <a:ext cx="8100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86360" y="5587920"/>
            <a:ext cx="777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89880" y="5853240"/>
            <a:ext cx="777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89800" y="5927760"/>
            <a:ext cx="795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91520" y="5943600"/>
            <a:ext cx="8100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867280"/>
            <a:ext cx="25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4956120"/>
            <a:ext cx="4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037040"/>
            <a:ext cx="4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125880"/>
            <a:ext cx="4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22680" y="22096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27000" y="1295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70120" y="617544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3280" y="617544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1776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1948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056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3408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400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3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3896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3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3888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4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387680" y="2325600"/>
            <a:ext cx="679320" cy="74520"/>
            <a:chOff x="4387680" y="2325600"/>
            <a:chExt cx="679320" cy="74520"/>
          </a:xfrm>
        </p:grpSpPr>
        <p:sp>
          <p:nvSpPr>
            <p:cNvPr id="261" name=""/>
            <p:cNvSpPr/>
            <p:nvPr/>
          </p:nvSpPr>
          <p:spPr>
            <a:xfrm>
              <a:off x="4387680" y="2364480"/>
              <a:ext cx="679320" cy="5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62720" y="2325600"/>
              <a:ext cx="79560" cy="745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369760" y="1965240"/>
            <a:ext cx="26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 Fortificación (4.3 ± 1.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84160" y="2238480"/>
            <a:ext cx="292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ost Fortificación  (16.8 ± 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79840" y="3490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05120" y="1980720"/>
            <a:ext cx="83808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1981080"/>
            <a:ext cx="838440" cy="3505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5486400"/>
            <a:ext cx="838080" cy="457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5943600"/>
            <a:ext cx="312408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419720" y="2050920"/>
            <a:ext cx="678960" cy="74520"/>
            <a:chOff x="4419720" y="2050920"/>
            <a:chExt cx="678960" cy="74520"/>
          </a:xfrm>
        </p:grpSpPr>
        <p:sp>
          <p:nvSpPr>
            <p:cNvPr id="271" name=""/>
            <p:cNvSpPr/>
            <p:nvPr/>
          </p:nvSpPr>
          <p:spPr>
            <a:xfrm>
              <a:off x="4419720" y="2089800"/>
              <a:ext cx="678960" cy="54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94760" y="2050920"/>
              <a:ext cx="79560" cy="74520"/>
            </a:xfrm>
            <a:prstGeom prst="ellipse">
              <a:avLst/>
            </a:prstGeom>
            <a:solidFill>
              <a:srgbClr val="0000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260680" y="2479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N=6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10666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Hertrampf et al, FASEB J 2002;16:A2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29280" cy="4335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295280" y="307800"/>
            <a:ext cx="76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http://www.junaeb.cl/programa.h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Deserción escolar según nivel de ingreso y participación en el P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70600" cy="4114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392800" y="624852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ahoma"/>
              </a:rPr>
              <a:t>Fuente: CASEN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Nutrición como base del desarrollo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l estado nutricional es un indicador fundamental en las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Metas del Milenio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 del Programa de Naciones Unidas para el desarrollo (PNU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s un reconocimiento a que las políticas, programas y procesos para mejorar la nutrición tienen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un papel fundamental en el desarrollo global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stá presente en 6 de los 18 objet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: “Red de protección social de Nicaragua”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12193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ransferencia en dinero a familias rurales en extrema pobr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Ayuda condicionada al cumplimiento de acciones para mejorar el desarrollo del capital humano de los niñ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mayor gasto en al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reducir deserción los primeros 4 años de 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mayores controles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mejor estado nutricional en &lt; de 5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Si no cumplen,  pierden el benefi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Nicaragua: cambios en indicadores sociales después de 2 años (% de la línea base)</a:t>
            </a: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1295280" y="1600200"/>
            <a:ext cx="10667880" cy="4667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6880" y="624852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Fuente: 5th Report WNS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905120" y="30492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Lucida Handwriting"/>
              </a:rPr>
              <a:t>¡¡¡Gracias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logo%20uch" descr=""/>
          <p:cNvPicPr/>
          <p:nvPr/>
        </p:nvPicPr>
        <p:blipFill>
          <a:blip r:embed="rId1"/>
          <a:stretch/>
        </p:blipFill>
        <p:spPr>
          <a:xfrm>
            <a:off x="7924680" y="0"/>
            <a:ext cx="733680" cy="1271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Contribución de la nutrición para alcanzar las metas del milenio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1: erradicar la extrema pobreza y el ham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2: alcanzar educación primaria 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3: promover la igualdad de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4: reducir la mortalidad infan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5: mejorar la salud mate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6: combatir el VIH, malaria y otras infe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Marco conceptual de la des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295280"/>
            <a:ext cx="1371600" cy="1219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Times New Roman"/>
              </a:rPr>
              <a:t>Desnutr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133720"/>
            <a:ext cx="121932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133720"/>
            <a:ext cx="121896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Enferm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3505320"/>
            <a:ext cx="121896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cuidados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81280"/>
            <a:ext cx="121932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ac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733920"/>
            <a:ext cx="129528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Med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no salu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876920"/>
            <a:ext cx="152388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66880" y="2209320"/>
            <a:ext cx="533520" cy="2286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495320" y="2133720"/>
            <a:ext cx="685800" cy="304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152388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25146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1649520"/>
            <a:ext cx="129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Times New Roman"/>
              </a:rPr>
              <a:t>Manife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Times New Roman"/>
              </a:rPr>
              <a:t>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590920"/>
            <a:ext cx="14479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Cau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inmedia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3657600"/>
            <a:ext cx="14479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Cau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subyac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2514600"/>
            <a:ext cx="0" cy="990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3047760"/>
            <a:ext cx="0" cy="5331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33920" y="5638680"/>
            <a:ext cx="0" cy="5335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67080" y="2895120"/>
            <a:ext cx="990720" cy="685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438280" y="2819160"/>
            <a:ext cx="609840" cy="685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743200"/>
            <a:ext cx="2362320" cy="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657600" y="4343400"/>
            <a:ext cx="0" cy="5335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5040" y="6176880"/>
            <a:ext cx="652068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ff"/>
                </a:solidFill>
                <a:latin typeface="Times New Roman"/>
              </a:rPr>
              <a:t>Organización política, económica y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24280" y="4495320"/>
            <a:ext cx="457200" cy="16002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133360" y="4572000"/>
            <a:ext cx="533160" cy="1447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49528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459400"/>
            <a:ext cx="14475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Cau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básic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95880" y="3124080"/>
            <a:ext cx="0" cy="5335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657600"/>
            <a:ext cx="129564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Serv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334120" y="3047760"/>
            <a:ext cx="304560" cy="6094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62720" y="4495680"/>
            <a:ext cx="838080" cy="1828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679400"/>
            <a:ext cx="8839080" cy="4386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228600"/>
            <a:ext cx="70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¿Es reversible el daño nutricional después de los 18 mes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7840" y="6392880"/>
            <a:ext cx="37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: Shrimpton et al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228600"/>
            <a:ext cx="70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¿Cómo es la situación nutricional del preescolar en la regió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Déficit de peso-edad en menores de 5 años (peso-edad &lt; -2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25000" cy="5105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6640" y="63244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: OM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Déficit de talla-edad en menores </a:t>
            </a:r>
            <a:br>
              <a:rPr sz="3200"/>
            </a:b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de 5 años  (&lt; -2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05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6640" y="63244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: OM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05:14:54Z</dcterms:created>
  <dc:creator>Eduardo Atalah Samur</dc:creator>
  <dc:description/>
  <dc:language>en-US</dc:language>
  <cp:lastModifiedBy>EDUARDO ATALAH SAMUR</cp:lastModifiedBy>
  <cp:lastPrinted>2002-10-20T23:28:24Z</cp:lastPrinted>
  <dcterms:modified xsi:type="dcterms:W3CDTF">2004-11-04T19:37:07Z</dcterms:modified>
  <cp:revision>73</cp:revision>
  <dc:subject/>
  <dc:title> Prevención, tratamiento y control  de la desnutrición infantil. </dc:title>
</cp:coreProperties>
</file>