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0ECDB-7E93-4DCB-9644-C43151503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2CB71-D05D-4944-A40D-6B686D0F7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69450-A896-44C3-8940-51E2219A7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11E87-D498-4584-83D3-E01BFA670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F8B58-12A0-40CB-96FA-F1070CFF8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ED2AE-C747-49F5-B555-25FB6F02B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11149-7E19-41E2-9FCB-066AA75E4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57B7E-AD31-44E4-BEB2-2A2D9C379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4DF07-4EF6-4D2C-A23D-84E18C99D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D3C98-02D1-407B-8EB6-1B08302BF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B19A1-B4F4-4FFF-B4F6-F434ACE28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683EA-BFEC-4D22-86D3-1F078429D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D798-1772-4615-A95D-C73F5460631D}"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ras institucion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JUV -Instituto Nacional de la Juventud-</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RNAM -Servicio Nacional de la Mujer-</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ADI -Corporación Nacional de Desarrollo Indígen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NADIS -Fondo Nacional de la Discapacidad-</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SIS -Fondo de Solidaridad e Inversión Social-</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4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 objetivo es incorporar a las 225.000 familias que viven actualmente en situación de extrema pobreza o indigencia (según datos proporcionados por la Encuesta CASEN del año 2000) a la red de protección social del Estado. Una vez seleccionadas, las familias son contactadas e invitadas a participar del Sistema. Quienes aceptan firman un 'Contrato Familiar' de mejoramiento de sus condiciones de vida, en el cual se establece un compromiso entre el </a:t>
            </a:r>
            <a:r>
              <a:rPr b="0" i="1" lang="es-ES" sz="2400" spc="-1" strike="noStrike">
                <a:solidFill>
                  <a:srgbClr val="000000"/>
                </a:solidFill>
                <a:latin typeface="Times New Roman"/>
              </a:rPr>
              <a:t>Gobierno</a:t>
            </a:r>
            <a:r>
              <a:rPr b="0" lang="es-ES" sz="2400" spc="-1" strike="noStrike">
                <a:solidFill>
                  <a:srgbClr val="000000"/>
                </a:solidFill>
                <a:latin typeface="Times New Roman"/>
              </a:rPr>
              <a:t>, que asume la responsabilidad de poner a al servicio de la familia un conjunto de apoyos y recursos y la </a:t>
            </a:r>
            <a:r>
              <a:rPr b="0" i="1" lang="es-ES" sz="2400" spc="-1" strike="noStrike">
                <a:solidFill>
                  <a:srgbClr val="000000"/>
                </a:solidFill>
                <a:latin typeface="Times New Roman"/>
              </a:rPr>
              <a:t>familia</a:t>
            </a:r>
            <a:r>
              <a:rPr b="0" lang="es-ES" sz="2400" spc="-1" strike="noStrike">
                <a:solidFill>
                  <a:srgbClr val="000000"/>
                </a:solidFill>
                <a:latin typeface="Times New Roman"/>
              </a:rPr>
              <a:t>, que se compromete a trabajar para superar aquellos aspectos de mayor precariedad  y necesidad definidos por ellos mismos, utilizando las oportunidades que la red social local le ofrece. </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onsideran para la intervención un conjunto de siete dimensiones en la vida de las familias: identificación, salud, educación, dinámica familiar, habitabilidad, trabajo e ingresos. Para cada una de estas dimensiones, se han identificado condiciones mínimas de calidad de vida, que en total suman 53. Se entiende en este Sistema que una familia supera su condición de indigencia en la medida que logra alcanzar estas 53 condiciones mínim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ención especial merece el FOSIS -Fondo de Solidaridad e Inversión Social- creado en 1990. Este servicio público tiene la finalidad de financiar planes, programas, proyectos y actividades especiales de desarrollo social, que contribuyan, principalmente, a la superación de la pobreza. Para ello debe aportar con respuestas originales en temas, áreas y enfoques de trabajo, complementándose con otros servicios y ministerio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de las más importantes prioridades de las políticas y programas sociales impulsados en los gobiernos de la concertación ha sido la superación de la pobreza. Durante el gobierno de Patricio Aylwin, esta tarea es abordada dentro del conjunto de temáticas que componen lo que se llamó el pago de la deuda social, uno de los más importantes componentes de la transición. Sin embargo, la superación de la pobreza es explicitada como problemática en sí misma en las propuestas de Frei Ruiz-Tagle, proponiendo el diseño y planificación de políticas para erradicar la llamada pobreza extrema.</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Comité Interministerial Social (CIS)</a:t>
            </a:r>
            <a:endParaRPr b="0" lang="en-US" sz="3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eado bajo el gobierno de Frei Ruiz-Tagle con las tareas de: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visar, evaluar y priorizar los programas sociales sectoriales;</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poyar las instancias de coordinación a nivel central y regional pertinentes a los programas de superación de la pobreza;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ntribuir al mejoramiento de la capacidades técnicas y de gestión de los órganos responsables y los ejecutores de los programas de superación de la pobreza;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alizar seguimientos del desempeño de los programas sociales y rectificarlos si corresponde en su ejecución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 velar por una mejor coordinación y coherencia en la ejecución de las políticas y programas sociales de gobierno (Hardy, 199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Plan Nacional para la Superación de la Pobreza (PNSP)</a:t>
            </a:r>
            <a:endParaRPr b="0" lang="en-US" sz="3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ado por la secretaría Ejecutiva del CIS, su objetivo </a:t>
            </a:r>
            <a:r>
              <a:rPr b="0" lang="es-ES" sz="2400" spc="-1" strike="noStrike">
                <a:solidFill>
                  <a:srgbClr val="000000"/>
                </a:solidFill>
                <a:latin typeface="Times New Roman"/>
              </a:rPr>
              <a:t>era “direccionar la acción pública hacia territorios y/o segmentos pobres de la población y coordinar entre sí los programas públicos relevantes para la superación de la pobreza, apuntando hacia una gestión social innovadora, cuyos ejes centrales serían la integralidad, la descentralización y la participación” (Raczynski, s/f). Junto a lo anterior, el PNSP debe apuntar hacia una política de inversión social en las personas, que tenga como eje la búsqueda de la igualdad de oportunidades.</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NSP tuvo dos líneas de acción principales. La primera fue motivar y estimular a los ministerios para que visualizaran y evaluaran sus prioridades y programas considerando criterios de superación de la pobreza, para lo cual se realizó un catastro de los programas sociales distribuidos en diferentes ministerios y servicios. Entre los resultados de este trabajo aparece que la gran mayoría de estos programas fueron iniciados con posterioridad a 1990 y que casi tres cuartas partes de ellos colocaban el acento en la inversión social, en desmedro de los subsidios o políticas de corte asistencialist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egunda línea de acción fue el diseño e implementación del Programa Especial de Comunas (PEC). En primer lugar, se elaboraron mapas territoriales de pobreza a nivel de provincias y desde allí se seleccionaron las comunas prioritarias, identificándose las 79 comunas más pobres del país. Sobre ellas, a mediados de 1994, se comienza a implementar el PEC. Entre los objetivos de este programa está el incentivar la participación de la población, de las diferentes instituciones públicas y los actores del sector privado, en las iniciativas locales de superación de la pobreza, ya sea en su formulación como en su ejecución; buscándose, de esta manera, generar capacidades de gestión social local en los involucrados. La responsabilidad de su implementación a nivel regional  recayó sobre el Intendente, siendo los Gobernadores los que debían liderar el trabajo en las comun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nto a todo lo anterior, la propuesta de política para enfrentar la extrema pobreza impulsada por el gobierno de Frei Ruiz-Tagle concebía además a) la constitución del Consejo Nacional para la Superación de la Pobreza (CNSP) -entidad que se constituyera en un lugar de reflexión y propuestas de la sociedad civil encaminadas a superar la pobreza extrema-, y b) asesorar a la autoridad en la aplicación del Plan Nacional de Superación de la Pobrez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NSP pasó luego a llamarse Fundación nacional para la Superación de la Pobreza (FUNASU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l programa Chile Solidario</a:t>
            </a:r>
            <a:endParaRPr b="0" lang="en-US" sz="32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hile Solidario es definido como un </a:t>
            </a:r>
            <a:r>
              <a:rPr b="0" i="1" lang="es-ES" sz="2400" spc="-1" strike="noStrike">
                <a:solidFill>
                  <a:srgbClr val="000000"/>
                </a:solidFill>
                <a:latin typeface="Times New Roman"/>
              </a:rPr>
              <a:t>sistema de protección social para</a:t>
            </a:r>
            <a:r>
              <a:rPr b="0" lang="es-ES" sz="2400" spc="-1" strike="noStrike">
                <a:solidFill>
                  <a:srgbClr val="000000"/>
                </a:solidFill>
                <a:latin typeface="Times New Roman"/>
              </a:rPr>
              <a:t> </a:t>
            </a:r>
            <a:r>
              <a:rPr b="0" i="1" lang="es-ES" sz="2400" spc="-1" strike="noStrike">
                <a:solidFill>
                  <a:srgbClr val="000000"/>
                </a:solidFill>
                <a:latin typeface="Times New Roman"/>
              </a:rPr>
              <a:t>las familias en extrema pobreza</a:t>
            </a:r>
            <a:r>
              <a:rPr b="0" lang="es-ES" sz="2400" spc="-1" strike="noStrike">
                <a:solidFill>
                  <a:srgbClr val="000000"/>
                </a:solidFill>
                <a:latin typeface="Times New Roman"/>
              </a:rPr>
              <a:t> que combina elementos de asistencia y promoción desde una perspectiva integradora. Este sistema está centrado en la familia como unidad de intervención y entiende la extrema pobreza como un </a:t>
            </a:r>
            <a:r>
              <a:rPr b="0" i="1" lang="es-ES" sz="2400" spc="-1" strike="noStrike">
                <a:solidFill>
                  <a:srgbClr val="000000"/>
                </a:solidFill>
                <a:latin typeface="Times New Roman"/>
              </a:rPr>
              <a:t>problema multidimensional</a:t>
            </a:r>
            <a:r>
              <a:rPr b="0" lang="es-ES" sz="2400" spc="-1" strike="noStrike">
                <a:solidFill>
                  <a:srgbClr val="000000"/>
                </a:solidFill>
                <a:latin typeface="Times New Roman"/>
              </a:rPr>
              <a:t> que no se relaciona solamente con la falta de ingresos monetarios, sino que también con un escaso capital humano y social y con una alta vulnerabilidad ante sucesos que afectan a las familias (enfermedades, accidentes, cesantía, entre otros).</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17:20:15Z</dcterms:created>
  <dc:creator>Anna Pinheiro</dc:creator>
  <dc:description/>
  <dc:language>en-US</dc:language>
  <cp:lastModifiedBy>Anna Pinheiro</cp:lastModifiedBy>
  <dcterms:modified xsi:type="dcterms:W3CDTF">2004-10-05T17:20:22Z</dcterms:modified>
  <cp:revision>1</cp:revision>
  <dc:subject/>
  <dc:title>Políticas y programas para la superación de la pobreza</dc:title>
</cp:coreProperties>
</file>