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073B-9473-46D9-9CA3-D327823C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BBBE-02FD-43BE-9F77-ADEC525D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160-C253-455A-A30F-D9F0EA90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BDF1-829A-44E6-8F53-A8178F99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5D97-56F6-4E72-ABC9-58CA3D03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B13-5FB2-470E-A8A8-EE33A812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ED9-343A-488F-8B57-383A1A51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8FE9-D261-447E-9D25-758A56AB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DAE-A959-4CDC-8EF6-5AEEFB5A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9ADD-9F92-4B3E-916D-A5CB610E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18F2-3996-4D8F-9EA9-231EC88D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414-4763-4955-B690-11FA3D2F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2C9C-5ADD-4DE6-8A61-68FB96202135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OBREZA: 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oncepto, indicadores y progra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cuela de Nutr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conomía Familiar y de Hog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f.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nna Christina Pinheiro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Julieta Pal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concepto de 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dicadores de 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volución de la pobreza en Chile durante los 9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líticas y programas para la superación de la pobre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volución de la pobreza en Chile durante los 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1120" y="2163600"/>
          <a:ext cx="7754760" cy="374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163600"/>
                    <a:ext cx="7754760" cy="37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volución de la pobreza en Chile durante los 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1066680"/>
          <a:ext cx="8232840" cy="55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8232840" cy="55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volución de la pobreza en Chile durante los 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1120" y="1986120"/>
          <a:ext cx="7823160" cy="474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986120"/>
                    <a:ext cx="782316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olíticas y programas para la superación de la pobre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ras institu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JUV -Instituto Nacional de la Juventu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RNAM -Servicio Nacional de la Muj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ADI -Corporación Nacional de Desarrollo Indígen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NADIS -Fondo Nacional de la Discapacida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SIS -Fondo de Solidaridad e Inversión Social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21:21:52Z</dcterms:created>
  <dc:creator>Anna Pinheiro</dc:creator>
  <dc:description/>
  <dc:language>en-US</dc:language>
  <cp:lastModifiedBy>Anna Pinheiro</cp:lastModifiedBy>
  <dcterms:modified xsi:type="dcterms:W3CDTF">2004-09-23T21:28:18Z</dcterms:modified>
  <cp:revision>6</cp:revision>
  <dc:subject/>
  <dc:title>Presentación de PowerPoint</dc:title>
</cp:coreProperties>
</file>