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6E9-230B-4F48-A7BE-342F797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2A6-6EAE-46D5-B36F-8BC4478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906-CA2C-4437-A9C9-65E46E42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234-14E9-40E6-B8D7-E78B25CD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D18-C57F-4A7F-B4C5-9DE6ADA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F94-747A-4878-A00E-3CAB5B4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C18-524B-42C1-B7EE-0AF8635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B14-9DAE-44E5-9FE1-1567CED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A84-3125-4339-926D-39228776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F68-DCA4-4D20-AD07-4F67936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A2C-B9DD-4E53-89D3-6AA2119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6E1-06E6-4B7E-B299-4F7BE3F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C4D-104B-4633-8AED-B1E189B1775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BREZA: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epto, indicadores y progra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uela de Nutr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conomía Familiar y de Hog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f.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nna Christina Pinheir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Julieta Pal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concepto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dicadores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1120" y="2163600"/>
          <a:ext cx="7754760" cy="37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63600"/>
                    <a:ext cx="77547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066680"/>
          <a:ext cx="8232840" cy="55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2328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1120" y="1986120"/>
          <a:ext cx="7823160" cy="47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6120"/>
                    <a:ext cx="782316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JUV -Instituto Nacional de la Juvent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NAM -Servicio Nacional de la Muj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ADI -Corporación Nacional de Desarrollo Indígen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ADIS -Fondo Nacional de la Discapacida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IS -Fondo de Solidaridad e Inversión Social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21:21:52Z</dcterms:created>
  <dc:creator>Anna Pinheiro</dc:creator>
  <dc:description/>
  <dc:language>en-US</dc:language>
  <cp:lastModifiedBy>Anna Pinheiro</cp:lastModifiedBy>
  <dcterms:modified xsi:type="dcterms:W3CDTF">2004-09-23T21:28:18Z</dcterms:modified>
  <cp:revision>6</cp:revision>
  <dc:subject/>
  <dc:title>Presentación de PowerPoint</dc:title>
</cp:coreProperties>
</file>