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344-D0EF-48E0-9044-AF74CF43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E3-1226-49FA-A699-C89788C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4F1-7CD5-452E-BF52-19D74543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1A5-8840-42CF-B1BE-AA32ED83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971-0C92-4742-BFDE-62BFF198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D8D-6414-44F0-8DA0-863B530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61-D1EA-45F8-B5AF-1F108832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5F3-7849-42CC-8D2D-1EF266E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E71-A51A-4737-8440-795BC11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450-3F33-49E1-BEBF-8ABFC84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2BD-ABE6-474D-8BB7-2914FC4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6AC-39A3-4D4E-A2B5-48BD13B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6BD5-861F-42E1-B2B4-308A0E13CBF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BREZA: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epto, indicadores y progra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uela de Nutr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conomía Familiar y de Hog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f.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nna Christina Pinheir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Julieta Pal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concepto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dicadores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1120" y="2163600"/>
          <a:ext cx="7754760" cy="37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63600"/>
                    <a:ext cx="77547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066680"/>
          <a:ext cx="8232840" cy="55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2328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1120" y="1986120"/>
          <a:ext cx="7823160" cy="47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6120"/>
                    <a:ext cx="782316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JUV -Instituto Nacional de la Juvent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NAM -Servicio Nacional de la Muj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ADI -Corporación Nacional de Desarrollo Indígen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ADIS -Fondo Nacional de la Discapacida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IS -Fondo de Solidaridad e Inversión Social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21:21:52Z</dcterms:created>
  <dc:creator>Anna Pinheiro</dc:creator>
  <dc:description/>
  <dc:language>en-US</dc:language>
  <cp:lastModifiedBy>Anna Pinheiro</cp:lastModifiedBy>
  <dcterms:modified xsi:type="dcterms:W3CDTF">2004-09-23T21:28:18Z</dcterms:modified>
  <cp:revision>6</cp:revision>
  <dc:subject/>
  <dc:title>Presentación de PowerPoint</dc:title>
</cp:coreProperties>
</file>