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216-4F20-4F86-9708-F38A3CC14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EA7-3401-484E-8DE9-5384B920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BD2-AC41-4A05-8D3E-2295D3A8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63D-ED3B-4DC3-85B0-B1C26D5F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D49-323C-43B4-A3D8-3973C7E1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80-096B-46DD-B8BE-4E35720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4A2D-E814-4352-9BE2-7FD83A5D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303-8CCB-4D4C-84D5-B9D5307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947-9BED-437B-9CDA-7349D944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A61-446A-460B-B6C5-0F9405E1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EEF-0634-42FD-A979-65EBA0EB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D3F-CD34-40C2-AD98-CE5D448B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4F9-A17B-4854-A315-115F95C418C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OBREZA: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oncepto, indicadores y progra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cuela de Nutr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conomía Familiar y de Hog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f.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Anna Christina Pinheir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Julieta Pal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concepto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dicadores de 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1120" y="2163600"/>
          <a:ext cx="7754760" cy="37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63600"/>
                    <a:ext cx="775476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066680"/>
          <a:ext cx="8232840" cy="55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23284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volución de la pobreza en Chile durante los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1120" y="1986120"/>
          <a:ext cx="7823160" cy="474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986120"/>
                    <a:ext cx="782316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olíticas y programas para la superación de la 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as instit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JUV -Instituto Nacional de la Juventu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NAM -Servicio Nacional de la Muj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ADI -Corporación Nacional de Desarrollo Indígen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NADIS -Fondo Nacional de la Discapacida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SIS -Fondo de Solidaridad e Inversión Social-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21:21:52Z</dcterms:created>
  <dc:creator>Anna Pinheiro</dc:creator>
  <dc:description/>
  <dc:language>en-US</dc:language>
  <cp:lastModifiedBy>Anna Pinheiro</cp:lastModifiedBy>
  <dcterms:modified xsi:type="dcterms:W3CDTF">2004-09-23T21:28:18Z</dcterms:modified>
  <cp:revision>6</cp:revision>
  <dc:subject/>
  <dc:title>Presentación de PowerPoint</dc:title>
</cp:coreProperties>
</file>