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7EC-E555-4628-9F73-7ADC38A5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3D2-664C-401D-95C7-EDEED9A5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891-1BFA-4F16-A988-FF32AE2A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EDC-EE22-484C-9446-97B813EE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982-6F61-4676-8921-06CC5BB5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356-F955-47C3-9A97-0C0C5C8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1B1-CDCF-4BC4-92EA-25A6F71C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DE0-185B-4B26-8B79-9D94CF1A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608-6C60-4993-84AB-F9F4BE51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FC0-9AE6-4262-ADA7-BB944673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EE2-4359-4C9E-9DF5-B221A6BD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953-88A8-47EC-BEF8-91C216D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D231-E9B3-422A-960C-970996F38AC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BREZA: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oncepto, indicadores y progra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cuela de Nutr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conomía Familiar y de Hog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f.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nna Christina Pinheir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Julieta Pal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concepto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dicadores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1120" y="2163600"/>
          <a:ext cx="7754760" cy="37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63600"/>
                    <a:ext cx="775476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066680"/>
          <a:ext cx="8232840" cy="55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23284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1120" y="1986120"/>
          <a:ext cx="7823160" cy="474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86120"/>
                    <a:ext cx="782316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instit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JUV -Instituto Nacional de la Juvent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NAM -Servicio Nacional de la Muj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ADI -Corporación Nacional de Desarrollo Indígen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NADIS -Fondo Nacional de la Discapacida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SIS -Fondo de Solidaridad e Inversión Social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21:21:52Z</dcterms:created>
  <dc:creator>Anna Pinheiro</dc:creator>
  <dc:description/>
  <dc:language>en-US</dc:language>
  <cp:lastModifiedBy>Anna Pinheiro</cp:lastModifiedBy>
  <dcterms:modified xsi:type="dcterms:W3CDTF">2004-09-23T21:28:18Z</dcterms:modified>
  <cp:revision>6</cp:revision>
  <dc:subject/>
  <dc:title>Presentación de PowerPoint</dc:title>
</cp:coreProperties>
</file>