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231-0404-4FAA-8C0F-5A79ECDF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90F-BBA7-49B4-B040-BAFCF4EE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8F1-DED3-465D-9821-14FE05CF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600-EF24-490E-A165-DD8D531C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F0B-8DC4-4C30-B69E-6F782CF5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364-D985-4EAD-8ED7-718C4DB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F1D-9C6E-4463-A1ED-DEA74BB8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1F5-9CDB-4D85-82DA-596770FF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490-219B-4F93-9A4E-781872FB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162-4101-40D5-A9EE-33E50886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727-48B4-4B56-95A2-38C79DE7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3C2-82F5-4ABA-BFBF-07A8611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704A-FDB8-4E66-B094-FFD253D10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TENCIAL QUÍMICO y POTENCIAL ELECTRO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TENCIAL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9144000" cy="69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mbranas Biológicas FCMI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609480"/>
            <a:ext cx="327636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4724280"/>
          <a:ext cx="5773680" cy="8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724280"/>
                    <a:ext cx="5773680" cy="86544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914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68580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12193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685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 =  lectura de voltí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a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80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191772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03080" y="129528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6858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4479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800600" y="685800"/>
            <a:ext cx="1295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8120"/>
            <a:ext cx="8839080" cy="34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)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impermeable al paso de cualquier ión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)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sólo permeable al paso de agu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I)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de igual manera a ambos  ione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V)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sólo a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: potencial de equilibrio del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438280"/>
            <a:ext cx="175284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Por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85800" y="228600"/>
            <a:ext cx="6781680" cy="6026040"/>
            <a:chOff x="685800" y="228600"/>
            <a:chExt cx="6781680" cy="602604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"/>
              <a:ext cx="27003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4267080" y="2514600"/>
              <a:ext cx="270684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05520" y="46483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3600" y="4648320"/>
              <a:ext cx="7621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48320" y="91440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09480" y="457200"/>
            <a:ext cx="8469360" cy="6095880"/>
            <a:chOff x="609480" y="457200"/>
            <a:chExt cx="8469360" cy="60958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9480" y="457200"/>
              <a:ext cx="268632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002280" y="2971800"/>
              <a:ext cx="30765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64832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520" y="457200"/>
            <a:ext cx="7943760" cy="5943600"/>
            <a:chOff x="533520" y="457200"/>
            <a:chExt cx="7943760" cy="5943600"/>
          </a:xfrm>
        </p:grpSpPr>
        <p:sp>
          <p:nvSpPr>
            <p:cNvPr id="112" name=""/>
            <p:cNvSpPr/>
            <p:nvPr/>
          </p:nvSpPr>
          <p:spPr>
            <a:xfrm>
              <a:off x="838080" y="4495680"/>
              <a:ext cx="4038840" cy="152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33520" y="457200"/>
              <a:ext cx="280008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791320" y="2819520"/>
              <a:ext cx="26859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4572000"/>
              <a:ext cx="38862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</a:t>
              </a:r>
              <a:r>
                <a:rPr b="1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s-ES" sz="4800" spc="-1" strike="noStrike" baseline="-25000">
                  <a:solidFill>
                    <a:srgbClr val="000000"/>
                  </a:solidFill>
                  <a:latin typeface="Times New Roman"/>
                </a:rPr>
                <a:t>eqNa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429000"/>
            <a:ext cx="647676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143000"/>
            <a:ext cx="7010280" cy="42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vimiento del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sde exterior al interior)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µ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= RT ln </a:t>
            </a: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733920"/>
            <a:ext cx="3348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733920"/>
            <a:ext cx="3351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733920"/>
            <a:ext cx="4460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905120"/>
            <a:ext cx="64771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79440"/>
            <a:ext cx="7010280" cy="58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quilibri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 = 0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lujo neto de iones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T ln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) = 0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T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ln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ext 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zF        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qNa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-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66400">
            <a:off x="4804200" y="3657240"/>
            <a:ext cx="4046400" cy="1690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V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eqNa+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= 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RT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In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Na</a:t>
            </a:r>
            <a:r>
              <a:rPr b="1" i="1" lang="es-CL" sz="3200" spc="-1" strike="noStrike" u="sng" baseline="-25000">
                <a:solidFill>
                  <a:srgbClr val="000000"/>
                </a:solidFill>
                <a:uFillTx/>
                <a:latin typeface="CG Times"/>
              </a:rPr>
              <a:t>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   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zF         Na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733920"/>
            <a:ext cx="47242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uerza electromotriz para un 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s células la mayoría de los iones no están en equilibrio electroquímico.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 tienen una vía de paso a través de la membran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van a entrar o salir de la célula dependiendo de l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f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e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ión se define como la diferencia entre el potencial de la membrana y el potencial de equilibrio del 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m = Vm - V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cationes entran a la célula si la fem es negativa y salen si la fem es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aniones entran a la célula si la fem es positiva y salen si la fem es nega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jemplo: fuerza electromotriz para N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, C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y K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las células de músculo esquelético en reposo Vm = -90 mV y las concentraciones (mM) internas y externas de sodio, calcio y potasi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t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37º los potenciales de equilibrio y las fem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q (mV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em (m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0.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6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28.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1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94.8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4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uego en reposo sodio y calcio entran a la célula y potasio sale de 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094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31800" y="4724280"/>
          <a:ext cx="6469200" cy="9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6469200" cy="9352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62120" y="9144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60948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219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de la membrana 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E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imes New Roman"/>
              </a:rPr>
              <a:t>Potencial Químico y Condición de Equilibrio 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potencial químico µ (energía potencial química) para un soluto que está presente a una concentración c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+ RT ln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 en un sistema existen diferencias de concentración, existe una diferencia de potencial químico. Para dos compartimentos separados por una membrana permeable al soluto la diferencia de potencial químico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= 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equilibrio químico no existan diferencias de potencial químico en el 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que implica que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que 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=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 importante destacar que para que se igualen las concentraciones la membrana debe ser permeable al soluto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31800" y="4724280"/>
          <a:ext cx="5715000" cy="12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5715000" cy="128916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14400" y="15238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6765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3048120" y="228600"/>
          <a:ext cx="4952880" cy="1217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28600"/>
                    <a:ext cx="4952880" cy="12175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5438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erenci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potencial electroquímic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µ =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µ = RT ln 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/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+ zF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3505320" cy="372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iferencia de potencial químico entre dos zonas de concentraciones 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gt;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µ= RT ln 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371600"/>
            <a:ext cx="4038480" cy="280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nergía  necesaria para llevar una carga Q desde un punt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 un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 Q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con Q  =  zF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elé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419720"/>
            <a:ext cx="3733920" cy="20822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or lo tanto, el movimiento (electrodifusión) tendrá su fuente de ENERGÍA en una gradiente electroquí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(potencial electroquímico) (</a:t>
            </a:r>
            <a:r>
              <a:rPr b="1" i="1" lang="es-E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</a:t>
            </a: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1219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838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685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4828800">
            <a:off x="3565800" y="5653800"/>
            <a:ext cx="1177920" cy="538200"/>
          </a:xfrm>
          <a:custGeom>
            <a:avLst/>
            <a:gdLst>
              <a:gd name="textAreaLeft" fmla="*/ 392760 w 1177920"/>
              <a:gd name="textAreaRight" fmla="*/ 1009080 w 1177920"/>
              <a:gd name="textAreaTop" fmla="*/ 309960 h 538200"/>
              <a:gd name="textAreaBottom" fmla="*/ 4611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 rot="2585400">
            <a:off x="7695720" y="3885120"/>
            <a:ext cx="914400" cy="533520"/>
          </a:xfrm>
          <a:custGeom>
            <a:avLst/>
            <a:gdLst>
              <a:gd name="textAreaLeft" fmla="*/ 304920 w 914400"/>
              <a:gd name="textAreaRight" fmla="*/ 783360 w 914400"/>
              <a:gd name="textAreaTop" fmla="*/ 36936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8057"/>
                </a:moveTo>
                <a:lnTo>
                  <a:pt x="14957" y="18057"/>
                </a:lnTo>
                <a:lnTo>
                  <a:pt x="14957" y="7200"/>
                </a:lnTo>
                <a:lnTo>
                  <a:pt x="11857" y="7200"/>
                </a:lnTo>
                <a:lnTo>
                  <a:pt x="1672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otencial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flujo de u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to ión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ntre dos puntos de un sistema depende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adiente de concentr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ferencia de potencial eléctr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otencial electroquímico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soluto iónico con carg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que está a concentrac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la suma del potencial químico más la energía potencial eléct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 + zFV = (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+ RT ln c) + zFV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sta expresión, la constante F se llama constante de Faraday y representa la carga que lleva un mol de iones monovalentes.  Se obtiene multiplicando la carga elemental del ión (q =  1.602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ul) por el número de Avogad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 = q x 6.023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= 96500 Coul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ondición de Equilibrio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un soluto iónico con distintas concentraciones en dos compartimentos separados por una membrana, la diferencia de potencial electroquími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obtiene equilibrio electroquímico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0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l equilibrio electroquím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-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T/zF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 es la ecuación de Ner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sin carga eléctrica, para obten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quilibrio químic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ta que se igualen sus concentraciones a ambos lado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iónico con carga z, sólo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equilibrio electroquímico si se cumple la ecuación de Nernst para el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01:00:25Z</dcterms:created>
  <dc:creator>Universidad De Chile</dc:creator>
  <dc:description/>
  <dc:language>en-US</dc:language>
  <cp:lastModifiedBy>u. de chile fac. medicina</cp:lastModifiedBy>
  <cp:lastPrinted>2002-04-01T22:24:16Z</cp:lastPrinted>
  <dcterms:modified xsi:type="dcterms:W3CDTF">2004-08-13T12:49:12Z</dcterms:modified>
  <cp:revision>30</cp:revision>
  <dc:subject/>
  <dc:title>Sin título de diapositiva</dc:title>
</cp:coreProperties>
</file>