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wmf" ContentType="image/x-wmf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459D1-1573-4CD9-958D-F6E5193DD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094A6-262F-4BED-BCC2-BE5A2147C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F2BC6-70FE-49D4-A623-3F7A93640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42D30-B5AF-46CB-8643-92044B5CF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E5232-C985-426E-A53B-55A02FE22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B1477-0BEF-46B7-977A-6524E0012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BDF7D-CB9A-43BD-8A18-83E76E340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C7F85-546A-4A14-BD34-D5FB8F737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5EC49-C296-4CD2-A86F-F61C4DAE6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1CAAC-33CF-4E18-AA81-91C61E5DE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13582-DF9B-4992-BC17-1A8516DE6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09813-421C-4E83-817A-26AAD4E70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69AEC-D271-4189-9529-3876315E63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POTENCIAL QUÍMICO y POTENCIAL ELECTROQUÍMIC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OTENCIAL DE MEMBRA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533520"/>
            <a:ext cx="9144000" cy="6969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Membranas Biológicas FCMI 200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04920" y="609480"/>
            <a:ext cx="3276360" cy="2514600"/>
          </a:xfrm>
          <a:prstGeom prst="ellipse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1523880" y="4724280"/>
          <a:ext cx="5773680" cy="865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4724280"/>
                    <a:ext cx="5773680" cy="865440"/>
                  </a:xfrm>
                  <a:prstGeom prst="rect">
                    <a:avLst/>
                  </a:prstGeom>
                  <a:ln w="3492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4" name=""/>
          <p:cNvSpPr/>
          <p:nvPr/>
        </p:nvSpPr>
        <p:spPr>
          <a:xfrm>
            <a:off x="685800" y="914400"/>
            <a:ext cx="2514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gradiente de concentració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transmembrana para esos 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562720" y="685800"/>
            <a:ext cx="2971800" cy="2514600"/>
          </a:xfrm>
          <a:prstGeom prst="ellipse">
            <a:avLst/>
          </a:prstGeom>
          <a:solidFill>
            <a:srgbClr val="ff00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867280" y="1219320"/>
            <a:ext cx="2514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permeabilidad relativa de la membrana a los iones específic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3581280" y="2819520"/>
            <a:ext cx="1676520" cy="170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143000" y="182880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mbr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019920" y="685800"/>
            <a:ext cx="228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V =  lectura de voltímet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62120" y="7621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Na 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752480" y="38088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00 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3581280" y="609480"/>
            <a:ext cx="1917720" cy="198144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1603080" y="1295280"/>
            <a:ext cx="77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0 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514600" y="685800"/>
            <a:ext cx="12193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286000" y="1447920"/>
            <a:ext cx="16765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514600" y="213372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flipV="1">
            <a:off x="4800600" y="685800"/>
            <a:ext cx="1295280" cy="5335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04920" y="3048120"/>
            <a:ext cx="8839080" cy="3456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I)     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M es impermeable al paso de cualquier ión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:            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V =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II)    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M es sólo permeable al paso de agua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:                      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V =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III)   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M es permeable de igual manera a ambos  iones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:     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V =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IV)  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M es permeable sólo a Na</a:t>
            </a:r>
            <a:r>
              <a:rPr b="1" lang="es-ES" sz="1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:                                     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V = V</a:t>
            </a:r>
            <a:r>
              <a:rPr b="1" lang="es-ES" sz="2000" spc="-1" strike="noStrike" baseline="-25000">
                <a:solidFill>
                  <a:srgbClr val="000000"/>
                </a:solidFill>
                <a:latin typeface="Times New Roman"/>
              </a:rPr>
              <a:t>eqNa+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Times New Roman"/>
              </a:rPr>
              <a:t>eqNa+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: potencial de equilibrio del Na</a:t>
            </a:r>
            <a:r>
              <a:rPr b="1" lang="es-ES" sz="1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324480" y="2438280"/>
            <a:ext cx="1752840" cy="45972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¿Porqué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685800" y="228600"/>
            <a:ext cx="6781680" cy="6026040"/>
            <a:chOff x="685800" y="228600"/>
            <a:chExt cx="6781680" cy="6026040"/>
          </a:xfrm>
        </p:grpSpPr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685800" y="228600"/>
              <a:ext cx="2700360" cy="373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4267080" y="2514600"/>
              <a:ext cx="2706840" cy="374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5105520" y="4648320"/>
              <a:ext cx="685800" cy="380880"/>
            </a:xfrm>
            <a:prstGeom prst="rightArrow">
              <a:avLst>
                <a:gd name="adj1" fmla="val 50000"/>
                <a:gd name="adj2" fmla="val 45014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3600" y="4648320"/>
              <a:ext cx="762120" cy="51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648320" y="914400"/>
              <a:ext cx="2819160" cy="82512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4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lang="es-ES" sz="4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lang="es-ES" sz="4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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609480" y="457200"/>
            <a:ext cx="8469360" cy="6095880"/>
            <a:chOff x="609480" y="457200"/>
            <a:chExt cx="8469360" cy="6095880"/>
          </a:xfrm>
        </p:grpSpPr>
        <p:pic>
          <p:nvPicPr>
            <p:cNvPr id="107" name="" descr=""/>
            <p:cNvPicPr/>
            <p:nvPr/>
          </p:nvPicPr>
          <p:blipFill>
            <a:blip r:embed="rId1"/>
            <a:stretch/>
          </p:blipFill>
          <p:spPr>
            <a:xfrm>
              <a:off x="609480" y="457200"/>
              <a:ext cx="2686320" cy="3581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" name="" descr=""/>
            <p:cNvPicPr/>
            <p:nvPr/>
          </p:nvPicPr>
          <p:blipFill>
            <a:blip r:embed="rId2"/>
            <a:stretch/>
          </p:blipFill>
          <p:spPr>
            <a:xfrm>
              <a:off x="6002280" y="2971800"/>
              <a:ext cx="3076560" cy="358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"/>
            <p:cNvSpPr/>
            <p:nvPr/>
          </p:nvSpPr>
          <p:spPr>
            <a:xfrm rot="17389800">
              <a:off x="4845960" y="-28800"/>
              <a:ext cx="731520" cy="3638520"/>
            </a:xfrm>
            <a:custGeom>
              <a:avLst/>
              <a:gdLst>
                <a:gd name="textAreaLeft" fmla="*/ 97920 w 731520"/>
                <a:gd name="textAreaRight" fmla="*/ 633600 w 731520"/>
                <a:gd name="textAreaTop" fmla="*/ 636480 h 3638520"/>
                <a:gd name="textAreaBottom" fmla="*/ 2638080 h 3638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676520" y="4648320"/>
              <a:ext cx="2819160" cy="82512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4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lang="es-ES" sz="4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lang="es-ES" sz="4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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" name=""/>
          <p:cNvGrpSpPr/>
          <p:nvPr/>
        </p:nvGrpSpPr>
        <p:grpSpPr>
          <a:xfrm>
            <a:off x="533520" y="457200"/>
            <a:ext cx="7943760" cy="5943600"/>
            <a:chOff x="533520" y="457200"/>
            <a:chExt cx="7943760" cy="5943600"/>
          </a:xfrm>
        </p:grpSpPr>
        <p:sp>
          <p:nvSpPr>
            <p:cNvPr id="112" name=""/>
            <p:cNvSpPr/>
            <p:nvPr/>
          </p:nvSpPr>
          <p:spPr>
            <a:xfrm>
              <a:off x="838080" y="4495680"/>
              <a:ext cx="4038840" cy="152424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3" name="" descr=""/>
            <p:cNvPicPr/>
            <p:nvPr/>
          </p:nvPicPr>
          <p:blipFill>
            <a:blip r:embed="rId1"/>
            <a:stretch/>
          </p:blipFill>
          <p:spPr>
            <a:xfrm>
              <a:off x="533520" y="457200"/>
              <a:ext cx="2800080" cy="373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" name="" descr=""/>
            <p:cNvPicPr/>
            <p:nvPr/>
          </p:nvPicPr>
          <p:blipFill>
            <a:blip r:embed="rId2"/>
            <a:stretch/>
          </p:blipFill>
          <p:spPr>
            <a:xfrm>
              <a:off x="5791320" y="2819520"/>
              <a:ext cx="2685960" cy="358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/>
            <p:nvPr/>
          </p:nvSpPr>
          <p:spPr>
            <a:xfrm rot="17389800">
              <a:off x="4845960" y="-28800"/>
              <a:ext cx="731520" cy="3638520"/>
            </a:xfrm>
            <a:custGeom>
              <a:avLst/>
              <a:gdLst>
                <a:gd name="textAreaLeft" fmla="*/ 97920 w 731520"/>
                <a:gd name="textAreaRight" fmla="*/ 633600 w 731520"/>
                <a:gd name="textAreaTop" fmla="*/ 636480 h 3638520"/>
                <a:gd name="textAreaBottom" fmla="*/ 2638080 h 3638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219320" y="4572000"/>
              <a:ext cx="3886200" cy="92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4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lang="es-ES" sz="4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lang="es-ES" sz="4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</a:t>
              </a:r>
              <a:r>
                <a:rPr b="1" lang="es-ES" sz="4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es-ES" sz="4800" spc="-1" strike="noStrike" baseline="-25000">
                  <a:solidFill>
                    <a:srgbClr val="000000"/>
                  </a:solidFill>
                  <a:latin typeface="Times New Roman"/>
                </a:rPr>
                <a:t>eqNa+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609480" y="457200"/>
            <a:ext cx="708660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990720" y="3429000"/>
            <a:ext cx="6476760" cy="10666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85800" y="457200"/>
            <a:ext cx="69343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¿Qué significa potencial de equilibri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57200" y="1143000"/>
            <a:ext cx="7010280" cy="427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Movimiento del 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Na</a:t>
            </a:r>
            <a:r>
              <a:rPr b="1" lang="es-ES_tradnl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 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(desde exterior al interior)              </a:t>
            </a:r>
            <a:r>
              <a:rPr b="1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µ &lt;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i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</a:rPr>
              <a:t>µ = µ</a:t>
            </a:r>
            <a:r>
              <a:rPr b="1" i="1" lang="es-ES_tradnl" sz="28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</a:rPr>
              <a:t> - µ</a:t>
            </a:r>
            <a:r>
              <a:rPr b="1" i="1" lang="es-ES_tradnl" sz="2800" spc="-1" strike="noStrike" baseline="-25000">
                <a:solidFill>
                  <a:srgbClr val="000000"/>
                </a:solidFill>
                <a:latin typeface="Times New Roman"/>
              </a:rPr>
              <a:t>ex</a:t>
            </a: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</a:rPr>
              <a:t> = RT ln </a:t>
            </a:r>
            <a:r>
              <a:rPr b="1" i="1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Na</a:t>
            </a:r>
            <a:r>
              <a:rPr b="1" i="1" lang="es-ES_tradnl" sz="2800" spc="-1" strike="noStrike" u="sng" baseline="-25000">
                <a:solidFill>
                  <a:srgbClr val="000000"/>
                </a:solidFill>
                <a:uFillTx/>
                <a:latin typeface="Times New Roman"/>
              </a:rPr>
              <a:t>in</a:t>
            </a:r>
            <a:r>
              <a:rPr b="1" i="1" lang="es-ES_tradnl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</a:rPr>
              <a:t>+ zF (V</a:t>
            </a:r>
            <a:r>
              <a:rPr b="1" i="1" lang="es-ES_tradnl" sz="2800" spc="-1" strike="noStrike" baseline="-25000">
                <a:solidFill>
                  <a:srgbClr val="000000"/>
                </a:solidFill>
                <a:latin typeface="Times New Roman"/>
              </a:rPr>
              <a:t>i   </a:t>
            </a: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</a:rPr>
              <a:t>-V</a:t>
            </a:r>
            <a:r>
              <a:rPr b="1" i="1" lang="es-ES_tradnl" sz="2800" spc="-1" strike="noStrike" baseline="-25000">
                <a:solidFill>
                  <a:srgbClr val="000000"/>
                </a:solidFill>
                <a:latin typeface="Times New Roman"/>
              </a:rPr>
              <a:t>ex</a:t>
            </a: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</a:rPr>
              <a:t>Na</a:t>
            </a:r>
            <a:r>
              <a:rPr b="1" i="1" lang="es-ES_tradnl" sz="2800" spc="-1" strike="noStrike" baseline="-25000">
                <a:solidFill>
                  <a:srgbClr val="000000"/>
                </a:solidFill>
                <a:latin typeface="Times New Roman"/>
              </a:rPr>
              <a:t>e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71600" y="3733920"/>
            <a:ext cx="334800" cy="2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81080" y="3733920"/>
            <a:ext cx="335160" cy="2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666880" y="3733920"/>
            <a:ext cx="446040" cy="2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0" y="17524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609480" y="457200"/>
            <a:ext cx="708660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57200" y="1905120"/>
            <a:ext cx="6477120" cy="10666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85800" y="457200"/>
            <a:ext cx="69343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¿Qué significa potencial de equilibri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57200" y="1279440"/>
            <a:ext cx="7010280" cy="58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equilibrio </a:t>
            </a:r>
            <a:r>
              <a:rPr b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u = 0 </a:t>
            </a:r>
            <a:r>
              <a:rPr b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flujo neto de iones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RT ln </a:t>
            </a:r>
            <a:r>
              <a:rPr b="1" i="1" lang="es-ES_tradnl" sz="2000" spc="-1" strike="noStrike" u="sng">
                <a:solidFill>
                  <a:srgbClr val="000000"/>
                </a:solidFill>
                <a:uFillTx/>
                <a:latin typeface="Times New Roman"/>
              </a:rPr>
              <a:t>Na</a:t>
            </a:r>
            <a:r>
              <a:rPr b="1" i="1" lang="es-ES_tradnl" sz="2000" spc="-1" strike="noStrike" u="sng" baseline="-25000">
                <a:solidFill>
                  <a:srgbClr val="000000"/>
                </a:solidFill>
                <a:uFillTx/>
                <a:latin typeface="Times New Roman"/>
              </a:rPr>
              <a:t>in</a:t>
            </a:r>
            <a:r>
              <a:rPr b="1" i="1" lang="es-ES_tradnl" sz="20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+ zF (V</a:t>
            </a:r>
            <a:r>
              <a:rPr b="1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i   </a:t>
            </a: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-V</a:t>
            </a:r>
            <a:r>
              <a:rPr b="1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ex</a:t>
            </a: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) = 0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Na</a:t>
            </a:r>
            <a:r>
              <a:rPr b="1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e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in </a:t>
            </a: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- V</a:t>
            </a:r>
            <a:r>
              <a:rPr b="1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ex</a:t>
            </a: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s-ES_tradnl" sz="2000" spc="-1" strike="noStrike" u="sng">
                <a:solidFill>
                  <a:srgbClr val="000000"/>
                </a:solidFill>
                <a:uFillTx/>
                <a:latin typeface="Times New Roman"/>
              </a:rPr>
              <a:t>RT</a:t>
            </a: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  ln  </a:t>
            </a:r>
            <a:r>
              <a:rPr b="1" i="1" lang="es-ES_tradnl" sz="2000" spc="-1" strike="noStrike" u="sng">
                <a:solidFill>
                  <a:srgbClr val="000000"/>
                </a:solidFill>
                <a:uFillTx/>
                <a:latin typeface="Times New Roman"/>
              </a:rPr>
              <a:t>Na</a:t>
            </a:r>
            <a:r>
              <a:rPr b="1" i="1" lang="es-ES_tradnl" sz="2000" spc="-1" strike="noStrike" u="sng" baseline="-25000">
                <a:solidFill>
                  <a:srgbClr val="000000"/>
                </a:solidFill>
                <a:uFillTx/>
                <a:latin typeface="Times New Roman"/>
              </a:rPr>
              <a:t>ext </a:t>
            </a:r>
            <a:r>
              <a:rPr b="1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zF        Na</a:t>
            </a:r>
            <a:r>
              <a:rPr b="1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s-ES_tradnl" sz="3200" spc="-1" strike="noStrike">
                <a:solidFill>
                  <a:srgbClr val="3333cc"/>
                </a:solidFill>
                <a:latin typeface="Times New Roman"/>
              </a:rPr>
              <a:t>V</a:t>
            </a:r>
            <a:r>
              <a:rPr b="1" i="1" lang="es-ES_tradnl" sz="3200" spc="-1" strike="noStrike" baseline="-25000">
                <a:solidFill>
                  <a:srgbClr val="3333cc"/>
                </a:solidFill>
                <a:latin typeface="Times New Roman"/>
              </a:rPr>
              <a:t>eqNa</a:t>
            </a:r>
            <a:r>
              <a:rPr b="1" i="1" lang="es-ES_tradnl" sz="3200" spc="-1" strike="noStrike">
                <a:solidFill>
                  <a:srgbClr val="3333cc"/>
                </a:solidFill>
                <a:latin typeface="Times New Roman"/>
              </a:rPr>
              <a:t> = V</a:t>
            </a:r>
            <a:r>
              <a:rPr b="1" i="1" lang="es-ES_tradnl" sz="3200" spc="-1" strike="noStrike" baseline="-25000">
                <a:solidFill>
                  <a:srgbClr val="3333cc"/>
                </a:solidFill>
                <a:latin typeface="Times New Roman"/>
              </a:rPr>
              <a:t>in</a:t>
            </a:r>
            <a:r>
              <a:rPr b="1" i="1" lang="es-ES_tradnl" sz="3200" spc="-1" strike="noStrike">
                <a:solidFill>
                  <a:srgbClr val="3333cc"/>
                </a:solidFill>
                <a:latin typeface="Times New Roman"/>
              </a:rPr>
              <a:t> - V</a:t>
            </a:r>
            <a:r>
              <a:rPr b="1" i="1" lang="es-ES_tradnl" sz="3200" spc="-1" strike="noStrike" baseline="-25000">
                <a:solidFill>
                  <a:srgbClr val="3333cc"/>
                </a:solidFill>
                <a:latin typeface="Times New Roman"/>
              </a:rPr>
              <a:t>e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21566400">
            <a:off x="4804200" y="3657240"/>
            <a:ext cx="4046400" cy="169092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3333cc"/>
                </a:solidFill>
                <a:latin typeface="Times New Roman"/>
              </a:rPr>
              <a:t>Ecuación de Nern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000000"/>
                </a:solidFill>
                <a:latin typeface="CG Times"/>
              </a:rPr>
              <a:t>V</a:t>
            </a:r>
            <a:r>
              <a:rPr b="1" i="1" lang="es-CL" sz="3200" spc="-1" strike="noStrike" baseline="-25000">
                <a:solidFill>
                  <a:srgbClr val="000000"/>
                </a:solidFill>
                <a:latin typeface="CG Times"/>
              </a:rPr>
              <a:t>eqNa+</a:t>
            </a:r>
            <a:r>
              <a:rPr b="1" i="1" lang="es-CL" sz="3200" spc="-1" strike="noStrike">
                <a:solidFill>
                  <a:srgbClr val="000000"/>
                </a:solidFill>
                <a:latin typeface="CG Times"/>
              </a:rPr>
              <a:t>  =  </a:t>
            </a:r>
            <a:r>
              <a:rPr b="1" i="1" lang="es-CL" sz="3200" spc="-1" strike="noStrike" u="sng">
                <a:solidFill>
                  <a:srgbClr val="000000"/>
                </a:solidFill>
                <a:uFillTx/>
                <a:latin typeface="CG Times"/>
              </a:rPr>
              <a:t>RT</a:t>
            </a:r>
            <a:r>
              <a:rPr b="1" i="1" lang="es-CL" sz="3200" spc="-1" strike="noStrike">
                <a:solidFill>
                  <a:srgbClr val="000000"/>
                </a:solidFill>
                <a:latin typeface="CG Times"/>
              </a:rPr>
              <a:t>  In </a:t>
            </a:r>
            <a:r>
              <a:rPr b="1" i="1" lang="es-CL" sz="3200" spc="-1" strike="noStrike" u="sng">
                <a:solidFill>
                  <a:srgbClr val="000000"/>
                </a:solidFill>
                <a:uFillTx/>
                <a:latin typeface="CG Times"/>
              </a:rPr>
              <a:t>Na</a:t>
            </a:r>
            <a:r>
              <a:rPr b="1" i="1" lang="es-CL" sz="3200" spc="-1" strike="noStrike" u="sng" baseline="-25000">
                <a:solidFill>
                  <a:srgbClr val="000000"/>
                </a:solidFill>
                <a:uFillTx/>
                <a:latin typeface="CG Times"/>
              </a:rPr>
              <a:t>ex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000000"/>
                </a:solidFill>
                <a:latin typeface="CG Times"/>
              </a:rPr>
              <a:t>	</a:t>
            </a:r>
            <a:r>
              <a:rPr b="1" i="1" lang="es-CL" sz="3200" spc="-1" strike="noStrike">
                <a:solidFill>
                  <a:srgbClr val="000000"/>
                </a:solidFill>
                <a:latin typeface="CG Times"/>
              </a:rPr>
              <a:t>     </a:t>
            </a:r>
            <a:r>
              <a:rPr b="1" i="1" lang="es-CL" sz="3200" spc="-1" strike="noStrike">
                <a:solidFill>
                  <a:srgbClr val="000000"/>
                </a:solidFill>
                <a:latin typeface="CG Times"/>
              </a:rPr>
              <a:t>zF         Na</a:t>
            </a:r>
            <a:r>
              <a:rPr b="1" i="1" lang="es-CL" sz="3200" spc="-1" strike="noStrike" baseline="-25000">
                <a:solidFill>
                  <a:srgbClr val="000000"/>
                </a:solidFill>
                <a:latin typeface="CG Times"/>
              </a:rPr>
              <a:t>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676520" y="24382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419720" y="3733920"/>
            <a:ext cx="472428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Times New Roman"/>
              </a:rPr>
              <a:t>Fuerza electromotriz para un 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n las células la mayoría de los iones no están en equilibrio electroquímico.  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Si tienen una vía de paso a través de la membrana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van a entrar o salir de la célula dependiendo de la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 fem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La 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fem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para un ión se define como la diferencia entre el potencial de la membrana y el potencial de equilibrio del ión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fem = Vm - Ve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Los cationes entran a la célula si la fem es negativa y salen si la fem es positi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Los aniones entran a la célula si la fem es positiva y salen si la fem es negativ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Times New Roman"/>
              </a:rPr>
              <a:t>Ejemplo: fuerza electromotriz para Na</a:t>
            </a:r>
            <a:r>
              <a:rPr b="0" lang="es-ES_tradnl" sz="2800" spc="-1" strike="noStrike" baseline="30000">
                <a:solidFill>
                  <a:srgbClr val="3333cc"/>
                </a:solidFill>
                <a:latin typeface="Times New Roman"/>
              </a:rPr>
              <a:t>+</a:t>
            </a:r>
            <a:r>
              <a:rPr b="0" lang="es-ES_tradnl" sz="2800" spc="-1" strike="noStrike">
                <a:solidFill>
                  <a:srgbClr val="3333cc"/>
                </a:solidFill>
                <a:latin typeface="Times New Roman"/>
              </a:rPr>
              <a:t>, Ca</a:t>
            </a:r>
            <a:r>
              <a:rPr b="0" lang="es-ES_tradnl" sz="2800" spc="-1" strike="noStrike" baseline="30000">
                <a:solidFill>
                  <a:srgbClr val="3333cc"/>
                </a:solidFill>
                <a:latin typeface="Times New Roman"/>
              </a:rPr>
              <a:t>+2</a:t>
            </a:r>
            <a:r>
              <a:rPr b="0" lang="es-ES_tradnl" sz="2800" spc="-1" strike="noStrike">
                <a:solidFill>
                  <a:srgbClr val="3333cc"/>
                </a:solidFill>
                <a:latin typeface="Times New Roman"/>
              </a:rPr>
              <a:t> y K</a:t>
            </a:r>
            <a:r>
              <a:rPr b="0" lang="es-ES_tradnl" sz="2800" spc="-1" strike="noStrike" baseline="30000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En las células de músculo esquelético en reposo Vm = -90 mV y las concentraciones (mM) internas y externas de sodio, calcio y potasio so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interno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extern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Na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14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Ca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Times New Roman"/>
              </a:rPr>
              <a:t>+2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0.0001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   1.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140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   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A 37º los potenciales de equilibrio y las fem so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Veq (mV)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fem (mV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Na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70.4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160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Ca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Times New Roman"/>
              </a:rPr>
              <a:t>+2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128.2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218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94.8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     4.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Luego en reposo sodio y calcio entran a la célula y potasio sale de ell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609480"/>
            <a:ext cx="3276720" cy="2514600"/>
          </a:xfrm>
          <a:prstGeom prst="ellipse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1531800" y="4724280"/>
          <a:ext cx="6469200" cy="935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1800" y="4724280"/>
                    <a:ext cx="6469200" cy="935280"/>
                  </a:xfrm>
                  <a:prstGeom prst="rect">
                    <a:avLst/>
                  </a:prstGeom>
                  <a:ln w="3492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7" name=""/>
          <p:cNvSpPr/>
          <p:nvPr/>
        </p:nvSpPr>
        <p:spPr>
          <a:xfrm>
            <a:off x="762120" y="914400"/>
            <a:ext cx="2590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gradiente de concentració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transmembrana para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un SOLU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486400" y="609480"/>
            <a:ext cx="2971800" cy="2514600"/>
          </a:xfrm>
          <a:prstGeom prst="ellipse">
            <a:avLst/>
          </a:prstGeom>
          <a:solidFill>
            <a:srgbClr val="ff00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867280" y="1219320"/>
            <a:ext cx="25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permeabilidad de la membrana a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SE SOLU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3581280" y="2819520"/>
            <a:ext cx="1676520" cy="170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cc"/>
                </a:solidFill>
                <a:latin typeface="Times New Roman"/>
              </a:rPr>
              <a:t>Potencial Químico y Condición de Equilibrio Quím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El potencial químico µ (energía potencial química) para un soluto que está presente a una concentración c 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µ = µ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 + RT ln c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i en un sistema existen diferencias de concentración, existe una diferencia de potencial químico. Para dos compartimentos separados por una membrana permeable al soluto la diferencia de potencial químico 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µ = µ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-µ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= RT ln c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-RT ln c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 = RT ln (c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/c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En equilibrio químico no existan diferencias de potencial químico en el sistem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µ = µ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-µ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 = 0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lo que implica que µ</a:t>
            </a:r>
            <a:r>
              <a:rPr b="0" lang="es-ES_tradnl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= µ</a:t>
            </a:r>
            <a:r>
              <a:rPr b="0" lang="es-ES_tradnl" sz="16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y que c</a:t>
            </a:r>
            <a:r>
              <a:rPr b="0" lang="es-ES_tradnl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 =c</a:t>
            </a:r>
            <a:r>
              <a:rPr b="0" lang="es-ES_tradnl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Es importante destacar que para que se igualen las concentraciones la membrana debe ser permeable al soluto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457200" y="1066680"/>
            <a:ext cx="3276720" cy="2514600"/>
          </a:xfrm>
          <a:prstGeom prst="ellipse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1531800" y="4724280"/>
          <a:ext cx="5715000" cy="1289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1800" y="4724280"/>
                    <a:ext cx="5715000" cy="1289160"/>
                  </a:xfrm>
                  <a:prstGeom prst="rect">
                    <a:avLst/>
                  </a:prstGeom>
                  <a:ln w="3492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56" name=""/>
          <p:cNvSpPr/>
          <p:nvPr/>
        </p:nvSpPr>
        <p:spPr>
          <a:xfrm>
            <a:off x="914400" y="1523880"/>
            <a:ext cx="2362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gradiente de concentració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transmembrana para esos 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562720" y="1219320"/>
            <a:ext cx="2971800" cy="2514600"/>
          </a:xfrm>
          <a:prstGeom prst="ellipse">
            <a:avLst/>
          </a:prstGeom>
          <a:solidFill>
            <a:srgbClr val="ff00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867280" y="1676520"/>
            <a:ext cx="2514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permeabilidad relativa de la membrana a los iones específic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581280" y="2819520"/>
            <a:ext cx="1676520" cy="1703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0" name=""/>
          <p:cNvGraphicFramePr/>
          <p:nvPr/>
        </p:nvGraphicFramePr>
        <p:xfrm>
          <a:off x="3048120" y="228600"/>
          <a:ext cx="4952880" cy="121752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8120" y="228600"/>
                    <a:ext cx="4952880" cy="1217520"/>
                  </a:xfrm>
                  <a:prstGeom prst="rect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685800" y="609480"/>
            <a:ext cx="7543800" cy="14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iferencia de </a:t>
            </a:r>
            <a:r>
              <a:rPr b="0" i="1" lang="es-ES" sz="2400" spc="-1" strike="noStrike">
                <a:solidFill>
                  <a:srgbClr val="000000"/>
                </a:solidFill>
                <a:latin typeface="Times New Roman"/>
              </a:rPr>
              <a:t>potencial electroquímico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µ = µ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- µ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s-E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s-ES" sz="2400" spc="-1" strike="noStrike">
                <a:solidFill>
                  <a:srgbClr val="000000"/>
                </a:solidFill>
                <a:latin typeface="Times New Roman"/>
              </a:rPr>
              <a:t>µ = RT ln C</a:t>
            </a:r>
            <a:r>
              <a:rPr b="1" i="1" lang="es-E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s-ES" sz="2400" spc="-1" strike="noStrike">
                <a:solidFill>
                  <a:srgbClr val="000000"/>
                </a:solidFill>
                <a:latin typeface="Times New Roman"/>
              </a:rPr>
              <a:t> /C</a:t>
            </a:r>
            <a:r>
              <a:rPr b="1" i="1" lang="es-E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s-ES" sz="2400" spc="-1" strike="noStrike">
                <a:solidFill>
                  <a:srgbClr val="000000"/>
                </a:solidFill>
                <a:latin typeface="Times New Roman"/>
              </a:rPr>
              <a:t>  + zF  </a:t>
            </a:r>
            <a:r>
              <a:rPr b="1" i="1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s-ES" sz="2400" spc="-1" strike="noStrike">
                <a:solidFill>
                  <a:srgbClr val="000000"/>
                </a:solidFill>
                <a:latin typeface="Times New Roman"/>
              </a:rPr>
              <a:t> 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ond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85800" y="1981080"/>
            <a:ext cx="3505320" cy="37274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a diferencia de potencial químico entre dos zonas de concentraciones  C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y C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(C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gt; C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) 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µ= RT ln C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/C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es-ES" sz="2400" spc="-1" strike="noStrike">
                <a:solidFill>
                  <a:srgbClr val="ff0000"/>
                </a:solidFill>
                <a:latin typeface="Times New Roman"/>
              </a:rPr>
              <a:t>energía quím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800600" y="1371600"/>
            <a:ext cx="4038480" cy="28054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a energía  necesaria para llevar una carga Q desde un punto de potencial V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a uno de potencial V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Times New Roman"/>
              </a:rPr>
              <a:t>elec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= Q </a:t>
            </a:r>
            <a:r>
              <a:rPr b="1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V 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(con Q  =  zF)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s-ES" sz="2400" spc="-1" strike="noStrike">
                <a:solidFill>
                  <a:srgbClr val="ff0000"/>
                </a:solidFill>
                <a:latin typeface="Times New Roman"/>
              </a:rPr>
              <a:t>energía eléctr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4419720"/>
            <a:ext cx="3733920" cy="2082240"/>
          </a:xfrm>
          <a:prstGeom prst="rect">
            <a:avLst/>
          </a:prstGeom>
          <a:solidFill>
            <a:srgbClr val="b2b2b2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ffff00"/>
                </a:solidFill>
                <a:latin typeface="Times New Roman"/>
              </a:rPr>
              <a:t>Por lo tanto, el movimiento (electrodifusión) tendrá su fuente de ENERGÍA en una gradiente electroquímic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ffff00"/>
                </a:solidFill>
                <a:latin typeface="Times New Roman"/>
              </a:rPr>
              <a:t>(potencial electroquímico) (</a:t>
            </a:r>
            <a:r>
              <a:rPr b="1" i="1" lang="es-ES" sz="2000" spc="-1" strike="noStrike">
                <a:solidFill>
                  <a:srgbClr val="ffff00"/>
                </a:solidFill>
                <a:latin typeface="Symbol"/>
                <a:ea typeface="Symbol"/>
              </a:rPr>
              <a:t></a:t>
            </a:r>
            <a:r>
              <a:rPr b="1" i="1" lang="es-ES" sz="2000" spc="-1" strike="noStrike">
                <a:solidFill>
                  <a:srgbClr val="ffff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295280" y="121932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324480" y="83808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2200" y="6858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705720" y="6858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68580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rot="4828800">
            <a:off x="3565800" y="5653800"/>
            <a:ext cx="1177920" cy="538200"/>
          </a:xfrm>
          <a:custGeom>
            <a:avLst/>
            <a:gdLst>
              <a:gd name="textAreaLeft" fmla="*/ 392760 w 1177920"/>
              <a:gd name="textAreaRight" fmla="*/ 1009080 w 1177920"/>
              <a:gd name="textAreaTop" fmla="*/ 309960 h 538200"/>
              <a:gd name="textAreaBottom" fmla="*/ 461160 h 53820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7575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 rot="2585400">
            <a:off x="7695720" y="3885120"/>
            <a:ext cx="914400" cy="533520"/>
          </a:xfrm>
          <a:custGeom>
            <a:avLst/>
            <a:gdLst>
              <a:gd name="textAreaLeft" fmla="*/ 304920 w 914400"/>
              <a:gd name="textAreaRight" fmla="*/ 783360 w 914400"/>
              <a:gd name="textAreaTop" fmla="*/ 369360 h 533520"/>
              <a:gd name="textAreaBottom" fmla="*/ 457200 h 533520"/>
            </a:gdLst>
            <a:ahLst/>
            <a:rect l="textAreaLeft" t="textAreaTop" r="textAreaRight" b="textAreaBottom"/>
            <a:pathLst>
              <a:path w="21600" h="21600">
                <a:moveTo>
                  <a:pt x="0" y="18057"/>
                </a:moveTo>
                <a:lnTo>
                  <a:pt x="14957" y="18057"/>
                </a:lnTo>
                <a:lnTo>
                  <a:pt x="14957" y="7200"/>
                </a:lnTo>
                <a:lnTo>
                  <a:pt x="11857" y="7200"/>
                </a:lnTo>
                <a:lnTo>
                  <a:pt x="16729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757500"/>
              </a:gs>
              <a:gs pos="100000">
                <a:srgbClr val="ffff00"/>
              </a:gs>
            </a:gsLst>
            <a:lin ang="135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Times New Roman"/>
              </a:rPr>
              <a:t>Potencial Electroquím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l flujo de un 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soluto iónico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entre dos puntos de un sistema depende de la 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gradiente de concentración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y de la 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diferencia de potencial eléctrico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l potencial electroquímico 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µ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para un soluto iónico con carga 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que está a concentración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 c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es la suma del potencial químico más la energía potencial eléctric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µ = µ + zFV = (µ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+ RT ln c) + zFV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n esta expresión, la constante F se llama constante de Faraday y representa la carga que lleva un mol de iones monovalentes.  Se obtiene multiplicando la carga elemental del ión (q =  1.602 x 10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Times New Roman"/>
              </a:rPr>
              <a:t>-19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Coul) por el número de Avogadr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 = q x 6.023 x 10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Times New Roman"/>
              </a:rPr>
              <a:t>23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 = 96500 Coul/m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Times New Roman"/>
              </a:rPr>
              <a:t>Condición de Equilibrio Electroquím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ara un soluto iónico con distintas concentraciones en dos compartimentos separados por una membrana, la diferencia de potencial electroquímico 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µ = µ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- µ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= RT ln (c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/c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) + zF(V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-V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e obtiene equilibrio electroquímico cuand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µ = 0 = µ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- µ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nton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µ = µ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- µ</a:t>
            </a:r>
            <a:r>
              <a:rPr b="1" lang="es-ES_tradnl" sz="2400" spc="-1" strike="noStrike" u="sng" baseline="-25000">
                <a:solidFill>
                  <a:srgbClr val="000000"/>
                </a:solidFill>
                <a:uFillTx/>
                <a:latin typeface="Times New Roman"/>
              </a:rPr>
              <a:t>1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= RT ln (c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/c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) + zF(V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-V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) 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Times New Roman"/>
              </a:rPr>
              <a:t>Ecuación de Nern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n el equilibrio electroquímic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µ =  µ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-µ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= RT ln (c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/c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) + zF(V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-V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) 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RT ln (c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/c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) = -zF(V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-V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) = zF(V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-V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-V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= RT/zF ln (c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/c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sta es la ecuación de Nern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esum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ara un soluto sin carga eléctrica, para obtener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quilibrio químico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basta que se igualen sus concentraciones a ambos lados de la membr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ara un soluto iónico con carga z, sólo se obtiene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equilibrio electroquímico si se cumple la ecuación de Nernst para el solu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9T01:00:25Z</dcterms:created>
  <dc:creator>Universidad De Chile</dc:creator>
  <dc:description/>
  <dc:language>en-US</dc:language>
  <cp:lastModifiedBy>u. de chile fac. medicina</cp:lastModifiedBy>
  <cp:lastPrinted>2002-04-01T22:24:16Z</cp:lastPrinted>
  <dcterms:modified xsi:type="dcterms:W3CDTF">2004-08-13T12:49:12Z</dcterms:modified>
  <cp:revision>30</cp:revision>
  <dc:subject/>
  <dc:title>Sin título de diapositiva</dc:title>
</cp:coreProperties>
</file>