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4CC4-1ABB-45E4-BF43-2DA1AA93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8631-46DE-4B99-BA1E-15951635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3F32-C528-4946-8CE8-76AC79D2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CD1-0B42-43E5-9C73-49176E82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DFF7-3A3B-4BF3-AF06-1FB36072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1C9-62FB-434B-8E3F-B9EB68A6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152A-8D0C-4C3A-B116-62A335B4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750C-5226-428C-B070-1034AB17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5C8-EA15-413F-8EFF-7AF86211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9E7-D566-47E3-A3E8-3B269486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1E15-63A5-42BA-A7AF-D9FC7C3A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E33E-436E-4623-B651-AF0ACD13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1A70-B9E8-44E6-A2EE-091F4EAAB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OTENCIAL QUÍMICO y POTENCIAL ELECTROQUÍ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TENCIAL DE MEMB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3520"/>
            <a:ext cx="9144000" cy="696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embranas Biológicas FCMI 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609480"/>
            <a:ext cx="3276360" cy="25146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523880" y="4724280"/>
          <a:ext cx="5773680" cy="86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724280"/>
                    <a:ext cx="5773680" cy="865440"/>
                  </a:xfrm>
                  <a:prstGeom prst="rect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9144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radiente de concen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ransmembrana para esos 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685800"/>
            <a:ext cx="2971800" cy="251460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12193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meabilidad relativa de la membrana a los iones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581280" y="2819520"/>
            <a:ext cx="167652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1828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685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 =  lectura de voltí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Na 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808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81280" y="609480"/>
            <a:ext cx="1917720" cy="1981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03080" y="1295280"/>
            <a:ext cx="7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68580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44792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2133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800600" y="685800"/>
            <a:ext cx="12952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048120"/>
            <a:ext cx="8839080" cy="345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)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 es impermeable al paso de cualquier ión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V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I)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 es sólo permeable al paso de agu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V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II)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 es permeable de igual manera a ambos  ione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V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V)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 es permeable sólo a N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: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Times New Roman"/>
              </a:rPr>
              <a:t>eqNa+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imes New Roman"/>
              </a:rPr>
              <a:t>eqNa+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: potencial de equilibrio del N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2438280"/>
            <a:ext cx="175284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¿Porqué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685800" y="228600"/>
            <a:ext cx="6781680" cy="6026040"/>
            <a:chOff x="685800" y="228600"/>
            <a:chExt cx="6781680" cy="602604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685800" y="228600"/>
              <a:ext cx="27003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4267080" y="2514600"/>
              <a:ext cx="2706840" cy="37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105520" y="46483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3600" y="4648320"/>
              <a:ext cx="7621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48320" y="914400"/>
              <a:ext cx="2819160" cy="8251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4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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609480" y="457200"/>
            <a:ext cx="8469360" cy="6095880"/>
            <a:chOff x="609480" y="457200"/>
            <a:chExt cx="8469360" cy="609588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609480" y="457200"/>
              <a:ext cx="268632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6002280" y="2971800"/>
              <a:ext cx="307656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389800">
              <a:off x="4845960" y="-28800"/>
              <a:ext cx="731520" cy="3638520"/>
            </a:xfrm>
            <a:custGeom>
              <a:avLst/>
              <a:gdLst>
                <a:gd name="textAreaLeft" fmla="*/ 97920 w 731520"/>
                <a:gd name="textAreaRight" fmla="*/ 633600 w 731520"/>
                <a:gd name="textAreaTop" fmla="*/ 636480 h 3638520"/>
                <a:gd name="textAreaBottom" fmla="*/ 2638080 h 363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76520" y="4648320"/>
              <a:ext cx="2819160" cy="8251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4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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533520" y="457200"/>
            <a:ext cx="7943760" cy="5943600"/>
            <a:chOff x="533520" y="457200"/>
            <a:chExt cx="7943760" cy="5943600"/>
          </a:xfrm>
        </p:grpSpPr>
        <p:sp>
          <p:nvSpPr>
            <p:cNvPr id="112" name=""/>
            <p:cNvSpPr/>
            <p:nvPr/>
          </p:nvSpPr>
          <p:spPr>
            <a:xfrm>
              <a:off x="838080" y="4495680"/>
              <a:ext cx="4038840" cy="1524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533520" y="457200"/>
              <a:ext cx="280008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5791320" y="2819520"/>
              <a:ext cx="268596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17389800">
              <a:off x="4845960" y="-28800"/>
              <a:ext cx="731520" cy="3638520"/>
            </a:xfrm>
            <a:custGeom>
              <a:avLst/>
              <a:gdLst>
                <a:gd name="textAreaLeft" fmla="*/ 97920 w 731520"/>
                <a:gd name="textAreaRight" fmla="*/ 633600 w 731520"/>
                <a:gd name="textAreaTop" fmla="*/ 636480 h 3638520"/>
                <a:gd name="textAreaBottom" fmla="*/ 2638080 h 363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9320" y="4572000"/>
              <a:ext cx="38862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4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s-E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</a:t>
              </a:r>
              <a:r>
                <a:rPr b="1" lang="es-ES" sz="4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s-ES" sz="4800" spc="-1" strike="noStrike" baseline="-25000">
                  <a:solidFill>
                    <a:srgbClr val="000000"/>
                  </a:solidFill>
                  <a:latin typeface="Times New Roman"/>
                </a:rPr>
                <a:t>eqNa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457200"/>
            <a:ext cx="70866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3429000"/>
            <a:ext cx="647676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5720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¿Qué significa potencial de equilibr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143000"/>
            <a:ext cx="7010280" cy="42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vimiento del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desde exterior al interior)  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µ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= RT ln </a:t>
            </a:r>
            <a:r>
              <a:rPr b="1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</a:t>
            </a:r>
            <a:r>
              <a:rPr b="1" i="1" lang="es-ES_tradnl" sz="2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+ zF (V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3733920"/>
            <a:ext cx="3348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3733920"/>
            <a:ext cx="33516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3733920"/>
            <a:ext cx="44604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1752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09480" y="457200"/>
            <a:ext cx="70866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905120"/>
            <a:ext cx="647712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45720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¿Qué significa potencial de equilibr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279440"/>
            <a:ext cx="7010280" cy="58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quilibri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 = 0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lujo neto de iones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RT ln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Na</a:t>
            </a:r>
            <a:r>
              <a:rPr b="1" i="1" lang="es-ES_tradnl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+ zF (V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  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) = 0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- V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x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RT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 ln 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Na</a:t>
            </a:r>
            <a:r>
              <a:rPr b="1" i="1" lang="es-ES_tradnl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ext 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zF        Na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s-ES_tradnl" sz="3200" spc="-1" strike="noStrike" baseline="-25000">
                <a:solidFill>
                  <a:srgbClr val="3333cc"/>
                </a:solidFill>
                <a:latin typeface="Times New Roman"/>
              </a:rPr>
              <a:t>eqNa</a:t>
            </a: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 = V</a:t>
            </a:r>
            <a:r>
              <a:rPr b="1" i="1" lang="es-ES_tradnl" sz="32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 - V</a:t>
            </a:r>
            <a:r>
              <a:rPr b="1" i="1" lang="es-ES_tradnl" sz="3200" spc="-1" strike="noStrike" baseline="-25000">
                <a:solidFill>
                  <a:srgbClr val="3333cc"/>
                </a:solidFill>
                <a:latin typeface="Times New Roman"/>
              </a:rPr>
              <a:t>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566400">
            <a:off x="4804200" y="3657240"/>
            <a:ext cx="4046400" cy="1690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Ecuación de Ner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V</a:t>
            </a:r>
            <a:r>
              <a:rPr b="1" i="1" lang="es-CL" sz="3200" spc="-1" strike="noStrike" baseline="-25000">
                <a:solidFill>
                  <a:srgbClr val="000000"/>
                </a:solidFill>
                <a:latin typeface="CG Times"/>
              </a:rPr>
              <a:t>eqNa+</a:t>
            </a: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  =  </a:t>
            </a:r>
            <a:r>
              <a:rPr b="1" i="1" lang="es-CL" sz="3200" spc="-1" strike="noStrike" u="sng">
                <a:solidFill>
                  <a:srgbClr val="000000"/>
                </a:solidFill>
                <a:uFillTx/>
                <a:latin typeface="CG Times"/>
              </a:rPr>
              <a:t>RT</a:t>
            </a: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  In </a:t>
            </a:r>
            <a:r>
              <a:rPr b="1" i="1" lang="es-CL" sz="3200" spc="-1" strike="noStrike" u="sng">
                <a:solidFill>
                  <a:srgbClr val="000000"/>
                </a:solidFill>
                <a:uFillTx/>
                <a:latin typeface="CG Times"/>
              </a:rPr>
              <a:t>Na</a:t>
            </a:r>
            <a:r>
              <a:rPr b="1" i="1" lang="es-CL" sz="3200" spc="-1" strike="noStrike" u="sng" baseline="-25000">
                <a:solidFill>
                  <a:srgbClr val="000000"/>
                </a:solidFill>
                <a:uFillTx/>
                <a:latin typeface="CG Times"/>
              </a:rPr>
              <a:t>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     </a:t>
            </a:r>
            <a:r>
              <a:rPr b="1" i="1" lang="es-CL" sz="3200" spc="-1" strike="noStrike">
                <a:solidFill>
                  <a:srgbClr val="000000"/>
                </a:solidFill>
                <a:latin typeface="CG Times"/>
              </a:rPr>
              <a:t>zF         Na</a:t>
            </a:r>
            <a:r>
              <a:rPr b="1" i="1" lang="es-CL" sz="3200" spc="-1" strike="noStrike" baseline="-25000">
                <a:solidFill>
                  <a:srgbClr val="000000"/>
                </a:solidFill>
                <a:latin typeface="CG Time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3733920"/>
            <a:ext cx="47242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Fuerza electromotriz para un 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las células la mayoría de los iones no están en equilibrio electroquímico.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i tienen una vía de paso a través de la membran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van a entrar o salir de la célula dependiendo de la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f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em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ara un ión se define como la diferencia entre el potencial de la membrana y el potencial de equilibrio del ión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em = Vm - Ve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os cationes entran a la célula si la fem es negativa y salen si la fem es pos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os aniones entran a la célula si la fem es positiva y salen si la fem es negati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jemplo: fuerza electromotriz para Na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, Ca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 y K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las células de músculo esquelético en reposo Vm = -90 mV y las concentraciones (mM) internas y externas de sodio, calcio y potasi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tern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xter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4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.0001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37º los potenciales de equilibrio y las fem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q (mV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em (m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70.4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6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28.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18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94.8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4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uego en reposo sodio y calcio entran a la célula y potasio sale de 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609480"/>
            <a:ext cx="3276720" cy="25146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31800" y="4724280"/>
          <a:ext cx="6469200" cy="93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1800" y="4724280"/>
                    <a:ext cx="6469200" cy="935280"/>
                  </a:xfrm>
                  <a:prstGeom prst="rect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762120" y="91440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radiente de concen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ransmembrana par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 SOL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609480"/>
            <a:ext cx="2971800" cy="251460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12193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meabilidad de la membrana 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E SOL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581280" y="2819520"/>
            <a:ext cx="167652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imes New Roman"/>
              </a:rPr>
              <a:t>Potencial Químico y Condición de Equilibrio Quí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potencial químico µ (energía potencial química) para un soluto que está presente a una concentración c 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+ RT ln c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 en un sistema existen diferencias de concentración, existe una diferencia de potencial químico. Para dos compartimentos separados por una membrana permeable al soluto la diferencia de potencial químico 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= RT ln c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RT ln c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= RT ln (c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 equilibrio químico no existan diferencias de potencial químico en el siste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µ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 que implica que µ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 µ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y que c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=c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 importante destacar que para que se igualen las concentraciones la membrana debe ser permeable al soluto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066680"/>
            <a:ext cx="3276720" cy="25146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31800" y="4724280"/>
          <a:ext cx="5715000" cy="128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1800" y="4724280"/>
                    <a:ext cx="5715000" cy="1289160"/>
                  </a:xfrm>
                  <a:prstGeom prst="rect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14400" y="152388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radiente de concen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ransmembrana para esos 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1219320"/>
            <a:ext cx="2971800" cy="251460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16765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meabilidad relativa de la membrana a los iones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581280" y="2819520"/>
            <a:ext cx="1676520" cy="170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3048120" y="228600"/>
          <a:ext cx="4952880" cy="1217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8120" y="228600"/>
                    <a:ext cx="4952880" cy="12175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5438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ferencia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potencial electroquímic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µ = µ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µ = RT ln C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/C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 + zF  </a:t>
            </a: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nd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981080"/>
            <a:ext cx="3505320" cy="372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diferencia de potencial químico entre dos zonas de concentraciones  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gt; 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 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µ= RT ln 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energía 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1371600"/>
            <a:ext cx="4038480" cy="280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nergía  necesaria para llevar una carga Q desde un punto de potencial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a uno de potencial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ele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= Q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con Q  =  zF)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energía eléc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419720"/>
            <a:ext cx="3733920" cy="2082240"/>
          </a:xfrm>
          <a:prstGeom prst="rect">
            <a:avLst/>
          </a:prstGeom>
          <a:solidFill>
            <a:srgbClr val="b2b2b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Por lo tanto, el movimiento (electrodifusión) tendrá su fuente de ENERGÍA en una gradiente electroquím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(potencial electroquímico) (</a:t>
            </a:r>
            <a:r>
              <a:rPr b="1" i="1" lang="es-E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</a:t>
            </a: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1219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838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685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4828800">
            <a:off x="3565800" y="5653800"/>
            <a:ext cx="1177920" cy="538200"/>
          </a:xfrm>
          <a:custGeom>
            <a:avLst/>
            <a:gdLst>
              <a:gd name="textAreaLeft" fmla="*/ 392760 w 1177920"/>
              <a:gd name="textAreaRight" fmla="*/ 1009080 w 1177920"/>
              <a:gd name="textAreaTop" fmla="*/ 309960 h 538200"/>
              <a:gd name="textAreaBottom" fmla="*/ 4611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 rot="2585400">
            <a:off x="7695720" y="3885120"/>
            <a:ext cx="914400" cy="533520"/>
          </a:xfrm>
          <a:custGeom>
            <a:avLst/>
            <a:gdLst>
              <a:gd name="textAreaLeft" fmla="*/ 304920 w 914400"/>
              <a:gd name="textAreaRight" fmla="*/ 783360 w 914400"/>
              <a:gd name="textAreaTop" fmla="*/ 36936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8057"/>
                </a:moveTo>
                <a:lnTo>
                  <a:pt x="14957" y="18057"/>
                </a:lnTo>
                <a:lnTo>
                  <a:pt x="14957" y="7200"/>
                </a:lnTo>
                <a:lnTo>
                  <a:pt x="11857" y="7200"/>
                </a:lnTo>
                <a:lnTo>
                  <a:pt x="1672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Potencial Electroquí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flujo de un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to ión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ntre dos puntos de un sistema depende de l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radiente de concentra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y de l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iferencia de potencial eléctr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potencial electroquímico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µ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ara un soluto iónico con carg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que está a concentración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s la suma del potencial químico más la energía potencial eléctr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µ + zFV = (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+ RT ln c) + zFV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esta expresión, la constante F se llama constante de Faraday y representa la carga que lleva un mol de iones monovalentes.  Se obtiene multiplicando la carga elemental del ión (q =  1.602 x 10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-19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Coul) por el número de Avogad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 = q x 6.023 x 10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= 96500 Coul/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Condición de Equilibrio Electroquí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a un soluto iónico con distintas concentraciones en dos compartimentos separados por una membrana, la diferencia de potencial electroquímic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RT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+ 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obtiene equilibrio electroquímico cu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0 =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- µ</a:t>
            </a:r>
            <a:r>
              <a:rPr b="1" lang="es-ES_tradnl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RT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+ 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cuación de Ner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el equilibrio electroquím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µ =  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-µ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RT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+ 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T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-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= zF(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 RT/zF ln (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a es la ecuación de Ner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un soluto sin carga eléctrica, para obtene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quilibrio químic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ta que se igualen sus concentraciones a ambos lados de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un soluto iónico con carga z, sólo se obtien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equilibrio electroquímico si se cumple la ecuación de Nernst para el sol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01:00:25Z</dcterms:created>
  <dc:creator>Universidad De Chile</dc:creator>
  <dc:description/>
  <dc:language>en-US</dc:language>
  <cp:lastModifiedBy>u. de chile fac. medicina</cp:lastModifiedBy>
  <cp:lastPrinted>2002-04-01T22:24:16Z</cp:lastPrinted>
  <dcterms:modified xsi:type="dcterms:W3CDTF">2004-08-13T12:49:12Z</dcterms:modified>
  <cp:revision>30</cp:revision>
  <dc:subject/>
  <dc:title>Sin título de diapositiva</dc:title>
</cp:coreProperties>
</file>