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A59-F9FC-480E-B7A2-8DD67D6D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78B-8CD4-4276-969C-923F6D1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ED0-6277-4FFA-AF2A-8E2E5ECF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1C5-CE47-49AD-96D8-AAEB8FB8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4AD-2F81-4F2C-BAE3-26ACB18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2F9-A5B5-4F77-939E-2353CFA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D13-177F-4523-9E15-A02FA1EF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C3E-97AA-4689-97AF-A59F8CE5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CC9-9C67-4772-B217-466A79D0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4A5-6531-48BE-952D-3F07EFF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B64-0B32-45B2-87FB-FFF4D6B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385-0F6F-4DCC-8DB8-9A9B716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972E-B319-4666-90D4-5ABD4513E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41440"/>
          <a:ext cx="8001000" cy="58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41440"/>
                    <a:ext cx="8001000" cy="58593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200400" y="1752480"/>
            <a:ext cx="59436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e5"/>
                </a:solidFill>
                <a:latin typeface="Arial"/>
              </a:rPr>
              <a:t>Valor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e5"/>
                </a:solidFill>
                <a:latin typeface="Arial"/>
              </a:rPr>
              <a:t>    </a:t>
            </a:r>
            <a:r>
              <a:rPr b="0" lang="es-ES_tradnl" sz="3600" spc="-1" strike="noStrike">
                <a:solidFill>
                  <a:srgbClr val="ffffe5"/>
                </a:solidFill>
                <a:latin typeface="Arial"/>
              </a:rPr>
              <a:t>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e5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ffffe5"/>
                </a:solidFill>
                <a:latin typeface="Arial"/>
              </a:rPr>
              <a:t>Comun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e5"/>
                </a:solidFill>
                <a:latin typeface="Arial"/>
              </a:rPr>
              <a:t>Prof:Silvia Calderó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304920"/>
            <a:ext cx="8458200" cy="947160"/>
          </a:xfrm>
          <a:prstGeom prst="rect">
            <a:avLst/>
          </a:prstGeom>
          <a:solidFill>
            <a:srgbClr val="d8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d6"/>
                </a:solidFill>
                <a:latin typeface="Comic Sans MS"/>
              </a:rPr>
              <a:t>La comunidad como un sistema social : modelo de interacción de D. K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3352680"/>
            <a:ext cx="38862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5053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comunidad como un sistem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2514600" cy="83808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5181480"/>
            <a:ext cx="2514600" cy="83844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181480"/>
            <a:ext cx="2514600" cy="83844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828800"/>
            <a:ext cx="2514600" cy="83808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981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1828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5181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Enlace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5181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Conservación de los límites</a:t>
            </a:r>
            <a:r>
              <a:rPr b="0" lang="es-MX" sz="2400" spc="-1" strike="noStrike">
                <a:solidFill>
                  <a:srgbClr val="9c007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solidFill>
            <a:srgbClr val="d8f3fc"/>
          </a:solidFill>
          <a:ln w="0">
            <a:noFill/>
          </a:ln>
          <a:effectLst>
            <a:outerShdw dist="17819" dir="2700000" blurRad="0" rotWithShape="0">
              <a:srgbClr val="4974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Comic Sans MS"/>
              </a:rPr>
              <a:t>La comunidad como un sistema social: Modelo de interacción de </a:t>
            </a:r>
            <a:r>
              <a:rPr b="1" lang="es-MX" sz="2800" spc="-1" strike="noStrike">
                <a:solidFill>
                  <a:srgbClr val="3333cc"/>
                </a:solidFill>
                <a:latin typeface="Comic Sans MS"/>
              </a:rPr>
              <a:t>D. K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3200400"/>
            <a:ext cx="4953240" cy="1066680"/>
          </a:xfrm>
          <a:prstGeom prst="rect">
            <a:avLst/>
          </a:prstGeom>
          <a:solidFill>
            <a:srgbClr val="d8f3f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e005c"/>
                </a:solidFill>
                <a:latin typeface="Comic Sans MS"/>
              </a:rPr>
              <a:t>La población y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1523880"/>
            <a:ext cx="2819520" cy="99072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105520"/>
            <a:ext cx="2819520" cy="99036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105520"/>
            <a:ext cx="2819520" cy="99036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6765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Características de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Ambiente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5181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Ambiente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04920"/>
            <a:ext cx="8076960" cy="99036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80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btención de datos a través de un modelo de interacción :  D.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Comic Sans MS"/>
              </a:rPr>
              <a:t>Ob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Comic Sans MS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Comic Sans MS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1676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e80000"/>
                </a:solidFill>
                <a:latin typeface="Arial"/>
              </a:rPr>
              <a:t>La comunidad como un sistem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438280"/>
            <a:ext cx="3352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Toma de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Enlace de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onservación de lí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472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80000"/>
                </a:solidFill>
                <a:latin typeface="Arial"/>
              </a:rPr>
              <a:t>Población 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2578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actores Ambi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715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1523880"/>
            <a:ext cx="762120" cy="51055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5"/>
                </a:lnTo>
                <a:cubicBezTo>
                  <a:pt x="10800" y="9415"/>
                  <a:pt x="5400" y="10315"/>
                  <a:pt x="0" y="10315"/>
                </a:cubicBezTo>
                <a:cubicBezTo>
                  <a:pt x="5400" y="10315"/>
                  <a:pt x="10800" y="11215"/>
                  <a:pt x="10800" y="121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304920"/>
            <a:ext cx="7086600" cy="5205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13195"/>
                </a:solidFill>
                <a:latin typeface="Comic Sans MS"/>
              </a:rPr>
              <a:t>Valoración  de  la  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76920"/>
            <a:ext cx="5562360" cy="1371600"/>
          </a:xfrm>
          <a:prstGeom prst="rect">
            <a:avLst/>
          </a:prstGeom>
          <a:solidFill>
            <a:srgbClr val="ffffe5"/>
          </a:solidFill>
          <a:ln w="9360">
            <a:solidFill>
              <a:srgbClr val="3e3e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4952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Comic Sans MS"/>
              </a:rPr>
              <a:t>Comunidad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 : Población específica que vive en una area geográfica,tiene valores, intereses y necesidades com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Ge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c0073"/>
                </a:solidFill>
                <a:latin typeface="Comic Sans MS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4876920" cy="155700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ba"/>
                </a:solidFill>
                <a:latin typeface="Comic Sans MS"/>
              </a:rPr>
              <a:t>PAE </a:t>
            </a:r>
            <a:r>
              <a:rPr b="1" lang="es-MX" sz="2400" spc="-1" strike="noStrike">
                <a:solidFill>
                  <a:srgbClr val="0000ba"/>
                </a:solidFill>
                <a:latin typeface="Times New Roman"/>
              </a:rPr>
              <a:t>:</a:t>
            </a:r>
            <a:r>
              <a:rPr b="0" lang="es-MX" sz="2400" spc="-1" strike="noStrike">
                <a:solidFill>
                  <a:srgbClr val="0000ba"/>
                </a:solidFill>
                <a:latin typeface="Times New Roman"/>
              </a:rPr>
              <a:t>conjunto de acciones intencionadas con un orden específico que permiten asegurar el cuidado de salud</a:t>
            </a:r>
            <a:r>
              <a:rPr b="1" lang="es-MX" sz="2400" spc="-1" strike="noStrike">
                <a:solidFill>
                  <a:srgbClr val="0000b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ba"/>
                </a:solidFill>
                <a:latin typeface="Times New Roman"/>
              </a:rPr>
              <a:t>de la població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124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ffb7"/>
          </a:solidFill>
          <a:ln w="9360">
            <a:solidFill>
              <a:srgbClr val="00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ba"/>
                </a:solidFill>
                <a:latin typeface="Comic Sans MS"/>
              </a:rPr>
              <a:t>Modelos Te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42670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b7"/>
          </a:solidFill>
          <a:ln w="9360">
            <a:solidFill>
              <a:srgbClr val="00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304920"/>
            <a:ext cx="7543800" cy="94716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ba"/>
                </a:solidFill>
                <a:latin typeface="Comic Sans MS"/>
              </a:rPr>
              <a:t>Etapas en el conocimiento de  la</a:t>
            </a:r>
            <a:r>
              <a:rPr b="0" lang="es-MX" sz="2800" spc="-1" strike="noStrike">
                <a:solidFill>
                  <a:srgbClr val="d25500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00ba"/>
                </a:solidFill>
                <a:latin typeface="Comic Sans MS"/>
              </a:rPr>
              <a:t>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d255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219320"/>
            <a:ext cx="4647960" cy="761760"/>
          </a:xfrm>
          <a:prstGeom prst="rect">
            <a:avLst/>
          </a:prstGeom>
          <a:solidFill>
            <a:srgbClr val="e9f4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2362320"/>
            <a:ext cx="4647960" cy="761760"/>
          </a:xfrm>
          <a:prstGeom prst="rect">
            <a:avLst/>
          </a:prstGeom>
          <a:solidFill>
            <a:srgbClr val="d5e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429000"/>
            <a:ext cx="4647960" cy="762120"/>
          </a:xfrm>
          <a:prstGeom prst="rect">
            <a:avLst/>
          </a:prstGeom>
          <a:solidFill>
            <a:srgbClr val="d5e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572000"/>
            <a:ext cx="4724280" cy="762120"/>
          </a:xfrm>
          <a:prstGeom prst="rect">
            <a:avLst/>
          </a:prstGeom>
          <a:solidFill>
            <a:srgbClr val="d5e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867280"/>
            <a:ext cx="7772400" cy="685800"/>
          </a:xfrm>
          <a:prstGeom prst="rect">
            <a:avLst/>
          </a:prstGeom>
          <a:solidFill>
            <a:srgbClr val="d5eaff"/>
          </a:solidFill>
          <a:ln w="57240">
            <a:solidFill>
              <a:srgbClr val="f89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aloración de la situación de salud de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60958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1295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Recogida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Elaboración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4290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Análisis e interpretación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572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Diagnóstico de las necesidades de salud y servicios existent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981080"/>
            <a:ext cx="0" cy="38124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124080"/>
            <a:ext cx="0" cy="30492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4191120"/>
            <a:ext cx="0" cy="38088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1600200"/>
            <a:ext cx="1371600" cy="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2743200"/>
            <a:ext cx="1371600" cy="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809880"/>
            <a:ext cx="1371600" cy="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371600" cy="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60020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4100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cd572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800" y="1600200"/>
            <a:ext cx="1447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5800" y="2743200"/>
            <a:ext cx="1447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5800" y="3733920"/>
            <a:ext cx="1447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0" cy="335268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952880"/>
            <a:ext cx="1371600" cy="0"/>
          </a:xfrm>
          <a:prstGeom prst="line">
            <a:avLst/>
          </a:prstGeom>
          <a:ln w="9360">
            <a:solidFill>
              <a:srgbClr val="313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382240" cy="685800"/>
          </a:xfrm>
          <a:prstGeom prst="rect">
            <a:avLst/>
          </a:prstGeom>
          <a:solidFill>
            <a:srgbClr val="ffffe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600ac"/>
                </a:solidFill>
                <a:latin typeface="Comic Sans MS"/>
              </a:rPr>
              <a:t>Atención Primaria orientada a la 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372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spcBef>
                <a:spcPts val="1500"/>
              </a:spcBef>
              <a:buClr>
                <a:srgbClr val="5600a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600a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¿Cuál es el estado de salud de la comunid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2e005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¿Cuáles son los responsables de éste estado de salu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2e005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¿Qué se está haciendo sobre ello por parte de los       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servicios de salud y de la misma comun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2e005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¿ Qué más se puede hacer, que se propone y cuáles son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los resultados espera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2e005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¿ Que medidas se necesitan para continuar la vigilancia 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2e005c"/>
                </a:solidFill>
                <a:latin typeface="Comic Sans MS"/>
              </a:rPr>
              <a:t>de la salud de la comunidad y evaluar los efectos de lo que se está hacie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2e005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5600ac"/>
                </a:solidFill>
                <a:latin typeface="Times New Roman"/>
              </a:rPr>
              <a:t>Kark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MX" sz="2400" spc="-1" strike="noStrike">
                <a:solidFill>
                  <a:srgbClr val="5600ac"/>
                </a:solidFill>
                <a:latin typeface="Times New Roman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380880"/>
            <a:ext cx="6781680" cy="520560"/>
          </a:xfrm>
          <a:prstGeom prst="rect">
            <a:avLst/>
          </a:prstGeom>
          <a:solidFill>
            <a:srgbClr val="c9eaff"/>
          </a:solidFill>
          <a:ln w="0">
            <a:noFill/>
          </a:ln>
          <a:effectLst>
            <a:outerShdw dist="153753" dir="2700000" blurRad="0" rotWithShape="0">
              <a:srgbClr val="66b3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Comic Sans MS"/>
              </a:rPr>
              <a:t>Diagnóstico de Salud Com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066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fc0"/>
                </a:solidFill>
                <a:latin typeface="Comic Sans MS"/>
              </a:rPr>
              <a:t>Uso del modelo epidemió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46784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Identificación de los factores asociados o no a un hecho, fenómeno  o  enfer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381880" cy="4038480"/>
          </a:xfrm>
          <a:prstGeom prst="rect">
            <a:avLst/>
          </a:prstGeom>
          <a:solidFill>
            <a:srgbClr val="c9e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666880"/>
            <a:ext cx="739152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e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Pronós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28195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200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743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Factore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Nive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505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Atención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495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Racionalidad a los hallaz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50292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Estimación de lo que sucederá a futuro, tendencia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5715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410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Estimación de la realidad de salud de la población considerando los menos y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581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b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04920"/>
            <a:ext cx="8001000" cy="520560"/>
          </a:xfrm>
          <a:prstGeom prst="rect">
            <a:avLst/>
          </a:prstGeom>
          <a:solidFill>
            <a:srgbClr val="ffffc9"/>
          </a:solidFill>
          <a:ln w="0">
            <a:noFill/>
          </a:ln>
          <a:effectLst>
            <a:outerShdw dist="153753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Comic Sans MS"/>
              </a:rPr>
              <a:t>Tipos   y   Obtención    de  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3657600" cy="1676520"/>
          </a:xfrm>
          <a:prstGeom prst="rect">
            <a:avLst/>
          </a:prstGeom>
          <a:solidFill>
            <a:srgbClr val="e1e1e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1600200"/>
            <a:ext cx="3809880" cy="1676520"/>
          </a:xfrm>
          <a:prstGeom prst="rect">
            <a:avLst/>
          </a:prstGeom>
          <a:solidFill>
            <a:srgbClr val="e1e1e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Información sobre los factores que determinan el estado de salud de las personas y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6002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Información que hace referencia directa al estado de salud de los individuos,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43828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962520"/>
            <a:ext cx="8229600" cy="2666880"/>
          </a:xfrm>
          <a:prstGeom prst="rect">
            <a:avLst/>
          </a:prstGeom>
          <a:solidFill>
            <a:srgbClr val="e1e1e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438280"/>
            <a:ext cx="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9625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aracterísticas Físicas y Dem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dio Ambiente (sociocultural y econó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tadísticas V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anales de Comunicación 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Recursos Sanitarios y otras Organ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d8f3fc"/>
          </a:solidFill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13195"/>
                </a:solidFill>
                <a:latin typeface="Comic Sans MS"/>
              </a:rPr>
              <a:t>Fuentes  para  la  Obtención  de 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523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828800"/>
            <a:ext cx="6553080" cy="1191240"/>
          </a:xfrm>
          <a:prstGeom prst="rect">
            <a:avLst/>
          </a:prstGeom>
          <a:solidFill>
            <a:srgbClr val="d9f9fb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13195"/>
                </a:solidFill>
                <a:latin typeface="Comic Sans MS"/>
              </a:rPr>
              <a:t>Datos Generales:  publicaciones, boletines,entrevistas individuales con representantes de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505320"/>
            <a:ext cx="6782040" cy="1191240"/>
          </a:xfrm>
          <a:prstGeom prst="rect">
            <a:avLst/>
          </a:prstGeom>
          <a:solidFill>
            <a:srgbClr val="cbf7f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13195"/>
                </a:solidFill>
                <a:latin typeface="Comic Sans MS"/>
              </a:rPr>
              <a:t>Datos de la Población:  oficinas de censo,servicios de salud pública, registro civil, publicaciones demográficas, 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334120"/>
            <a:ext cx="6400800" cy="1191240"/>
          </a:xfrm>
          <a:prstGeom prst="rect">
            <a:avLst/>
          </a:prstGeom>
          <a:solidFill>
            <a:srgbClr val="cbf7f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13195"/>
                </a:solidFill>
                <a:latin typeface="Comic Sans MS"/>
              </a:rPr>
              <a:t>Características del Medio:  publicaciones de servicios, salud ( vivienda , educación)</a:t>
            </a:r>
            <a:r>
              <a:rPr b="1" lang="es-MX" sz="2400" spc="-1" strike="noStrike">
                <a:solidFill>
                  <a:srgbClr val="31319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80880"/>
            <a:ext cx="8534160" cy="520560"/>
          </a:xfrm>
          <a:prstGeom prst="rect">
            <a:avLst/>
          </a:prstGeom>
          <a:solidFill>
            <a:srgbClr val="ffffc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Ordenamiento Jerárquico de un sistema com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133720"/>
            <a:ext cx="6019920" cy="3809880"/>
          </a:xfrm>
          <a:prstGeom prst="ellipse">
            <a:avLst/>
          </a:prstGeom>
          <a:solidFill>
            <a:srgbClr val="b8e9fa"/>
          </a:solidFill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666880"/>
            <a:ext cx="4724640" cy="26672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d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657600"/>
            <a:ext cx="1676520" cy="990720"/>
          </a:xfrm>
          <a:prstGeom prst="ellipse">
            <a:avLst/>
          </a:prstGeom>
          <a:solidFill>
            <a:srgbClr val="dbdbdb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819520"/>
            <a:ext cx="1828800" cy="990360"/>
          </a:xfrm>
          <a:prstGeom prst="ellipse">
            <a:avLst/>
          </a:prstGeom>
          <a:solidFill>
            <a:srgbClr val="dbdbdb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038480"/>
            <a:ext cx="1752840" cy="990720"/>
          </a:xfrm>
          <a:prstGeom prst="ellipse">
            <a:avLst/>
          </a:prstGeom>
          <a:solidFill>
            <a:srgbClr val="dbdbdb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124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"/>
              </a:rPr>
              <a:t>Bom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343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9625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"/>
              </a:rPr>
              <a:t>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791320" y="457200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603576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cc"/>
                </a:solidFill>
                <a:latin typeface="Arial"/>
              </a:rPr>
              <a:t>Sistem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86400" y="25146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5a58"/>
                </a:solidFill>
                <a:latin typeface="Arial"/>
              </a:rPr>
              <a:t>Sub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52578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095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Supra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5410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6009e"/>
                </a:solidFill>
                <a:latin typeface="Arial"/>
              </a:rPr>
              <a:t>Minis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8a00"/>
                </a:solidFill>
                <a:latin typeface="Arial"/>
              </a:rPr>
              <a:t>Muni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14400"/>
            <a:ext cx="426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d6"/>
                </a:solidFill>
                <a:latin typeface="Arial"/>
              </a:rPr>
              <a:t>Sistema: </a:t>
            </a:r>
            <a:r>
              <a:rPr b="0" lang="es-MX" sz="2000" spc="-1" strike="noStrike">
                <a:solidFill>
                  <a:srgbClr val="0000d6"/>
                </a:solidFill>
                <a:latin typeface="Arial"/>
              </a:rPr>
              <a:t>conjunto de componentes que interactúan dentro de límites definidos, que tienen estructura y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304920"/>
            <a:ext cx="7848720" cy="685800"/>
          </a:xfrm>
          <a:prstGeom prst="rect">
            <a:avLst/>
          </a:prstGeom>
          <a:solidFill>
            <a:srgbClr val="d5ffff"/>
          </a:solidFill>
          <a:ln w="9360">
            <a:solidFill>
              <a:srgbClr val="ffff45"/>
            </a:solidFill>
            <a:miter/>
          </a:ln>
          <a:effectLst>
            <a:outerShdw dist="153753" dir="2700000" blurRad="0" rotWithShape="0">
              <a:srgbClr val="fffb4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80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Times New Roman"/>
              </a:rPr>
              <a:t>Técnicas e Instrumentos de Obtención  de 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828800"/>
            <a:ext cx="8686800" cy="4724280"/>
          </a:xfrm>
          <a:prstGeom prst="rect">
            <a:avLst/>
          </a:prstGeom>
          <a:solidFill>
            <a:srgbClr val="d9f9fb"/>
          </a:solidFill>
          <a:ln w="9360">
            <a:solidFill>
              <a:srgbClr val="fff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286000"/>
            <a:ext cx="8001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INTE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41148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4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286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atos Subjetivos: órganos sensoriales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438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4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733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omunicación entre los integrantes de un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5638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4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2578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Instrumentos de cuantificación de la información. Dat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1T03:14:17Z</dcterms:created>
  <dc:creator>Francisco Ponce Calderón</dc:creator>
  <dc:description/>
  <dc:language>en-US</dc:language>
  <cp:lastModifiedBy>nvalladares</cp:lastModifiedBy>
  <dcterms:modified xsi:type="dcterms:W3CDTF">2004-05-17T14:20:17Z</dcterms:modified>
  <cp:revision>64</cp:revision>
  <dc:subject/>
  <dc:title>Presentación de PowerPoint</dc:title>
</cp:coreProperties>
</file>