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12.jpeg" ContentType="image/jpeg"/>
  <Override PartName="/ppt/media/image3.gif" ContentType="image/gif"/>
  <Override PartName="/ppt/media/image4.jpeg" ContentType="image/jpeg"/>
  <Override PartName="/ppt/media/image6.jpeg" ContentType="image/jpeg"/>
  <Override PartName="/ppt/media/image11.jpeg" ContentType="image/jpeg"/>
  <Override PartName="/ppt/media/image7.gif" ContentType="image/gif"/>
  <Override PartName="/ppt/media/image8.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3AAE6-1FD9-424A-883F-99E78247B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20F44-0AFF-4286-A4C3-97A4E114D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96EFE-5856-4E0A-B08B-583C67B46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1D5CD-FBDA-456C-A548-220F2D2AD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8E19F-DA06-48AA-816A-08F3D85EE4C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006FD-60CF-4E5F-B29F-D16C2CD0BC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360735-07F1-4A2C-A679-D30B6A781F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713BDA-6EB7-4DDD-8ECD-91F13EEFD6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C84738-F7A6-409C-B7F3-8D7A747BE2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0C101-E45D-4EC2-91E0-D395E8D08E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C1954-095C-4582-979E-1F9F8FF50F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B4A9-F5B2-48C8-A7A2-83AC69FA4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D41FA-C34B-4237-A88E-6C9DE96FC7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80A3A-386F-4220-A0F5-4717478624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4D2B0-2E5F-4E0B-A0FD-5BA5CB5156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879AEB-FB9D-461B-B29B-BDB8528AAF9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769698-6E0F-4D1F-A0E2-25022D1FF8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172BF-3F93-426E-A7D1-2603B859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8BE06-FB00-43D7-8661-D48A40B9C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BAE77-818B-4182-A9FF-B731D186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1AD9-4CAD-427B-B873-35AE23FDC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A1FD3-2BB3-469A-BE82-18177832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A76C-D24D-4EA5-B7F1-AE648A3B1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F913-B86E-47DA-9540-7334706AE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BA20-59AD-4B90-935A-E4AF36A85481}"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95D0-CB05-442C-93E2-8F2F0D82430B}" type="slidenum">
              <a:rPr b="0" lang="es-ES_trad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okone.com.mx/deportes/volei/home.html" TargetMode="External"/><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ahoma"/>
            </a:endParaRPr>
          </a:p>
        </p:txBody>
      </p:sp>
      <p:pic>
        <p:nvPicPr>
          <p:cNvPr id="84" name="Picture 5" descr="Voleibol"/>
          <p:cNvPicPr/>
          <p:nvPr/>
        </p:nvPicPr>
        <p:blipFill>
          <a:blip r:embed="rId1"/>
          <a:stretch/>
        </p:blipFill>
        <p:spPr>
          <a:xfrm>
            <a:off x="2268360" y="1100160"/>
            <a:ext cx="4535640" cy="24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voleibol_mex_corea"/>
          <p:cNvPicPr/>
          <p:nvPr/>
        </p:nvPicPr>
        <p:blipFill>
          <a:blip r:embed="rId1"/>
          <a:stretch/>
        </p:blipFill>
        <p:spPr>
          <a:xfrm>
            <a:off x="4932360" y="4221000"/>
            <a:ext cx="3600360" cy="2406960"/>
          </a:xfrm>
          <a:prstGeom prst="rect">
            <a:avLst/>
          </a:prstGeom>
          <a:ln w="0">
            <a:noFill/>
          </a:ln>
        </p:spPr>
      </p:pic>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cuándo se gana un set?</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n set (excepto el decisivo - 5° set) es ganado por el equipo que primero anota 25 puntos, con una ventaja mínima de 2 punt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Cuándo es ganado el partido?</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partido se juega a 5 sets. El equipo que gana tres sets gana el partido en el caso de empate 2 - 2, el set decisivo (5°) se juega a 15 puntos con una diferencia mínima de dos puntos.</a:t>
            </a:r>
            <a:endParaRPr b="0" lang="en-US" sz="3200" spc="-1" strike="noStrike">
              <a:solidFill>
                <a:srgbClr val="ffffff"/>
              </a:solidFill>
              <a:latin typeface="Tahoma"/>
            </a:endParaRPr>
          </a:p>
        </p:txBody>
      </p:sp>
      <p:pic>
        <p:nvPicPr>
          <p:cNvPr id="112" name="Picture 5" descr="File_20061122111811"/>
          <p:cNvPicPr/>
          <p:nvPr/>
        </p:nvPicPr>
        <p:blipFill>
          <a:blip r:embed="rId1"/>
          <a:stretch/>
        </p:blipFill>
        <p:spPr>
          <a:xfrm>
            <a:off x="5580000" y="4149720"/>
            <a:ext cx="2808360" cy="2365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A quién le corresponde el primer saque?</a:t>
            </a:r>
            <a:r>
              <a:rPr b="0" lang="es-ES_tradnl"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ntes del partido el primer árbitro realiza un sorteo para determinar a quién le corresponde el primer saque y que lados de la cancha ocuparán en el primer set. Si es necesario un set decisivo, se realizará un nuevo sorteo. El sorteo es realizado en presencia de los dos capitanes de los equipos. El ganador del sorteo elige una de las opciones: el derecho a sacar o recibir el ataque o el lado del camp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De qué modo puede tenerse contacto con el balón?</a:t>
            </a:r>
            <a:endParaRPr b="0" lang="en-US" sz="40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balón puede tocar cualquier parte del cuerpo.</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balón debe ser golpeado, no tomado, ni lanzado. Puede rebotar en cualquier dirección.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balón puede tocar varias partes del cuerpo, a condición que los contactos sean realizados simultáneament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xcepcione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urante el bloqueo se permiten contactos consecutivos entre uno o más bloqueadores a condición que ocurran en una misma acció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el primer toque del equipo el balón puede hacer contacto consecutivamente con varias partes del cuerpo, siempre que los contactos sean realizados durante una misma acción.</a:t>
            </a:r>
            <a:endParaRPr b="0" lang="en-US" sz="2000" spc="-1" strike="noStrike">
              <a:solidFill>
                <a:srgbClr val="ffffff"/>
              </a:solidFill>
              <a:latin typeface="Tahoma"/>
            </a:endParaRPr>
          </a:p>
        </p:txBody>
      </p:sp>
      <p:pic>
        <p:nvPicPr>
          <p:cNvPr id="117" name="Picture 5" descr="saque%20abajo"/>
          <p:cNvPicPr/>
          <p:nvPr/>
        </p:nvPicPr>
        <p:blipFill>
          <a:blip r:embed="rId1"/>
          <a:stretch/>
        </p:blipFill>
        <p:spPr>
          <a:xfrm>
            <a:off x="7164360" y="4797360"/>
            <a:ext cx="1236600" cy="164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UNIFORME</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uniforme consiste en pantaloncillo corto con camiseta, calcetas y zapatos tenis, tanto en la rama femenil como en la rama varonil. </a:t>
            </a:r>
            <a:endParaRPr b="0" lang="en-US" sz="3200" spc="-1" strike="noStrike">
              <a:solidFill>
                <a:srgbClr val="ffffff"/>
              </a:solidFill>
              <a:latin typeface="Tahoma"/>
            </a:endParaRPr>
          </a:p>
        </p:txBody>
      </p:sp>
      <p:pic>
        <p:nvPicPr>
          <p:cNvPr id="120" name="Picture 5" descr="voleibol_femenil"/>
          <p:cNvPicPr/>
          <p:nvPr/>
        </p:nvPicPr>
        <p:blipFill>
          <a:blip r:embed="rId1"/>
          <a:stretch/>
        </p:blipFill>
        <p:spPr>
          <a:xfrm>
            <a:off x="3132000" y="3860640"/>
            <a:ext cx="3384720" cy="28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2268360" y="4149720"/>
            <a:ext cx="4967640" cy="237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 un deporte que se juega con las manos principalmente, aunque podemos utilizar cualquier parte del cuerpo (pie, codo, brazo, hombro, rodilla, cabeza, et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Picture 5" descr="cabeza">
            <a:hlinkClick r:id="rId1"/>
          </p:cNvPr>
          <p:cNvPicPr/>
          <p:nvPr/>
        </p:nvPicPr>
        <p:blipFill>
          <a:blip r:embed="rId2"/>
          <a:stretch/>
        </p:blipFill>
        <p:spPr>
          <a:xfrm>
            <a:off x="1763640" y="404640"/>
            <a:ext cx="5040360" cy="905040"/>
          </a:xfrm>
          <a:prstGeom prst="rect">
            <a:avLst/>
          </a:prstGeom>
          <a:ln w="0">
            <a:noFill/>
          </a:ln>
        </p:spPr>
      </p:pic>
      <p:pic>
        <p:nvPicPr>
          <p:cNvPr id="88" name="Picture 7" descr="voleibol"/>
          <p:cNvPicPr/>
          <p:nvPr/>
        </p:nvPicPr>
        <p:blipFill>
          <a:blip r:embed="rId3"/>
          <a:stretch/>
        </p:blipFill>
        <p:spPr>
          <a:xfrm>
            <a:off x="2556000" y="4292640"/>
            <a:ext cx="4319640" cy="197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1258920" y="1413000"/>
            <a:ext cx="6985080" cy="4608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MEDIDAS DE LA CANCHA</a:t>
            </a:r>
            <a:endParaRPr b="0" lang="en-US" sz="4400" spc="-1" strike="noStrike">
              <a:solidFill>
                <a:srgbClr val="ffffff"/>
              </a:solidFill>
              <a:latin typeface="Tahoma"/>
            </a:endParaRPr>
          </a:p>
        </p:txBody>
      </p:sp>
      <p:pic>
        <p:nvPicPr>
          <p:cNvPr id="91" name="Picture 5" descr="cancha"/>
          <p:cNvPicPr/>
          <p:nvPr/>
        </p:nvPicPr>
        <p:blipFill>
          <a:blip r:embed="rId1"/>
          <a:stretch/>
        </p:blipFill>
        <p:spPr>
          <a:xfrm>
            <a:off x="1763640" y="1628640"/>
            <a:ext cx="5832720" cy="41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OBJETIVO</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objetivo del juego es enviar el balón, por encima de la red, al piso del campo contrario e impedir que el oponente haga lo mismo. El equipo dispone de tres toques para retomar el balón (además del toque de bloqueo) </a:t>
            </a:r>
            <a:endParaRPr b="0" lang="en-US" sz="3200" spc="-1" strike="noStrike">
              <a:solidFill>
                <a:srgbClr val="ffffff"/>
              </a:solidFill>
              <a:latin typeface="Tahoma"/>
            </a:endParaRPr>
          </a:p>
        </p:txBody>
      </p:sp>
      <p:pic>
        <p:nvPicPr>
          <p:cNvPr id="94" name="Picture 5" descr="voleibol3"/>
          <p:cNvPicPr/>
          <p:nvPr/>
        </p:nvPicPr>
        <p:blipFill>
          <a:blip r:embed="rId1"/>
          <a:stretch/>
        </p:blipFill>
        <p:spPr>
          <a:xfrm>
            <a:off x="5992920" y="4437000"/>
            <a:ext cx="1708200" cy="20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L SAQUE</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equipo que gana el punto efectúa el servicio o saque en la zona de servicio, ubicada atrás de la línea de fondo; cuando cambia el saque, los integrantes del equipo que sirve se desplazan una posición en dirección de las manecillas del reloj, a esto se le llama rotación, cuyo orden se debe respetar en cada set; el jugador que sirve continúa haciéndolo hasta que su equipo pierda el punto.</a:t>
            </a:r>
            <a:br>
              <a:rPr sz="2800"/>
            </a:br>
            <a:r>
              <a:rPr b="0" lang="es-ES_tradnl" sz="2800" spc="-1" strike="noStrike">
                <a:solidFill>
                  <a:srgbClr val="ffffff"/>
                </a:solidFill>
                <a:latin typeface="Tahoma"/>
              </a:rPr>
              <a:t> </a:t>
            </a:r>
            <a:endParaRPr b="0" lang="en-US" sz="2800" spc="-1" strike="noStrike">
              <a:solidFill>
                <a:srgbClr val="ffffff"/>
              </a:solidFill>
              <a:latin typeface="Tahoma"/>
            </a:endParaRPr>
          </a:p>
        </p:txBody>
      </p:sp>
      <p:pic>
        <p:nvPicPr>
          <p:cNvPr id="97" name="Picture 7" descr="02volfot10"/>
          <p:cNvPicPr/>
          <p:nvPr/>
        </p:nvPicPr>
        <p:blipFill>
          <a:blip r:embed="rId1"/>
          <a:stretch/>
        </p:blipFill>
        <p:spPr>
          <a:xfrm>
            <a:off x="6804000" y="476280"/>
            <a:ext cx="1297080" cy="129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Cuántos Jugadores puedo integrar al juego?</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equipo puede componerse de un máximo de 12 jugadores: un Entrenador, un Asistente de Entrenador, un Masajista y un Médic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os jugadores anotados en la hoja del encuentro pueden entrar al campo y participar del mismo. Una vez que el capitán y el entrenador han firmado la hoja del encuentro, la composición del equipo no puede modifica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83628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Dónde deben ubicarse los jugadores que no estén jugando?</a:t>
            </a:r>
            <a:endParaRPr b="0" lang="en-US" sz="4000" spc="-1" strike="noStrike">
              <a:solidFill>
                <a:srgbClr val="ffffff"/>
              </a:solidFill>
              <a:latin typeface="Tahoma"/>
            </a:endParaRPr>
          </a:p>
        </p:txBody>
      </p:sp>
      <p:sp>
        <p:nvSpPr>
          <p:cNvPr id="101" name="PlaceHolder 2"/>
          <p:cNvSpPr>
            <a:spLocks noGrp="1"/>
          </p:cNvSpPr>
          <p:nvPr>
            <p:ph/>
          </p:nvPr>
        </p:nvSpPr>
        <p:spPr>
          <a:xfrm>
            <a:off x="539640" y="242100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jugadores que no estén jugando, deben sentarse en la banca de su equipo o estar en su área de calentamiento. El entrenador y los otros miembros del equipo deben sentarse en la banca, pero pueden abandonarla temporalmen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bancas para los equipos se ubican a los lados de la mesa del anotador. Sólo los miembros del equipo pueden sentarse en la banca durante el juego y participar en la sesión de calentamiento. Los jugadores que no estén jugando pueden calentar sin usar balon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EL EQUIPO</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juega con dos equipos de 6 integrantes cada uno, 3 al frente, son los atacantes; y tres atrás, los defensore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ueden hacer pases de acomodo entre compañeros con la intención de proyectar el balón con fuerza y colocación hacia el lado rival, de tal modo que los contrarios no puedan regresar la pelota correctamente o evitar que ésta toque el piso. </a:t>
            </a:r>
            <a:br>
              <a:rPr sz="2800"/>
            </a:b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l término de cada set los equipos intercambian posiciones, en el 5† set los equipos cambian de campo al llegar el primero de ellos a 8 tantos. </a:t>
            </a:r>
            <a:endParaRPr b="0" lang="en-US" sz="3200" spc="-1" strike="noStrike">
              <a:solidFill>
                <a:srgbClr val="ffffff"/>
              </a:solidFill>
              <a:latin typeface="Tahoma"/>
            </a:endParaRPr>
          </a:p>
        </p:txBody>
      </p:sp>
      <p:sp>
        <p:nvSpPr>
          <p:cNvPr id="105"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AL TERMINO DEL SET</a:t>
            </a:r>
            <a:endParaRPr b="0" lang="en-US" sz="4400" spc="-1" strike="noStrike">
              <a:solidFill>
                <a:srgbClr val="ffffff"/>
              </a:solidFill>
              <a:latin typeface="Tahoma"/>
            </a:endParaRPr>
          </a:p>
        </p:txBody>
      </p:sp>
      <p:pic>
        <p:nvPicPr>
          <p:cNvPr id="106" name="Picture 6" descr="_voleibol%20niñas"/>
          <p:cNvPicPr/>
          <p:nvPr/>
        </p:nvPicPr>
        <p:blipFill>
          <a:blip r:embed="rId1"/>
          <a:stretch/>
        </p:blipFill>
        <p:spPr>
          <a:xfrm>
            <a:off x="6443640" y="4005360"/>
            <a:ext cx="2303640" cy="22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7:05:05Z</dcterms:created>
  <dc:creator>Anita</dc:creator>
  <dc:description/>
  <dc:language>en-US</dc:language>
  <cp:lastModifiedBy>Maida</cp:lastModifiedBy>
  <dcterms:modified xsi:type="dcterms:W3CDTF">2011-07-26T12:38:59Z</dcterms:modified>
  <cp:revision>4</cp:revision>
  <dc:subject/>
  <dc:title>Diapositiva 1</dc:title>
</cp:coreProperties>
</file>