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D291-0969-403B-A766-77563800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202A-F3CE-4B31-B12E-9118E131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49B6-9AB6-4892-94F4-080DA865A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69D2-3A55-45BD-A8B6-D9FEA693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DF67-36C4-4067-A5CB-953BB471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C1B0-215C-48DF-B6F4-5CFCE77D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70B9-16C8-4B8E-A76D-91E232A7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8F79-2E61-4C27-A0B2-00549760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B34C-ABFD-4321-BBB6-6A848D46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8F58-99C8-41B0-B924-F689D5D3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5E95-E589-466F-863F-1A352FFA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9F52-C349-492D-988D-C1221E56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D0F1-DE4C-4386-9022-94EDA6687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010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260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stricción 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5280" y="1219320"/>
            <a:ext cx="17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stas por sen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4:39:27Z</dcterms:created>
  <dc:creator>cc</dc:creator>
  <dc:description/>
  <dc:language>en-US</dc:language>
  <cp:lastModifiedBy>Cristián Cortés</cp:lastModifiedBy>
  <dcterms:modified xsi:type="dcterms:W3CDTF">2004-09-09T18:48:39Z</dcterms:modified>
  <cp:revision>5</cp:revision>
  <dc:subject/>
  <dc:title>Presentación de PowerPoint</dc:title>
</cp:coreProperties>
</file>