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2AB7-4858-48E6-8424-B561F9C4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8E7D-B925-46F7-8A19-0AA60371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4DAB-4761-417F-A14B-5F578C3B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C657-3033-4A7D-89A0-924C942D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B518-B856-41DC-BF77-CCA744BC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9CF5-B63D-4D29-BCDD-12E5EF55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984D-5B2F-46E7-942F-93A2185E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DEEA-4C7B-4A84-BAE9-50581937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D437-870E-443F-987A-ADD844FF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DDC8-60AF-4BF7-866D-D324C645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DAF2-9402-4D67-ACE4-D9A1A9ED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B2FD-62B3-40BF-841E-8DECA63D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A347-67A0-4CF5-89B3-4F05EF19E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010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19280" y="260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stricción 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5280" y="1219320"/>
            <a:ext cx="17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stas por sen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 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4:39:27Z</dcterms:created>
  <dc:creator>cc</dc:creator>
  <dc:description/>
  <dc:language>en-US</dc:language>
  <cp:lastModifiedBy>Cristián Cortés</cp:lastModifiedBy>
  <dcterms:modified xsi:type="dcterms:W3CDTF">2004-09-09T18:48:39Z</dcterms:modified>
  <cp:revision>5</cp:revision>
  <dc:subject/>
  <dc:title>Presentación de PowerPoint</dc:title>
</cp:coreProperties>
</file>