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C3C90-9071-4918-B384-93A33A914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94C0A-F761-47C2-A8A9-DBAFD113D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F89B7-97D3-41B8-A6EC-AD632DF8D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7C8F6-2EBA-4DAA-821B-6FED5855B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ECB97-3DDD-4126-9B6D-C471813A1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FD0C0-73CF-4300-A5A4-A95300FEC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F12FC-6889-40BD-8612-F9D77FD74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8BE1C-7C06-4220-9E3D-26BF5C5FE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DE151-B06A-475A-B0A4-5C8C9C660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65483-6142-434A-8619-183EF77F6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2FCDF-1E5D-4420-90AD-06F0F5D48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E41ED-AC91-426B-A3F2-D8EA46FC3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22066-0D20-4CBA-95EA-878529D47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A3230-F93A-4033-9D18-7B4E84211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E671E-36D4-49F5-A553-E531C86C2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2874F-3552-4B01-AB87-4A47FD260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546BD-81B9-4A3F-BB16-98B53F38F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2F4AD-7181-40BA-9584-3F3FCC4AF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41D69-9D5D-4FF9-8AD6-01DF22FEA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BB34B-15B9-45CD-8808-14492491D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F732A-413F-4827-8321-721393679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52F84-0DCE-4855-873E-83BF48159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5D574-361B-4AE7-8487-7EFBC9B78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881C0-7FEA-44E6-A34F-34E2E9E76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86CA6-8F6B-4B6B-9938-A613861788AA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C7DD9-5579-4077-9365-E0F8CE8518F5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0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6666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51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800" spc="-1" strike="noStrike">
                <a:solidFill>
                  <a:srgbClr val="999900"/>
                </a:solidFill>
                <a:latin typeface="Garamond"/>
              </a:rPr>
              <a:t>Sistemas Distribuidos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27024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Javier Bustos Jiménez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Ejemplos de sistemas distribuid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World Wide Web (WWW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Aparece antes los usuarios como un repositorio gigantesco de documen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Factura electrónica en Chi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Muchos contribuyentes y comprado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Un ente centralizado (SII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Back-office distribuid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Ventajas de distribuir sistema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conomía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Aumento en capacidad de procesamiento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Aplicaciones inherentemente distribu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da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apacidad de crecimiento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Fiabilidad y disponibilidad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ompartir recursos y dato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Desventajas de distribuir sistema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Aumento de la complejida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ostos de administraci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Fallas m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ás frecuent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Red, Latencia, p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érdida de mensaj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Interoperabilida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Falta de estándares únic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egurida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999900"/>
                </a:solidFill>
                <a:latin typeface="Garamond"/>
              </a:rPr>
              <a:t>Implicancias de distribuir los sistemas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Verdana"/>
              </a:rPr>
              <a:t>Concurrencia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Recursos compartidos. Acceso concurrent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Sincronizació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Verdana"/>
              </a:rPr>
              <a:t>Sin tiempo global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ada computador tiene su propio reloj local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oordinació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Verdana"/>
              </a:rPr>
              <a:t>Fallas independientes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Posibilidad permanente de fallas en cada component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Detección de fallas y toleranci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999900"/>
                </a:solidFill>
                <a:latin typeface="Garamond"/>
              </a:rPr>
              <a:t>Desafíos de los Sistemas Distribuidos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ompartir Recurs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Transparenci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Usabilidad (abierto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scalabilida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Compartir recurs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l objetivo básico de los sistemas distribuido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Usuarios deben tener acceso fácil a recursos compartidos y compartir sus propios recursos de forma controlad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Impresora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omputador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spacio de almacenamient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Archivos, datos, páginas Web, redes, etc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Porqué compartir recursos 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ostos, capacidad, escalabilida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Transparenci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sconder el hecho que los recursos y procesos están físicamente distribuidos en diferentes máquina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Un sistema distribuido que se presenta hacia el usuario como una sola máquina se dice ser transparent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in embargo, transparencia se aplica a varios aspectos de sistemas distribuidos…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Transparenci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Acces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sconde las diferencias entre las distintas representaciones de datos y la formas en que éstos son accedidos por los usuario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jemplo: representación de un entero en una máquina SPARC (big endian) y una INTEL (little endian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Ubicació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sconde la ubicación física de donde está situado un recurs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n particular se suele usar nombres lógicos en vez de direcciones reales. Ejemplo, la URL en el Web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Transparenci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Migració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sconde el hecho que recursos puedan migrar de una ubicación física a otra sin afectar el modo en que se acced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jemplo: las tareas ;-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Re-ubicació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Un caso aún más fuerte de migración. Los recursos son movidos de una ubicación a otra </a:t>
            </a: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mientras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 están en uso y sin que el usuario note nad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Un uso típico es para balancear carg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Transparenci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Replicació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sconde el hecho que un recurso pueda estar replicado varias veces para mejorar su rendimiento y/o disponibilida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Obviamente exige transparencia de ubicació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Ejemplo: servidor Web de Googl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oncurrenci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sconde el hecho de que distintos usuarios están “compitiendo” en paralelo por acceder o usar recursos, o que un recurso está siendo compartido con otros usuari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Exige que el sistema se mantenga en un estado coherent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Ejemplo: bases de dat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Objetiv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ntender los conceptos básicos de sistemas distribuidos y sus problemática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Aprender el uso de técnicas de diseño de sistemas en forma distribuid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onstruir sistemas computacionales básicos en ambientes distribuido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onocer diferentes sistemas distribuidos de mayor us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Transparenci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Fall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l usuario no nota (inclusive nunca supo) que un recurso ha dejado de funcionar (o se ha recuperado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Es uno de los aspectos más duros en sistemas distribuidos por la dificultad de detectar que un recurso ha muerto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Ejemplo: arreglos de discos RAID, Google File System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Persistenci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sconde si un recurso de software está en disco o en memori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Aplicable a distintos sistemas, no sólo distribuid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Ejemplo: servidores cache, proxy; conexiones persistentes a bases de dato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Transparenci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La transparencia tiene límites y grado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No siempre es posible esconder tod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jemplo: desfase temporal de comunicación entre puntos muy distantes (delay)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Siempre hay un trade-off entre transparencia y rendimient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jemplo: Bases de datos replicadas world-wide. Un caso particular son los servidores DNS que pueden tomar días en actualizarse, lo cual no se oculta al usuari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Usabilidad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Los recursos y servicios son ofrecidos de acuerdo a reglas estándares describiendo la semántica y sintaxi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Usualmente estas reglas son descritas vía protocolos o interfac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HTTP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Interface Definition Languages (IDL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Web servic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Dos aspectos muy relevant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ompletitu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Neutralida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Escalabilidad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Se refiere a la capacidad de crecer de un sistem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La escalabilidad se puede dimensionar desde tres asp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Tamaño: la capacidad de agregar fácilmente más recursos y usuarios al sistem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Geográfica: la capacidad de que usuarios y recursos se encuentren a distancias considerabl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Administración: La capacidad de mantener una administración fácil a pesar del crecimient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Desafortunadamente los sistemas son escalables en alguna de las dimensiones sacrificando rendimiento en las otr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Hardwar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n forma general todo sistema distribuido consiste en m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últiple CPU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Memoria compartida (multi-procesadore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Todos los CPU comparten el mismo espacio de direcciones de memori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Memoria independiente (multi-computadore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ada CPU tiene su propio espacio de direcciones de memori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omunicaci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 vía BU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anal compartid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omunicación vía Switc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anal exclusiv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Hardwar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1371600" y="1981080"/>
            <a:ext cx="1981080" cy="1067040"/>
            <a:chOff x="1371600" y="1981080"/>
            <a:chExt cx="1981080" cy="1067040"/>
          </a:xfrm>
        </p:grpSpPr>
        <p:sp>
          <p:nvSpPr>
            <p:cNvPr id="139" name=""/>
            <p:cNvSpPr/>
            <p:nvPr/>
          </p:nvSpPr>
          <p:spPr>
            <a:xfrm>
              <a:off x="1676520" y="1981080"/>
              <a:ext cx="304560" cy="3049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447920" y="2743200"/>
              <a:ext cx="304560" cy="30492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286000" y="1981080"/>
              <a:ext cx="304920" cy="3049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895480" y="1981080"/>
              <a:ext cx="304920" cy="3049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81080" y="2743200"/>
              <a:ext cx="304920" cy="30492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514600" y="2743200"/>
              <a:ext cx="304920" cy="30492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048120" y="2743200"/>
              <a:ext cx="304560" cy="30492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371600" y="2514600"/>
              <a:ext cx="1981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600200" y="25146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133720" y="25146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666880" y="25146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200400" y="25146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828800" y="2286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438280" y="2286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048120" y="2286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5257800" y="1981080"/>
            <a:ext cx="2209680" cy="1067040"/>
            <a:chOff x="5257800" y="1981080"/>
            <a:chExt cx="2209680" cy="1067040"/>
          </a:xfrm>
        </p:grpSpPr>
        <p:sp>
          <p:nvSpPr>
            <p:cNvPr id="155" name=""/>
            <p:cNvSpPr/>
            <p:nvPr/>
          </p:nvSpPr>
          <p:spPr>
            <a:xfrm>
              <a:off x="5410080" y="2514600"/>
              <a:ext cx="304920" cy="30492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943600" y="2514600"/>
              <a:ext cx="304920" cy="30492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477120" y="2514600"/>
              <a:ext cx="304560" cy="30492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10280" y="2514600"/>
              <a:ext cx="304920" cy="30492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410080" y="1981080"/>
              <a:ext cx="304920" cy="3049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943600" y="1981080"/>
              <a:ext cx="304920" cy="3049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477120" y="1981080"/>
              <a:ext cx="304560" cy="3049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010280" y="1981080"/>
              <a:ext cx="304920" cy="3049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562720" y="2286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095880" y="2286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629400" y="2286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162920" y="2286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162920" y="28195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629400" y="28195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95880" y="28195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562720" y="28195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257800" y="3048120"/>
              <a:ext cx="2209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1600200" y="4191120"/>
            <a:ext cx="1905120" cy="1523880"/>
            <a:chOff x="1600200" y="4191120"/>
            <a:chExt cx="1905120" cy="1523880"/>
          </a:xfrm>
        </p:grpSpPr>
        <p:sp>
          <p:nvSpPr>
            <p:cNvPr id="173" name=""/>
            <p:cNvSpPr/>
            <p:nvPr/>
          </p:nvSpPr>
          <p:spPr>
            <a:xfrm>
              <a:off x="2438640" y="4876920"/>
              <a:ext cx="228600" cy="2286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600200" y="5410080"/>
              <a:ext cx="304920" cy="30492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133720" y="5410080"/>
              <a:ext cx="304920" cy="30492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667240" y="5410080"/>
              <a:ext cx="304560" cy="30492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200400" y="5410080"/>
              <a:ext cx="304920" cy="30492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676520" y="4191120"/>
              <a:ext cx="304920" cy="30456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62320" y="4191120"/>
              <a:ext cx="304920" cy="30456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971800" y="4191120"/>
              <a:ext cx="304920" cy="30456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81" name=""/>
            <p:cNvCxnSpPr>
              <a:stCxn id="178" idx="2"/>
              <a:endCxn id="173" idx="1"/>
            </p:cNvCxnSpPr>
            <p:nvPr/>
          </p:nvCxnSpPr>
          <p:spPr>
            <a:xfrm>
              <a:off x="1828800" y="4495320"/>
              <a:ext cx="643320" cy="415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82" name=""/>
            <p:cNvCxnSpPr>
              <a:stCxn id="173" idx="0"/>
              <a:endCxn id="179" idx="2"/>
            </p:cNvCxnSpPr>
            <p:nvPr/>
          </p:nvCxnSpPr>
          <p:spPr>
            <a:xfrm flipH="1" flipV="1">
              <a:off x="2514240" y="4494960"/>
              <a:ext cx="38880" cy="381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83" name=""/>
            <p:cNvCxnSpPr>
              <a:stCxn id="173" idx="7"/>
              <a:endCxn id="180" idx="2"/>
            </p:cNvCxnSpPr>
            <p:nvPr/>
          </p:nvCxnSpPr>
          <p:spPr>
            <a:xfrm flipV="1">
              <a:off x="2633400" y="4494960"/>
              <a:ext cx="491400" cy="415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84" name=""/>
            <p:cNvCxnSpPr>
              <a:stCxn id="173" idx="5"/>
              <a:endCxn id="176" idx="0"/>
            </p:cNvCxnSpPr>
            <p:nvPr/>
          </p:nvCxnSpPr>
          <p:spPr>
            <a:xfrm>
              <a:off x="2633760" y="5071680"/>
              <a:ext cx="186480" cy="338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85" name=""/>
            <p:cNvCxnSpPr>
              <a:stCxn id="173" idx="3"/>
              <a:endCxn id="175" idx="0"/>
            </p:cNvCxnSpPr>
            <p:nvPr/>
          </p:nvCxnSpPr>
          <p:spPr>
            <a:xfrm flipH="1">
              <a:off x="2285640" y="5071680"/>
              <a:ext cx="186480" cy="338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86" name=""/>
            <p:cNvCxnSpPr>
              <a:stCxn id="173" idx="2"/>
              <a:endCxn id="174" idx="0"/>
            </p:cNvCxnSpPr>
            <p:nvPr/>
          </p:nvCxnSpPr>
          <p:spPr>
            <a:xfrm flipH="1">
              <a:off x="1752120" y="4991040"/>
              <a:ext cx="686520" cy="419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87" name=""/>
            <p:cNvCxnSpPr>
              <a:stCxn id="173" idx="6"/>
              <a:endCxn id="177" idx="0"/>
            </p:cNvCxnSpPr>
            <p:nvPr/>
          </p:nvCxnSpPr>
          <p:spPr>
            <a:xfrm>
              <a:off x="2666880" y="4991040"/>
              <a:ext cx="686520" cy="419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  <p:grpSp>
        <p:nvGrpSpPr>
          <p:cNvPr id="188" name=""/>
          <p:cNvGrpSpPr/>
          <p:nvPr/>
        </p:nvGrpSpPr>
        <p:grpSpPr>
          <a:xfrm>
            <a:off x="5410080" y="4267080"/>
            <a:ext cx="1905120" cy="1600200"/>
            <a:chOff x="5410080" y="4267080"/>
            <a:chExt cx="1905120" cy="1600200"/>
          </a:xfrm>
        </p:grpSpPr>
        <p:sp>
          <p:nvSpPr>
            <p:cNvPr id="189" name=""/>
            <p:cNvSpPr/>
            <p:nvPr/>
          </p:nvSpPr>
          <p:spPr>
            <a:xfrm>
              <a:off x="6248520" y="5638680"/>
              <a:ext cx="228600" cy="2286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410080" y="4800600"/>
              <a:ext cx="304920" cy="30456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943600" y="4800600"/>
              <a:ext cx="304920" cy="30456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477120" y="4800600"/>
              <a:ext cx="304560" cy="30456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010280" y="4800600"/>
              <a:ext cx="304920" cy="30456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410080" y="4267080"/>
              <a:ext cx="304920" cy="3049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943600" y="4267080"/>
              <a:ext cx="304920" cy="3049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477120" y="4267080"/>
              <a:ext cx="304560" cy="3049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010280" y="4267080"/>
              <a:ext cx="304920" cy="3049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562720" y="4572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095880" y="4572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629400" y="4572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162920" y="4572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02" name=""/>
            <p:cNvCxnSpPr>
              <a:stCxn id="190" idx="2"/>
              <a:endCxn id="189" idx="2"/>
            </p:cNvCxnSpPr>
            <p:nvPr/>
          </p:nvCxnSpPr>
          <p:spPr>
            <a:xfrm flipH="1" rot="16200000">
              <a:off x="5580720" y="5086080"/>
              <a:ext cx="648360" cy="686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03" name=""/>
            <p:cNvCxnSpPr>
              <a:stCxn id="191" idx="2"/>
              <a:endCxn id="189" idx="1"/>
            </p:cNvCxnSpPr>
            <p:nvPr/>
          </p:nvCxnSpPr>
          <p:spPr>
            <a:xfrm flipH="1" rot="16200000">
              <a:off x="5905080" y="5295240"/>
              <a:ext cx="567720" cy="186480"/>
            </a:xfrm>
            <a:prstGeom prst="bentConnector3">
              <a:avLst>
                <a:gd name="adj1" fmla="val 47017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04" name=""/>
            <p:cNvCxnSpPr>
              <a:stCxn id="193" idx="2"/>
              <a:endCxn id="189" idx="6"/>
            </p:cNvCxnSpPr>
            <p:nvPr/>
          </p:nvCxnSpPr>
          <p:spPr>
            <a:xfrm rot="5400000">
              <a:off x="6495480" y="5086080"/>
              <a:ext cx="648360" cy="686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05" name=""/>
            <p:cNvCxnSpPr>
              <a:stCxn id="192" idx="2"/>
              <a:endCxn id="189" idx="7"/>
            </p:cNvCxnSpPr>
            <p:nvPr/>
          </p:nvCxnSpPr>
          <p:spPr>
            <a:xfrm rot="5400000">
              <a:off x="6252480" y="5295600"/>
              <a:ext cx="567720" cy="186480"/>
            </a:xfrm>
            <a:prstGeom prst="bentConnector3">
              <a:avLst>
                <a:gd name="adj1" fmla="val 47017"/>
              </a:avLst>
            </a:prstGeom>
            <a:ln w="9360">
              <a:solidFill>
                <a:srgbClr val="000000"/>
              </a:solidFill>
              <a:miter/>
            </a:ln>
          </p:spPr>
        </p:cxnSp>
      </p:grpSp>
      <p:sp>
        <p:nvSpPr>
          <p:cNvPr id="206" name=""/>
          <p:cNvSpPr/>
          <p:nvPr/>
        </p:nvSpPr>
        <p:spPr>
          <a:xfrm>
            <a:off x="865440" y="3214800"/>
            <a:ext cx="307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Memoria compartida - B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801720" y="595800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Memoria compartida - Swit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639320" y="3214800"/>
            <a:ext cx="340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Memoria independiente - B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777920" y="5958000"/>
            <a:ext cx="366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Memoria independiente - Swit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Multi-Procesadore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Todos los CPU tienen acceso a una memoria compartid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Un ejemplo es Symetric Multiprocesing (SMP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xige coherencia en el estado de la memori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n la medida que aumentan los CPUs mantener la coherencia afecta fuertemente el rendimient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s poco escalable y la escalabilidad es car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Multi-computadore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e subdividen en dos categor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ía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Homogéne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La arquitectura y memoria es igual o similar en todos los nod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Generalmente conectados a trav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és de una única, usualmente de alto rendimiento, interfaz de re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jemplo típico: cluster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Heterog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é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ne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ú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ltiples arquitectura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Diferentes comunicacion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Diferentes formas de comunicaci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jemplo t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ípico: GRI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Softwar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e encuentran tres variantes de plataformas de software para sistemas distribuid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Sistemas operativos distribuid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Sistemas operativos de R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Middle-wa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Sistemas Operativos Distribuid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istemas Operativos Monoprocesado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Múltiples procesos compartiendo recursos sobre una máquina, gracias a un microkernel que implemente una máquina virtual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56960" y="3689280"/>
            <a:ext cx="9007920" cy="3007800"/>
            <a:chOff x="156960" y="3689280"/>
            <a:chExt cx="9007920" cy="3007800"/>
          </a:xfrm>
        </p:grpSpPr>
        <p:grpSp>
          <p:nvGrpSpPr>
            <p:cNvPr id="219" name=""/>
            <p:cNvGrpSpPr/>
            <p:nvPr/>
          </p:nvGrpSpPr>
          <p:grpSpPr>
            <a:xfrm>
              <a:off x="1219320" y="4114800"/>
              <a:ext cx="6781680" cy="2438280"/>
              <a:chOff x="1219320" y="4114800"/>
              <a:chExt cx="6781680" cy="2438280"/>
            </a:xfrm>
          </p:grpSpPr>
          <p:sp>
            <p:nvSpPr>
              <p:cNvPr id="220" name=""/>
              <p:cNvSpPr/>
              <p:nvPr/>
            </p:nvSpPr>
            <p:spPr>
              <a:xfrm>
                <a:off x="1219320" y="5181480"/>
                <a:ext cx="6781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1447920" y="4267080"/>
                <a:ext cx="1371600" cy="83772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Aplicaci</a:t>
                </a: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  <a:ea typeface="ＭＳ Ｐゴシック"/>
                  </a:rPr>
                  <a:t>ón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  <a:ea typeface="ＭＳ Ｐゴシック"/>
                  </a:rPr>
                  <a:t>De usuari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3124440" y="4267080"/>
                <a:ext cx="1371600" cy="83772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M</a:t>
                </a: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  <a:ea typeface="ＭＳ Ｐゴシック"/>
                  </a:rPr>
                  <a:t>ódulo d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  <a:ea typeface="ＭＳ Ｐゴシック"/>
                  </a:rPr>
                  <a:t>memori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4800600" y="4267080"/>
                <a:ext cx="1371600" cy="83772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M</a:t>
                </a: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  <a:ea typeface="ＭＳ Ｐゴシック"/>
                  </a:rPr>
                  <a:t>ódulo d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  <a:ea typeface="ＭＳ Ｐゴシック"/>
                  </a:rPr>
                  <a:t>proces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6400800" y="4267080"/>
                <a:ext cx="1371600" cy="83772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M</a:t>
                </a: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  <a:ea typeface="ＭＳ Ｐゴシック"/>
                  </a:rPr>
                  <a:t>ódulo d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  <a:ea typeface="ＭＳ Ｐゴシック"/>
                  </a:rPr>
                  <a:t>archivo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1676520" y="5028840"/>
                <a:ext cx="914400" cy="228240"/>
              </a:xfrm>
              <a:prstGeom prst="roundRect">
                <a:avLst>
                  <a:gd name="adj" fmla="val 16667"/>
                </a:avLst>
              </a:prstGeom>
              <a:solidFill>
                <a:srgbClr val="99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3353040" y="5028840"/>
                <a:ext cx="914400" cy="228240"/>
              </a:xfrm>
              <a:prstGeom prst="roundRect">
                <a:avLst>
                  <a:gd name="adj" fmla="val 16667"/>
                </a:avLst>
              </a:prstGeom>
              <a:solidFill>
                <a:srgbClr val="99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5029200" y="5028840"/>
                <a:ext cx="914400" cy="228240"/>
              </a:xfrm>
              <a:prstGeom prst="roundRect">
                <a:avLst>
                  <a:gd name="adj" fmla="val 16667"/>
                </a:avLst>
              </a:prstGeom>
              <a:solidFill>
                <a:srgbClr val="99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6629400" y="5028840"/>
                <a:ext cx="914400" cy="228240"/>
              </a:xfrm>
              <a:prstGeom prst="roundRect">
                <a:avLst>
                  <a:gd name="adj" fmla="val 16667"/>
                </a:avLst>
              </a:prstGeom>
              <a:solidFill>
                <a:srgbClr val="99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1219320" y="4114800"/>
                <a:ext cx="6781680" cy="2438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1219320" y="6019560"/>
                <a:ext cx="6781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4142880" y="6127560"/>
                <a:ext cx="1244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Hardwar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3910680" y="5652720"/>
                <a:ext cx="1540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Micro-kernel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2438640" y="495288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2438640" y="5410080"/>
                <a:ext cx="1447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flipV="1">
                <a:off x="3886200" y="495252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2210040" y="4952880"/>
                <a:ext cx="0" cy="532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2210040" y="5486040"/>
                <a:ext cx="3352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flipV="1">
                <a:off x="5562720" y="4952880"/>
                <a:ext cx="0" cy="532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1981440" y="4952880"/>
                <a:ext cx="0" cy="685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1981440" y="5638680"/>
                <a:ext cx="5181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flipV="1">
                <a:off x="7162920" y="4952880"/>
                <a:ext cx="0" cy="685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2" name=""/>
            <p:cNvSpPr/>
            <p:nvPr/>
          </p:nvSpPr>
          <p:spPr>
            <a:xfrm>
              <a:off x="279000" y="6054480"/>
              <a:ext cx="1427400" cy="642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6666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Llamada d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sistem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 flipV="1">
              <a:off x="990720" y="5597280"/>
              <a:ext cx="9903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56960" y="3692520"/>
              <a:ext cx="2114640" cy="642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6666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Interfaz d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Sistema operativ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066680" y="4343400"/>
              <a:ext cx="76212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811240" y="3689280"/>
              <a:ext cx="474840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6666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No hay intercambio directo entre m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ódul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 flipH="1">
              <a:off x="2666520" y="4038480"/>
              <a:ext cx="2286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809880" y="40384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562720" y="40384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086600" y="40384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8077320" y="4190760"/>
              <a:ext cx="152280" cy="91440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23760 h 914400"/>
                <a:gd name="textAreaBottom" fmla="*/ 89064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8077320" y="5181480"/>
              <a:ext cx="152280" cy="83808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21600 h 838080"/>
                <a:gd name="textAreaBottom" fmla="*/ 816480 h 83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170200" y="4311360"/>
              <a:ext cx="99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od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usuari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8173080" y="5257800"/>
              <a:ext cx="857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od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kern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Agend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Introducción a Sistemas Distribuid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omunicacion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Procesos y Migraci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Nam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incronización de procesos distribuid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Replicaci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istemas de archivos distribuid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Actualida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Sistemas Operativos Distribuid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istemas Operativos Multiprocesado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Múltiples procesadores compartiendo datos a través de memoria compartid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Datos deben ser protegidos para garantizar consistenci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Múltiples procesadores deben ser transparentes para la aplicació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Primitivas de sincronización: semáforos, locks, monitor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Sistemas Operativos Distribuid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istemas Operativos Multicomputado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Múltiples computadores conectados por re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ada procesador tiene su propia memori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omunicación únicamente a través de paso de mensaj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Sincronización basada en semánticas particulares de paso de mensaj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2057400" y="3900600"/>
            <a:ext cx="5090400" cy="2806560"/>
            <a:chOff x="2057400" y="3900600"/>
            <a:chExt cx="5090400" cy="2806560"/>
          </a:xfrm>
        </p:grpSpPr>
        <p:sp>
          <p:nvSpPr>
            <p:cNvPr id="260" name=""/>
            <p:cNvSpPr/>
            <p:nvPr/>
          </p:nvSpPr>
          <p:spPr>
            <a:xfrm>
              <a:off x="5257800" y="4281480"/>
              <a:ext cx="1523880" cy="19810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657600" y="4281480"/>
              <a:ext cx="1523880" cy="19810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057400" y="4281480"/>
              <a:ext cx="1523880" cy="19810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133720" y="4357800"/>
              <a:ext cx="4495680" cy="6094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Aplicaciones distribu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id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133720" y="5043600"/>
              <a:ext cx="4495680" cy="6094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Sistema operativo distribuid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286000" y="5805360"/>
              <a:ext cx="1143000" cy="3812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Kern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809880" y="5805360"/>
              <a:ext cx="1143000" cy="3812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Kern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410080" y="5805360"/>
              <a:ext cx="1143000" cy="3812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Kern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209680" y="6567480"/>
              <a:ext cx="4343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819520" y="626256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419720" y="626256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019920" y="626256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555600" y="633888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R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218680" y="3917880"/>
              <a:ext cx="1333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áquina 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681000" y="3900600"/>
              <a:ext cx="1335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áquina 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361120" y="3900600"/>
              <a:ext cx="133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áquina 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Sistemas Operativos Distribuid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istemas de Memoria Compartida Distribuid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Múltiples procesadores, cada uno con su memori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Memoria compartida virtual sobre multicomputador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Problema de </a:t>
            </a: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false sharing</a:t>
            </a:r>
            <a:r>
              <a:rPr b="0" i="1" lang="es-ES_tradnl" sz="2000" spc="-1" strike="noStrike">
                <a:solidFill>
                  <a:srgbClr val="000000"/>
                </a:solidFill>
                <a:latin typeface="Verdana"/>
              </a:rPr>
              <a:t> (memoria de dos procesos en la misma p</a:t>
            </a:r>
            <a:r>
              <a:rPr b="0" i="1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ágina</a:t>
            </a:r>
            <a:r>
              <a:rPr b="0" i="1" lang="es-ES_tradnl" sz="20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1828800" y="3841920"/>
            <a:ext cx="6683400" cy="2406600"/>
            <a:chOff x="1828800" y="3841920"/>
            <a:chExt cx="6683400" cy="2406600"/>
          </a:xfrm>
        </p:grpSpPr>
        <p:sp>
          <p:nvSpPr>
            <p:cNvPr id="279" name=""/>
            <p:cNvSpPr/>
            <p:nvPr/>
          </p:nvSpPr>
          <p:spPr>
            <a:xfrm>
              <a:off x="3189960" y="3841920"/>
              <a:ext cx="261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emoria virtual glob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0" name=""/>
            <p:cNvGrpSpPr/>
            <p:nvPr/>
          </p:nvGrpSpPr>
          <p:grpSpPr>
            <a:xfrm>
              <a:off x="1828800" y="4876920"/>
              <a:ext cx="1218960" cy="1068120"/>
              <a:chOff x="1828800" y="4876920"/>
              <a:chExt cx="1218960" cy="1068120"/>
            </a:xfrm>
          </p:grpSpPr>
          <p:sp>
            <p:nvSpPr>
              <p:cNvPr id="281" name=""/>
              <p:cNvSpPr/>
              <p:nvPr/>
            </p:nvSpPr>
            <p:spPr>
              <a:xfrm>
                <a:off x="1828800" y="4876920"/>
                <a:ext cx="1218960" cy="1066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828800" y="4876920"/>
                <a:ext cx="1218960" cy="68580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1904760" y="4952880"/>
                <a:ext cx="30420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2285640" y="495288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1904760" y="5257800"/>
                <a:ext cx="30420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9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2666520" y="495288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2046600" y="5576760"/>
                <a:ext cx="822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CPU 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8" name=""/>
            <p:cNvGrpSpPr/>
            <p:nvPr/>
          </p:nvGrpSpPr>
          <p:grpSpPr>
            <a:xfrm>
              <a:off x="3200400" y="4876920"/>
              <a:ext cx="1218960" cy="1068120"/>
              <a:chOff x="3200400" y="4876920"/>
              <a:chExt cx="1218960" cy="1068120"/>
            </a:xfrm>
          </p:grpSpPr>
          <p:sp>
            <p:nvSpPr>
              <p:cNvPr id="289" name=""/>
              <p:cNvSpPr/>
              <p:nvPr/>
            </p:nvSpPr>
            <p:spPr>
              <a:xfrm>
                <a:off x="3200400" y="4876920"/>
                <a:ext cx="1218960" cy="1066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3200400" y="4876920"/>
                <a:ext cx="1218960" cy="68580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3276360" y="4952880"/>
                <a:ext cx="30420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3657240" y="495288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3276360" y="5257800"/>
                <a:ext cx="30420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8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4038120" y="495288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6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3657240" y="525780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3418200" y="5576760"/>
                <a:ext cx="822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CPU 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7" name=""/>
            <p:cNvGrpSpPr/>
            <p:nvPr/>
          </p:nvGrpSpPr>
          <p:grpSpPr>
            <a:xfrm>
              <a:off x="4572000" y="4876920"/>
              <a:ext cx="1218960" cy="1068120"/>
              <a:chOff x="4572000" y="4876920"/>
              <a:chExt cx="1218960" cy="1068120"/>
            </a:xfrm>
          </p:grpSpPr>
          <p:sp>
            <p:nvSpPr>
              <p:cNvPr id="298" name=""/>
              <p:cNvSpPr/>
              <p:nvPr/>
            </p:nvSpPr>
            <p:spPr>
              <a:xfrm>
                <a:off x="4572000" y="4876920"/>
                <a:ext cx="1218960" cy="1066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4572000" y="4876920"/>
                <a:ext cx="1218960" cy="68580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47960" y="495288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5028840" y="495288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7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410080" y="4952880"/>
                <a:ext cx="30420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4647960" y="525780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5028840" y="525780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4789800" y="5576760"/>
                <a:ext cx="822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CPU 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6" name=""/>
            <p:cNvGrpSpPr/>
            <p:nvPr/>
          </p:nvGrpSpPr>
          <p:grpSpPr>
            <a:xfrm>
              <a:off x="5943600" y="4876920"/>
              <a:ext cx="1218960" cy="1068120"/>
              <a:chOff x="5943600" y="4876920"/>
              <a:chExt cx="1218960" cy="1068120"/>
            </a:xfrm>
          </p:grpSpPr>
          <p:sp>
            <p:nvSpPr>
              <p:cNvPr id="307" name=""/>
              <p:cNvSpPr/>
              <p:nvPr/>
            </p:nvSpPr>
            <p:spPr>
              <a:xfrm>
                <a:off x="5943600" y="4876920"/>
                <a:ext cx="1218960" cy="1066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5943600" y="4876920"/>
                <a:ext cx="1218960" cy="68580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6019560" y="4952880"/>
                <a:ext cx="30492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6400800" y="495288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6161760" y="5576760"/>
                <a:ext cx="822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CPU 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2" name=""/>
            <p:cNvGrpSpPr/>
            <p:nvPr/>
          </p:nvGrpSpPr>
          <p:grpSpPr>
            <a:xfrm>
              <a:off x="2057400" y="4191120"/>
              <a:ext cx="4876200" cy="228600"/>
              <a:chOff x="2057400" y="4191120"/>
              <a:chExt cx="4876200" cy="228600"/>
            </a:xfrm>
          </p:grpSpPr>
          <p:sp>
            <p:nvSpPr>
              <p:cNvPr id="313" name=""/>
              <p:cNvSpPr/>
              <p:nvPr/>
            </p:nvSpPr>
            <p:spPr>
              <a:xfrm>
                <a:off x="2057400" y="419112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2361960" y="419112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2666880" y="4191120"/>
                <a:ext cx="30420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2971440" y="419112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3276360" y="419112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4800240" y="419112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9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4495680" y="4191120"/>
                <a:ext cx="30420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8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4190760" y="419112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7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3885840" y="419112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6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3581280" y="4191120"/>
                <a:ext cx="30420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5105160" y="419112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5410080" y="4191120"/>
                <a:ext cx="30420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5714640" y="419112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6019560" y="419112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6324480" y="4191120"/>
                <a:ext cx="30420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6629040" y="419112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9" name=""/>
            <p:cNvSpPr/>
            <p:nvPr/>
          </p:nvSpPr>
          <p:spPr>
            <a:xfrm>
              <a:off x="1904760" y="6248520"/>
              <a:ext cx="5181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438280" y="594360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3809880" y="594360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181480" y="594360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553080" y="594360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 flipH="1">
              <a:off x="2057040" y="4419720"/>
              <a:ext cx="1522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514600" y="4419720"/>
              <a:ext cx="8380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 flipH="1">
              <a:off x="2285640" y="4419720"/>
              <a:ext cx="53316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124080" y="4419720"/>
              <a:ext cx="38088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429000" y="4419720"/>
              <a:ext cx="129528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 flipH="1">
              <a:off x="2590200" y="4419720"/>
              <a:ext cx="114300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 flipH="1">
              <a:off x="3657600" y="4419720"/>
              <a:ext cx="38088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343400" y="4419720"/>
              <a:ext cx="6094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 flipH="1">
              <a:off x="3886200" y="4419720"/>
              <a:ext cx="7617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 flipH="1">
              <a:off x="2971440" y="4419720"/>
              <a:ext cx="198108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>
              <a:off x="4267080" y="4419720"/>
              <a:ext cx="9907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 flipH="1">
              <a:off x="5181480" y="4419720"/>
              <a:ext cx="38088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 flipH="1">
              <a:off x="5333760" y="4419720"/>
              <a:ext cx="5335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72200" y="441972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 flipH="1">
              <a:off x="5562360" y="4419720"/>
              <a:ext cx="91440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 flipH="1">
              <a:off x="6705360" y="4419720"/>
              <a:ext cx="763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315200" y="4876920"/>
              <a:ext cx="75960" cy="609480"/>
            </a:xfrm>
            <a:custGeom>
              <a:avLst/>
              <a:gdLst>
                <a:gd name="textAreaLeft" fmla="*/ 0 w 75960"/>
                <a:gd name="textAreaRight" fmla="*/ 27360 w 75960"/>
                <a:gd name="textAreaTop" fmla="*/ 15840 h 609480"/>
                <a:gd name="textAreaBottom" fmla="*/ 59364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354440" y="4967280"/>
              <a:ext cx="115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emori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False Sharing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353" name="" descr=""/>
          <p:cNvPicPr/>
          <p:nvPr/>
        </p:nvPicPr>
        <p:blipFill>
          <a:blip r:embed="rId1"/>
          <a:srcRect l="21380" t="45166" r="20523" b="40333"/>
          <a:stretch/>
        </p:blipFill>
        <p:spPr>
          <a:xfrm>
            <a:off x="1295280" y="2209680"/>
            <a:ext cx="7305840" cy="35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Sistemas Operativos de Red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Dos o más  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computadores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 conectados por r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omparten los diferentes recursos y la información del sistema mediante la r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Novell Netware, Personal Netware,Windows NT Server, UNIX, etc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2057400" y="3809880"/>
            <a:ext cx="5090400" cy="2820960"/>
            <a:chOff x="2057400" y="3809880"/>
            <a:chExt cx="5090400" cy="2820960"/>
          </a:xfrm>
        </p:grpSpPr>
        <p:sp>
          <p:nvSpPr>
            <p:cNvPr id="357" name=""/>
            <p:cNvSpPr/>
            <p:nvPr/>
          </p:nvSpPr>
          <p:spPr>
            <a:xfrm>
              <a:off x="5257800" y="4205160"/>
              <a:ext cx="1523880" cy="19814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657600" y="4205160"/>
              <a:ext cx="1523880" cy="19814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057400" y="4205160"/>
              <a:ext cx="1523880" cy="19814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133720" y="4281480"/>
              <a:ext cx="4495680" cy="6094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Aplicaciones distribuid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286000" y="5729400"/>
              <a:ext cx="1143000" cy="3808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Kern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809880" y="5729400"/>
              <a:ext cx="1143000" cy="3808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Kern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5410080" y="5729400"/>
              <a:ext cx="1143000" cy="3808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Kern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2209680" y="6491160"/>
              <a:ext cx="4343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2819520" y="618660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419720" y="618660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6019920" y="618660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6555600" y="626256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R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2158560" y="3827520"/>
              <a:ext cx="133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áquina 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620520" y="3809880"/>
              <a:ext cx="1335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áquina 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301000" y="3809880"/>
              <a:ext cx="133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áquina 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2133720" y="5029200"/>
              <a:ext cx="137160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Servicios d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Red del S.O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733920" y="5029200"/>
              <a:ext cx="137160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Servicios d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Red del S.O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5334120" y="5029200"/>
              <a:ext cx="137160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Servicios d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Red del S.O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Ejemplo: Antiguos terminales UNIX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376" name="" descr=""/>
          <p:cNvPicPr/>
          <p:nvPr/>
        </p:nvPicPr>
        <p:blipFill>
          <a:blip r:embed="rId1"/>
          <a:srcRect l="27580" t="47282" r="24347" b="41541"/>
          <a:stretch/>
        </p:blipFill>
        <p:spPr>
          <a:xfrm>
            <a:off x="1066680" y="1981080"/>
            <a:ext cx="776772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Independencia de uso de servici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378" name="" descr=""/>
          <p:cNvPicPr/>
          <p:nvPr/>
        </p:nvPicPr>
        <p:blipFill>
          <a:blip r:embed="rId1"/>
          <a:srcRect l="20951" t="38671" r="20309" b="33535"/>
          <a:stretch/>
        </p:blipFill>
        <p:spPr>
          <a:xfrm>
            <a:off x="1143000" y="1981080"/>
            <a:ext cx="6543720" cy="43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Middle-War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Capa de software que ejecuta sobre el sistema operativo local de cada computador ofreciendo uno servicios distribuido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Abstrae la complejidad y heterogeneidad de los computadores del sistem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Proporciona una API para la programación y manejo de aplicaciones distribuida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2286000" y="3273480"/>
            <a:ext cx="5090400" cy="3662280"/>
            <a:chOff x="2286000" y="3273480"/>
            <a:chExt cx="5090400" cy="3662280"/>
          </a:xfrm>
        </p:grpSpPr>
        <p:sp>
          <p:nvSpPr>
            <p:cNvPr id="382" name=""/>
            <p:cNvSpPr/>
            <p:nvPr/>
          </p:nvSpPr>
          <p:spPr>
            <a:xfrm>
              <a:off x="5486400" y="3657600"/>
              <a:ext cx="1523880" cy="28339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886200" y="3657600"/>
              <a:ext cx="1523880" cy="28339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286000" y="3657600"/>
              <a:ext cx="1523880" cy="28339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362320" y="4586400"/>
              <a:ext cx="4495680" cy="6094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Servicios del Middle-Wa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514600" y="6034320"/>
              <a:ext cx="1143000" cy="3808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Kern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038480" y="6034320"/>
              <a:ext cx="1143000" cy="3808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Kern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5638680" y="6034320"/>
              <a:ext cx="1143000" cy="3808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Kern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2438280" y="6796080"/>
              <a:ext cx="4343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3048120" y="649152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648320" y="649152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248520" y="649152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6784200" y="656748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R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2387160" y="3291120"/>
              <a:ext cx="133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áquina 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3849120" y="3273480"/>
              <a:ext cx="1335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áquina 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5529600" y="3273480"/>
              <a:ext cx="133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áquina 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2362320" y="5334120"/>
              <a:ext cx="137160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Servicios d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Red del S.O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5334120"/>
              <a:ext cx="137160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Servicios d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Red del S.O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5562720" y="5334120"/>
              <a:ext cx="137160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Servicios d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Red del S.O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2362320" y="3810240"/>
              <a:ext cx="4495680" cy="6094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Aplicaciones distribuid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Tabla Comparativ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graphicFrame>
        <p:nvGraphicFramePr>
          <p:cNvPr id="402" name=""/>
          <p:cNvGraphicFramePr/>
          <p:nvPr/>
        </p:nvGraphicFramePr>
        <p:xfrm>
          <a:off x="609480" y="1828800"/>
          <a:ext cx="8229600" cy="4818240"/>
        </p:xfrm>
        <a:graphic>
          <a:graphicData uri="http://schemas.openxmlformats.org/drawingml/2006/table">
            <a:tbl>
              <a:tblPr/>
              <a:tblGrid>
                <a:gridCol w="1828800"/>
                <a:gridCol w="1524240"/>
                <a:gridCol w="1600200"/>
                <a:gridCol w="1447560"/>
                <a:gridCol w="1828800"/>
              </a:tblGrid>
              <a:tr h="4500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t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.O. Distribui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.O. de R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iddle-Wa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ulti-proc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ulti-comp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rado de Transparenc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uy Al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l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aj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l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ismo S.O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</a:t>
                      </a: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</a:t>
                      </a: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pias del S.O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municaci</a:t>
                      </a: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moria comparti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nsaj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rchiv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spec</a:t>
                      </a: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ífico al model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anejo de recurs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lobal, centr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lobal, distribui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r no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r no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scalabilid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ra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ri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sabilid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erra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erra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bier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bier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Organizaciones t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ípica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liente-Servido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2 (o m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ás) capa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rquitecturas Moderna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Aspectos Administrativ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valuaci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, tareas, porcentajes, demas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Cliente-Servidor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406" name="" descr=""/>
          <p:cNvPicPr/>
          <p:nvPr/>
        </p:nvPicPr>
        <p:blipFill>
          <a:blip r:embed="rId1"/>
          <a:srcRect l="32925" t="46828" r="30143" b="40484"/>
          <a:stretch/>
        </p:blipFill>
        <p:spPr>
          <a:xfrm>
            <a:off x="1219320" y="2209680"/>
            <a:ext cx="658152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Multicapa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408" name="" descr=""/>
          <p:cNvPicPr/>
          <p:nvPr/>
        </p:nvPicPr>
        <p:blipFill>
          <a:blip r:embed="rId1"/>
          <a:srcRect l="20309" t="42146" r="18600" b="36707"/>
          <a:stretch/>
        </p:blipFill>
        <p:spPr>
          <a:xfrm>
            <a:off x="762120" y="1981080"/>
            <a:ext cx="8076960" cy="39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Arquitecturas Moderna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410" name="" descr=""/>
          <p:cNvPicPr/>
          <p:nvPr/>
        </p:nvPicPr>
        <p:blipFill>
          <a:blip r:embed="rId1"/>
          <a:srcRect l="26938" t="43052" r="21594" b="37916"/>
          <a:stretch/>
        </p:blipFill>
        <p:spPr>
          <a:xfrm>
            <a:off x="914400" y="2057400"/>
            <a:ext cx="7800840" cy="408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Bibliografí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A.Tanenbaum, M.Van Steen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0" i="1" lang="es-ES_tradnl" sz="2800" spc="-1" strike="noStrike">
                <a:solidFill>
                  <a:srgbClr val="000000"/>
                </a:solidFill>
                <a:latin typeface="Verdana"/>
              </a:rPr>
              <a:t>Distributed Systems, principles and paradigms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. Ed. Prentice Hall, 2002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G.Coulouris, J.Dillmore, T.Kindberg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0" i="1" lang="es-ES_tradnl" sz="2800" spc="-1" strike="noStrike">
                <a:solidFill>
                  <a:srgbClr val="000000"/>
                </a:solidFill>
                <a:latin typeface="Verdana"/>
              </a:rPr>
              <a:t>Distributed Systems - Concept and Design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. Addison-Wesley, Third Edition, 2001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800" spc="-1" strike="noStrike">
                <a:solidFill>
                  <a:srgbClr val="999900"/>
                </a:solidFill>
                <a:latin typeface="Garamond"/>
              </a:rPr>
              <a:t>Introducción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Evolución de los sistema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Desarrollos de microprocesador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1945 a 1980’s. 1 instrucción/seg. US$ 10.000.00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1980’s hasta hoy. 1.000.000.000 instrucciones/seg. Menos de US$1.000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Ganancia precio/rendimiento º 1013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Desarrollo de red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LAN. 10-100 Mbp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WAN. 64 kpbs - 2 Mbp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Facilidad de interconexió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Internet e Intrane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Alto desarrollo del hardware ..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Definicione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Un Sistema Distribuido es una colección de computadores independientes que aparecen ante los usuarios como un único sistema coherente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.” (Andrew S. Tanenbaum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Un sistema en el cual tanto los componentes de hardware y software de un computador conectados en red se comunican y coordinan mediante paso de mensajes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.” (</a:t>
            </a: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G.Coulouris, J.Dollimore, T.Kindberg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Aquel que le impide a uno continuar su trabajo cuando falla un computador del cual uno nunca ha oído hablar.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” (</a:t>
            </a: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L.Lamport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Ejemplos de sistemas distribuid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Red de estaciones de trabajo en una Universida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spacio cuenta es visible desde todos los computado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Workflow de manejo automático de órden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Usado por múltiples usuarios, el flujo de las órdenes es transparente para ell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5T16:38:17Z</dcterms:created>
  <dc:creator>Facultad de Ingenieria</dc:creator>
  <dc:description/>
  <dc:language>en-US</dc:language>
  <cp:lastModifiedBy>Usuario de Office 2004 Test Drive</cp:lastModifiedBy>
  <dcterms:modified xsi:type="dcterms:W3CDTF">2009-01-21T14:47:22Z</dcterms:modified>
  <cp:revision>130</cp:revision>
  <dc:subject/>
  <dc:title>Sistemas Distribuídos</dc:title>
</cp:coreProperties>
</file>