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1.png" ContentType="image/png"/>
  <Override PartName="/ppt/media/image3.pct" ContentType="image/x-pict"/>
  <Override PartName="/ppt/media/image10.png" ContentType="image/png"/>
  <Override PartName="/ppt/media/image5.png" ContentType="image/png"/>
  <Override PartName="/ppt/media/image2.pct" ContentType="image/x-pict"/>
  <Override PartName="/ppt/media/image4.png" ContentType="image/png"/>
  <Override PartName="/ppt/media/image1.pct" ContentType="image/x-pict"/>
  <Override PartName="/ppt/media/image14.png" ContentType="image/png"/>
  <Override PartName="/ppt/media/image27.pct" ContentType="image/x-pi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EC9B-5FD3-40A6-8B0A-D0C46AF01DB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e sabe de antemano que el boot-block es el primero de los bloques, y que el segundo es el superblock que guarda toda la inform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relev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.- Se agrega un nuevo nodo ra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 que es raíz para todos los espacios de nombres (locales, foráne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.- Por ende, todo el sistema ve todos los espacios como prop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.- Por lo tanto, al aumentar el número de espacios, la performance decr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1: La raiz y sus cercanos 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2: Nodos manejados por cada organ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semi-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a 3: Nodos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toma toda la direc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y contacta primero al root name server, quien sólo puede resolver “nl” y le responde con la dirección asociada al name server de “n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l resolver entonces contacta a ese name server y le pregunta por el resto de la dirección, así hasta llegar al servidor ftp, a quien lo contacta con los parámetros ftp:&lt;pub,globe,index.tx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del cliente 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lo contacta al root server, quien se encarga de distribuir la consulta a quien corresponda.  El root server es quien contacta al servidor ftp y quien devuelve el archivo solicitad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minio = sub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rbol del espacio de nom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problema de este esquema es que limita el 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mero de referencias exter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blema: cadenas de referencias =&gt;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probabildiad de alguna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60CB-C773-47DE-ADDA-406DBC82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88F-32B7-42C0-8921-A662DF63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630-82D9-4090-A521-1C62A874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B92A-BE4C-46A7-B847-4CCA69E3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EA9C-9739-44A6-B1C5-562C5176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77D5-935C-458C-819F-33CB06B3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6D18-091A-4EA9-B583-899AA404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6885-5AA0-4857-92F2-6BAD9CC1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9F8E-3166-4A63-AB2A-F2E15969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895F-6ABD-4D23-949A-93B91636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01E5-2D5F-4AFD-9EF4-D78D4499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E8EE-06F7-4E67-B1A8-F56C484E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FDF0-9E2C-453E-BFDE-8410D2CB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D7DF-747B-4851-891A-1417CF2B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20F2-EB59-44C9-9840-D9478028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9014-1DB6-4B71-A89B-A35EB963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183B-D4C4-4FD8-8525-54471FDF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02DE-9FC0-4233-A752-B542FE1F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ABB9-0B63-4F4C-9240-1A08DC76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57D-E380-4B38-9C81-5915B3C7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533F-7CBD-4644-89C3-99C16909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81A-68BE-4F78-92A7-EAD0CE6B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553-A06A-42A0-ACC7-ACE6739E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C976-6E2A-4797-A13C-7439D732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94D9-7E81-48B6-B0F3-F9B854D5D535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78680" y="138240"/>
            <a:ext cx="1015920" cy="13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6B98-E31D-4536-A11D-A620A94669E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413480" y="3030480"/>
            <a:ext cx="1554480" cy="2397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Nam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rvidores de Nomb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Resolu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eneralmente el espacio de nombres es jerárqu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lgunos objetos son contenedores (directorios) de otros obje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Resolució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: proceso iterativo que parte de un contexto ini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absoluta: contexto inicial corresponde con raí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relativa: contexto inicial corresponde con nodo intermed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376360" y="3130560"/>
            <a:ext cx="5867640" cy="1890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laus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resolu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sólo se logrará si sabemos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d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óm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mpezar a buscar” (closure mechanism / clausur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056267681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0200" y="3908520"/>
            <a:ext cx="206280" cy="40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014720" y="4897440"/>
            <a:ext cx="10130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Ali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4347" t="44411" r="21594" b="39275"/>
          <a:stretch/>
        </p:blipFill>
        <p:spPr>
          <a:xfrm>
            <a:off x="755640" y="2549520"/>
            <a:ext cx="8035920" cy="343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ink simb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lazar y montar servic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2640" y="191736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montar un espacio de nombr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eo en un sistema distribuido se necesit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protoco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servid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 referencia (punto de montaj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 1: N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1165" t="39426" r="19455" b="33535"/>
          <a:stretch/>
        </p:blipFill>
        <p:spPr>
          <a:xfrm>
            <a:off x="728640" y="1974960"/>
            <a:ext cx="75009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2: Global Name Service (GN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8863" t="41843" r="27152" b="36103"/>
          <a:stretch/>
        </p:blipFill>
        <p:spPr>
          <a:xfrm>
            <a:off x="1135080" y="1704960"/>
            <a:ext cx="66898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9883" t="37161" r="16461" b="32025"/>
          <a:stretch/>
        </p:blipFill>
        <p:spPr>
          <a:xfrm>
            <a:off x="663480" y="1601640"/>
            <a:ext cx="7115400" cy="4875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 DNS en 3 capas (Cheriton et Mann, 1989)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5277960"/>
            <a:ext cx="8609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a comparativa de espacio de nombres dividido 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 capa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lobal, administrational y managerial lay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77920" y="1625760"/>
          <a:ext cx="8547120" cy="2963880"/>
        </p:xfrm>
        <a:graphic>
          <a:graphicData uri="http://schemas.openxmlformats.org/drawingml/2006/table">
            <a:tbl>
              <a:tblPr/>
              <a:tblGrid>
                <a:gridCol w="3670560"/>
                <a:gridCol w="1434960"/>
                <a:gridCol w="1932120"/>
                <a:gridCol w="1509480"/>
              </a:tblGrid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ala geog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fica de la 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w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total de no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siados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uesta a consul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ag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actualiz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de répl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é en client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e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mplement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soluci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umiendo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servidores de nombre no son repl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se usa el cach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o cliente tiene acceso a un 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lver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nombres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eremos la resolu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iterativa y recursiva para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tp://ftp.cs.vu.nl/pub/globe/index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terat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4347" t="42598" r="21380" b="36404"/>
          <a:stretch/>
        </p:blipFill>
        <p:spPr>
          <a:xfrm>
            <a:off x="380880" y="1511280"/>
            <a:ext cx="85298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ntroduc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servicio de nombres general para todo el sistema distribu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archivos (servicio de directo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servicios (HTTP/FTP/RPC/RM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4347" t="43505" r="21594" b="37916"/>
          <a:stretch/>
        </p:blipFill>
        <p:spPr>
          <a:xfrm>
            <a:off x="498600" y="1916280"/>
            <a:ext cx="79581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stos: Iterativa v/s 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0951" t="44411" r="18386" b="38972"/>
          <a:stretch/>
        </p:blipFill>
        <p:spPr>
          <a:xfrm>
            <a:off x="533520" y="2297160"/>
            <a:ext cx="81057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jemplo: Espacio de Nombres de DNS, principales registr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2000" y="1644480"/>
          <a:ext cx="8805960" cy="4692960"/>
        </p:xfrm>
        <a:graphic>
          <a:graphicData uri="http://schemas.openxmlformats.org/drawingml/2006/table">
            <a:tbl>
              <a:tblPr/>
              <a:tblGrid>
                <a:gridCol w="1136520"/>
                <a:gridCol w="1400400"/>
                <a:gridCol w="6269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 asoci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la zona representada, su administrador, el host donde se encuentra la raíz de esa zona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la IP del nodo a quien representa, en caso de 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ltiples IP, se utilizarán múltiples registro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ia al mailserver del dominio (quien procesa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 todo el correo para un dominio determinado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l servidor para un servicio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o (ejemplo: W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nombre del NameServer que implementa una zona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onical Na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Nombre primario de un no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el nombre primario de un host para consultas por IP. Por ejemplo: gauss.udp.cl es 200.14.84.188, por lo tanto PTR s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a 188.84.14.200.in-addr.ar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l 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k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 la entidad representada por el no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: DNS para udp.c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 dig udp.cl +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AUTHORITY SEC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SOA     mbulnes.udp.cl. root.mbulnes.cce.udp.cl. 2007103157 3600 120 604800 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global options:  printc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EC3.APNIC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LAVE.STH.NETNOD.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-EXT.ISC.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A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CL1.DNSNODE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3.NIC.F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04 bytes from 192.36.148.17#53(i.root-servers.net) in 216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mbulnes.udp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secundario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107 bytes from 202.12.28.140#53(SEC3.APNIC.NET) in 285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bulnes.udp.cl.         3600    IN      A       200.14.86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8 bytes from 200.14.86.4#53(mbulnes.udp.cl) in 1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aming v/s Entidades de Local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067360"/>
            <a:ext cx="8253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, 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irecta entre nombres y dir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indirecta, a través de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9669" t="45620" r="17744" b="39578"/>
          <a:stretch/>
        </p:blipFill>
        <p:spPr>
          <a:xfrm>
            <a:off x="528480" y="1562040"/>
            <a:ext cx="8120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C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mo localiza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oadcasting (como el protocolo AR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irec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re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-based (primera comunicación siempre hacia la misma dirección), usado en telefonía celular (por ejempl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quema jerárqu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828960"/>
            <a:ext cx="777240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forwarding pointers using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xy, skelet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pai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28649" t="43354" r="24347" b="37765"/>
          <a:stretch/>
        </p:blipFill>
        <p:spPr>
          <a:xfrm>
            <a:off x="439560" y="1533600"/>
            <a:ext cx="8377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con actualiz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4040" y="5349600"/>
            <a:ext cx="5865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proxy actualiza su referencia hacia el skeleton cuand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te le informa de su nueva direc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9883" t="45015" r="16890" b="38972"/>
          <a:stretch/>
        </p:blipFill>
        <p:spPr>
          <a:xfrm>
            <a:off x="466560" y="2112840"/>
            <a:ext cx="8677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-Bas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328104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Mobile 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20739" t="39578" r="17744" b="34442"/>
          <a:stretch/>
        </p:blipFill>
        <p:spPr>
          <a:xfrm>
            <a:off x="523800" y="1668600"/>
            <a:ext cx="76104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squema jer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rquic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5057640"/>
            <a:ext cx="658476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jerárquica del servicio de localización en dominios, cada dominio posee su propio nodo de directo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hain of forwarding pointers to the leaf node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1080" y="324180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1594" t="43656" r="21380" b="37916"/>
          <a:stretch/>
        </p:blipFill>
        <p:spPr>
          <a:xfrm>
            <a:off x="1014480" y="1428840"/>
            <a:ext cx="8029440" cy="3671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V="1">
            <a:off x="1270080" y="1711440"/>
            <a:ext cx="0" cy="2636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200" y="270972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s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nceptos B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sic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Referencias a objetos o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operar una entidad, se necesita un punto de acceso, conocido por su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direc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entidad puede tener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un punto de acceso, o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carlo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otras palabras: una direcció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 ser modificad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20951" t="39578" r="18172" b="33686"/>
          <a:stretch/>
        </p:blipFill>
        <p:spPr>
          <a:xfrm>
            <a:off x="703440" y="1590840"/>
            <a:ext cx="7650000" cy="4687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¿Problemas? Esca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 problema de los objetos no referenciados (basur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27580" t="42297" r="24347" b="36103"/>
          <a:stretch/>
        </p:blipFill>
        <p:spPr>
          <a:xfrm>
            <a:off x="893880" y="1986120"/>
            <a:ext cx="73436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1360" y="5059440"/>
            <a:ext cx="813276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 mantener el contador de referencias si el canal de comunicación no es fia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6912" t="46376" r="23945" b="40333"/>
          <a:stretch/>
        </p:blipFill>
        <p:spPr>
          <a:xfrm>
            <a:off x="385920" y="1600200"/>
            <a:ext cx="8758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9480" y="4807080"/>
            <a:ext cx="777384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r la referencia a otro proceso con problemas de la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ant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9243" t="45015" r="17318" b="39275"/>
          <a:stretch/>
        </p:blipFill>
        <p:spPr>
          <a:xfrm>
            <a:off x="237960" y="1600200"/>
            <a:ext cx="8677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44680" y="4894200"/>
            <a:ext cx="8308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cialmente el peso de las referencias es igua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nueva referencia posee un peso parcial, del cual pueden depender nuevas refer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0951" t="38369" r="17532" b="50001"/>
          <a:stretch/>
        </p:blipFill>
        <p:spPr>
          <a:xfrm>
            <a:off x="114480" y="1657440"/>
            <a:ext cx="88675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8680" y="5316480"/>
            <a:ext cx="82472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ign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peso al copiar una ref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7366" t="50151" r="24347" b="32477"/>
          <a:stretch/>
        </p:blipFill>
        <p:spPr>
          <a:xfrm>
            <a:off x="1073160" y="1619280"/>
            <a:ext cx="72579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denas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9680" y="5275080"/>
            <a:ext cx="89139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de limite de referencias: El Proceso P1 pasa a ser un proxy d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7792" t="45015" r="24347" b="39426"/>
          <a:stretch/>
        </p:blipFill>
        <p:spPr>
          <a:xfrm>
            <a:off x="268200" y="1461960"/>
            <a:ext cx="8529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ador de cop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17160" y="5270400"/>
            <a:ext cx="84106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roceso lleva un contador de copias G[ ] de la referencia, y la gener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“i” a la que pertenece. Cuando G[i]=0 la entidad se puede borrar y debe comunicarle a la generación anterior el bor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29289" t="46073" r="26938" b="40030"/>
          <a:stretch/>
        </p:blipFill>
        <p:spPr>
          <a:xfrm>
            <a:off x="652320" y="1542960"/>
            <a:ext cx="7801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Pero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dos los esquemas anteriores asumen que cada entidad se va a borrar (eliminar) por si mis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 detecta ciclos de basura (entidades inalcanzables desde la r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quema alternativo: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mark &amp; sw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je inicial de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20711" t="24470" r="19883" b="56345"/>
          <a:stretch/>
        </p:blipFill>
        <p:spPr>
          <a:xfrm>
            <a:off x="230040" y="2138400"/>
            <a:ext cx="8301240" cy="3794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577600" y="393228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3680" y="2286000"/>
            <a:ext cx="3992400" cy="3882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1920" y="173340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uman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7720" y="175896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-so-human-friendly (direc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2230560"/>
            <a:ext cx="41878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skeletons hacia prox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25936" t="43356" r="15708" b="37588"/>
          <a:stretch/>
        </p:blipFill>
        <p:spPr>
          <a:xfrm>
            <a:off x="542880" y="2297160"/>
            <a:ext cx="7953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proxies hacia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8223" t="61935" r="20523" b="19034"/>
          <a:stretch/>
        </p:blipFill>
        <p:spPr>
          <a:xfrm>
            <a:off x="4680" y="1773360"/>
            <a:ext cx="9134640" cy="4800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815280" y="26384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9840" y="26938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09360" y="3565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3 (de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6800" y="4071960"/>
            <a:ext cx="4803840" cy="20858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92760" y="4127400"/>
            <a:ext cx="13190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dirección = entida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87480" y="1825560"/>
            <a:ext cx="68166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dentific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especial de nombre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refiere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a un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da entidad es referenciada por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un identific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identificador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mpr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 refiere a la mism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 de no-identificadores: “Juan Pérez”, 005626768137, 172.16.40.4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Servi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Espacio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Conjunto de nombres reconocidos por un servicio de nomb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Resolu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nvencional: a partir del nombre se obtienen atributos, ejemplo: p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inas blan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atributos: A partir de 1 o más atributos se obtiene el resto, ejemplo: páginas amari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ervicio de directori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basado en atributos (nombre es 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o un atribu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mente representado por un grafo dirigido con dos tipos de nodo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(quien guarda la información de etiqueta/hijos) 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jas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a entida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2448" t="44865" r="20097" b="39879"/>
          <a:stretch/>
        </p:blipFill>
        <p:spPr>
          <a:xfrm>
            <a:off x="1392120" y="3305160"/>
            <a:ext cx="6970680" cy="261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7920" y="2214720"/>
            <a:ext cx="295200" cy="306360"/>
          </a:xfrm>
          <a:prstGeom prst="rect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7360" y="2571840"/>
            <a:ext cx="308160" cy="272880"/>
          </a:xfrm>
          <a:prstGeom prst="ellipse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00640" y="321948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de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125800" y="4398840"/>
            <a:ext cx="5867280" cy="1890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un sistema de archivos UNIX en los bloques contiguos de un dis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ot-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bloque especial de datos e instrucciones que se carga al iniciar el siste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contiene información de todo el sistema de archivos (tamaño, bloques desocupados, etc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-nod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Almacena la información de la asociación archivo-blo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1T14:09:20Z</dcterms:created>
  <dc:creator>Steve  Armstrong</dc:creator>
  <dc:description/>
  <dc:language>en-US</dc:language>
  <cp:lastModifiedBy>Usuario de Office 2004 Test Drive</cp:lastModifiedBy>
  <dcterms:modified xsi:type="dcterms:W3CDTF">2009-01-21T13:34:48Z</dcterms:modified>
  <cp:revision>37</cp:revision>
  <dc:subject/>
  <dc:title>Naming</dc:title>
</cp:coreProperties>
</file>