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1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4.png" ContentType="image/png"/>
  <Override PartName="/ppt/media/image1.pct" ContentType="image/x-pict"/>
  <Override PartName="/ppt/media/image14.png" ContentType="image/png"/>
  <Override PartName="/ppt/media/image27.pct" ContentType="image/x-pi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3FB9-B637-4CBA-A098-30F66549364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sabe de antemano que el boot-block es el primero de los bloques, y que el segundo es el superblock que guarda toda la inform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- Se agrega un nuevo nodo r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 que es raíz para todos los espacios de nombres (locales, foráne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- Por ende, todo el sistema ve todos los espacios como prop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.- Por lo tanto, al aumentar el número de espacios, la performance decr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1: La raiz y sus cercanos 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2: Nodos manejados por cada organ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semi-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 3: Nodos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toma toda la direc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y contacta primero al root name server, quien sólo puede resolver “nl” y le responde con la dirección asociada al name server de “n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 resolver entonces contacta a ese name server y le pregunta por el resto de la dirección, así hasta llegar al servidor ftp, a quien lo contacta con los parámetros ftp:&lt;pub,globe,index.tx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del cliente 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lo contacta al root server, quien se encarga de distribuir la consulta a quien corresponda.  El root server es quien contacta al servidor ftp y quien devuelve el archivo solicitad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minio = sub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rbol del espacio de nom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blema de este esquema es que limita el 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mero de referencias exte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: cadenas de referencias =&gt;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probabildiad de algun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E79-89AA-4B8A-BB66-1524A1E2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FA5-3053-479C-9402-B7EE1E03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AD8-47F1-4F4B-B069-8CD4DBB0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1089-88A3-4431-858E-7E991641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7E38-9D32-485E-952E-755D6238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F241-FDDF-4674-9CCB-BE0BF2A4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AA57-BD4B-43DC-BB56-D3BCE481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3006-20CD-490D-9BE1-0313D4BC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8C0E-00B4-49C4-82FB-F2265A6E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0BB8-8C1D-4F2B-BAB4-FBB4A9CC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52C0-6842-44E6-9E66-04B403F9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2F5-2010-4C46-A503-474A201F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697E-4E22-41CB-954B-A9DDB504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C1D2-9D92-45D5-B116-AB0CBE47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C7ED-C2DA-4F15-B80A-8EB5BB38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6C74-70C6-40B2-9DD4-4938D177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FF0C-7116-4FD4-BA73-C07155A6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AA5-B442-46AB-844B-3B2E2985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2464-E4C0-4C9A-9A10-D8BE5CB0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091-254B-47E1-879F-C3B1711F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317-789D-40A7-A4EB-C9F2341B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ED3-B6D6-4429-847B-0A5AECC9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5B20-F0DF-4B81-A867-6BBA884B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673-84ED-48F9-8362-926C875C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7A8E-A62F-496C-A895-CA9BB136D388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78680" y="138240"/>
            <a:ext cx="101592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66C0-2CDA-4471-AA44-A6EFB9B79D6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3480" y="3030480"/>
            <a:ext cx="1554480" cy="239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am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rvidores de No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olu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neralmente el espacio de nombres es jerárqu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gunos objetos son contenedores (directorios) de otros obj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Resolu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proceso iterativo que parte de un context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absoluta: contexto inicial corresponde con raí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relativa: contexto inicial corresponde con nodo interme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376360" y="3130560"/>
            <a:ext cx="586764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laus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resolu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sólo se logrará si sabemos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óm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pezar a buscar” (closure mechanism / clausur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5626768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908520"/>
            <a:ext cx="206280" cy="40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14720" y="4897440"/>
            <a:ext cx="1013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Ali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347" t="44411" r="21594" b="39275"/>
          <a:stretch/>
        </p:blipFill>
        <p:spPr>
          <a:xfrm>
            <a:off x="755640" y="2549520"/>
            <a:ext cx="803592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nk simb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lazar y montar serv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2640" y="1917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montar un espacio de nombr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eo en un sistema distribuido se necesi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protoc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servid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 referencia (punto de monta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1: N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1165" t="39426" r="19455" b="33535"/>
          <a:stretch/>
        </p:blipFill>
        <p:spPr>
          <a:xfrm>
            <a:off x="728640" y="1974960"/>
            <a:ext cx="7500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2: Global Name Service (GN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8863" t="41843" r="27152" b="36103"/>
          <a:stretch/>
        </p:blipFill>
        <p:spPr>
          <a:xfrm>
            <a:off x="1135080" y="1704960"/>
            <a:ext cx="6689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9883" t="37161" r="16461" b="32025"/>
          <a:stretch/>
        </p:blipFill>
        <p:spPr>
          <a:xfrm>
            <a:off x="663480" y="1601640"/>
            <a:ext cx="7115400" cy="4875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 DNS en 3 capas (Cheriton et Mann, 1989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5277960"/>
            <a:ext cx="8609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a comparativa de espacio de nombres dividido 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cap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, administrational y managerial l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920" y="1625760"/>
          <a:ext cx="8547120" cy="2963880"/>
        </p:xfrm>
        <a:graphic>
          <a:graphicData uri="http://schemas.openxmlformats.org/drawingml/2006/table">
            <a:tbl>
              <a:tblPr/>
              <a:tblGrid>
                <a:gridCol w="3670560"/>
                <a:gridCol w="1434960"/>
                <a:gridCol w="1932120"/>
                <a:gridCol w="15094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 geog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fica de la 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total de n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siado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 a consu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actual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de répl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 en clien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mplement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soluci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umiendo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servidores de nombre no son repl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se usa el cach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 cliente tiene acceso a un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lve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nombres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eremos la resolu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iterativa y recursiva par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tp://ftp.cs.vu.nl/pub/globe/index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4347" t="42598" r="21380" b="36404"/>
          <a:stretch/>
        </p:blipFill>
        <p:spPr>
          <a:xfrm>
            <a:off x="380880" y="1511280"/>
            <a:ext cx="852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ntroduc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servicio de nombres general para todo el sistema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archivos (servicio de directo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servicios (HTTP/FTP/RPC/R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347" t="43505" r="21594" b="37916"/>
          <a:stretch/>
        </p:blipFill>
        <p:spPr>
          <a:xfrm>
            <a:off x="498600" y="1916280"/>
            <a:ext cx="795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stos: Iterativa v/s 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951" t="44411" r="18386" b="38972"/>
          <a:stretch/>
        </p:blipFill>
        <p:spPr>
          <a:xfrm>
            <a:off x="533520" y="2297160"/>
            <a:ext cx="810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jemplo: Espacio de Nombres de DNS, principales regist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000" y="1644480"/>
          <a:ext cx="8805960" cy="4692960"/>
        </p:xfrm>
        <a:graphic>
          <a:graphicData uri="http://schemas.openxmlformats.org/drawingml/2006/table">
            <a:tbl>
              <a:tblPr/>
              <a:tblGrid>
                <a:gridCol w="1136520"/>
                <a:gridCol w="1400400"/>
                <a:gridCol w="6269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 a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la zona representada, su administrador, el host donde se encuentra la raíz de esa zon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la IP del nodo a quien representa, en caso de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ltiples IP, se utilizarán múltiples registr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ia al mailserver del dominio (quien procesa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 todo el correo para un dominio determinado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servidor para un servicio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o (ejemplo: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ombre del NameServer que implementa una zona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nical Na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ombre primario de un no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el nombre primario de un host para consultas por IP. Por ejemplo: gauss.udp.cl es 200.14.84.188, por lo tanto PTR s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a 188.84.14.200.in-addr.a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l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k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 la entidad representada por el no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: DNS para udp.c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dig udp.cl +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AUTHORITY S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SOA     mbulnes.udp.cl. root.mbulnes.cce.udp.cl. 2007103157 3600 120 604800 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global options:  print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EC3.APNIC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LAVE.STH.NETNOD.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-EXT.ISC.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A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CL1.DNSNODE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3.NIC.F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04 bytes from 192.36.148.17#53(i.root-servers.net) in 2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mbulnes.udp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secundario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107 bytes from 202.12.28.140#53(SEC3.APNIC.NET) in 28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bulnes.udp.cl.         3600    IN      A       200.14.8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8 bytes from 200.14.86.4#53(mbulnes.udp.cl) in 1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ing v/s Entidades de Local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06736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, 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irecta entre nombres y dir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indirecta, a través de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9669" t="45620" r="17744" b="39578"/>
          <a:stretch/>
        </p:blipFill>
        <p:spPr>
          <a:xfrm>
            <a:off x="528480" y="1562040"/>
            <a:ext cx="8120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C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mo localiza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oadcasting (como el protocolo A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irec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re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-based (primera comunicación siempre hacia la misma dirección), usado en telefonía celular (por ejempl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quema jerárqu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828960"/>
            <a:ext cx="77724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forwarding pointers using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xy, skelet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8649" t="43354" r="24347" b="37765"/>
          <a:stretch/>
        </p:blipFill>
        <p:spPr>
          <a:xfrm>
            <a:off x="439560" y="1533600"/>
            <a:ext cx="837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con actualiz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4040" y="5349600"/>
            <a:ext cx="586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proxy actualiza su referencia hacia el skeleton cuand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te le informa de su nueva direc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9883" t="45015" r="16890" b="38972"/>
          <a:stretch/>
        </p:blipFill>
        <p:spPr>
          <a:xfrm>
            <a:off x="466560" y="2112840"/>
            <a:ext cx="8677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-Ba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81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Mobile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0739" t="39578" r="17744" b="34442"/>
          <a:stretch/>
        </p:blipFill>
        <p:spPr>
          <a:xfrm>
            <a:off x="523800" y="1668600"/>
            <a:ext cx="7610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squema jer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rquic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5057640"/>
            <a:ext cx="65847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jerárquica del servicio de localización en dominios, cada dominio posee su propio nodo de directo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in of forwarding pointers to the leaf node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2418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594" t="43656" r="21380" b="37916"/>
          <a:stretch/>
        </p:blipFill>
        <p:spPr>
          <a:xfrm>
            <a:off x="1014480" y="1428840"/>
            <a:ext cx="8029440" cy="3671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1270080" y="1711440"/>
            <a:ext cx="0" cy="263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27097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ceptos B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s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Referencias a objetos o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operar una entidad, se necesita un punto de acceso, conocido por su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irec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entidad puede tener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un punto de acceso, o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r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otras palabras: una direc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modificad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0951" t="39578" r="18172" b="33686"/>
          <a:stretch/>
        </p:blipFill>
        <p:spPr>
          <a:xfrm>
            <a:off x="703440" y="1590840"/>
            <a:ext cx="7650000" cy="4687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Problemas? Esc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problema de los objetos no referenciados (basu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580" t="42297" r="24347" b="36103"/>
          <a:stretch/>
        </p:blipFill>
        <p:spPr>
          <a:xfrm>
            <a:off x="893880" y="1986120"/>
            <a:ext cx="73436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360" y="5059440"/>
            <a:ext cx="81327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mantener el contador de referencias si el canal de comunicación no es f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12" t="46376" r="23945" b="40333"/>
          <a:stretch/>
        </p:blipFill>
        <p:spPr>
          <a:xfrm>
            <a:off x="385920" y="1600200"/>
            <a:ext cx="8758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9480" y="4807080"/>
            <a:ext cx="77738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r la referencia a otro proceso con problemas de la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9243" t="45015" r="17318" b="39275"/>
          <a:stretch/>
        </p:blipFill>
        <p:spPr>
          <a:xfrm>
            <a:off x="237960" y="1600200"/>
            <a:ext cx="8677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4680" y="4894200"/>
            <a:ext cx="8308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cialmente el peso de las referencias es igua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ueva referencia posee un peso parcial, del cual pueden depender nuevas refer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951" t="38369" r="17532" b="50001"/>
          <a:stretch/>
        </p:blipFill>
        <p:spPr>
          <a:xfrm>
            <a:off x="114480" y="1657440"/>
            <a:ext cx="8867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8680" y="5316480"/>
            <a:ext cx="82472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peso al copiar una re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66" t="50151" r="24347" b="32477"/>
          <a:stretch/>
        </p:blipFill>
        <p:spPr>
          <a:xfrm>
            <a:off x="1073160" y="1619280"/>
            <a:ext cx="7257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denas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9680" y="5275080"/>
            <a:ext cx="8913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de limite de referencias: El Proceso P1 pasa a ser un proxy d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792" t="45015" r="24347" b="39426"/>
          <a:stretch/>
        </p:blipFill>
        <p:spPr>
          <a:xfrm>
            <a:off x="268200" y="1461960"/>
            <a:ext cx="852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ador de cop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7160" y="5270400"/>
            <a:ext cx="8410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roceso lleva un contador de copias G[ ] de la referencia, y la gener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“i” a la que pertenece. Cuando G[i]=0 la entidad se puede borrar y debe comunicarle a la generación anterior el bor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9289" t="46073" r="26938" b="40030"/>
          <a:stretch/>
        </p:blipFill>
        <p:spPr>
          <a:xfrm>
            <a:off x="652320" y="1542960"/>
            <a:ext cx="7801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Pero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dos los esquemas anteriores asumen que cada entidad se va a borrar (eliminar) por si mi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 detecta ciclos de basura (entidades inalcanzables desde la 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quema alternativo: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mark &amp; sw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je inicial de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11" t="24470" r="19883" b="56345"/>
          <a:stretch/>
        </p:blipFill>
        <p:spPr>
          <a:xfrm>
            <a:off x="230040" y="2138400"/>
            <a:ext cx="8301240" cy="3794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77600" y="39322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3680" y="2286000"/>
            <a:ext cx="3992400" cy="388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1920" y="17334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man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7720" y="175896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-so-human-friendly (dire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2230560"/>
            <a:ext cx="41878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skeletons hacia prox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5936" t="43356" r="15708" b="37588"/>
          <a:stretch/>
        </p:blipFill>
        <p:spPr>
          <a:xfrm>
            <a:off x="542880" y="2297160"/>
            <a:ext cx="7953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proxies hacia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8223" t="61935" r="20523" b="19034"/>
          <a:stretch/>
        </p:blipFill>
        <p:spPr>
          <a:xfrm>
            <a:off x="4680" y="1773360"/>
            <a:ext cx="913464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15280" y="26384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9840" y="26938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09360" y="3565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3 (de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6800" y="4071960"/>
            <a:ext cx="4803840" cy="20858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92760" y="4127400"/>
            <a:ext cx="1319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dirección = entida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7480" y="1825560"/>
            <a:ext cx="68166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dentific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especial de nombre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a un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da entidad es referenciada por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un identific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identificado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mpr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 refiere a la mism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 de no-identificadores: “Juan Pérez”, 005626768137, 172.16.40.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Servi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pacio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Conjunto de nombres reconocidos por un servicio de nomb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solu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vencional: a partir del nombre se obtienen atributos, ejemplo: p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s blan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atributos: A partir de 1 o más atributos se obtiene el resto, ejemplo: páginas amari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rvicio de directori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basado en atributos (nombre es 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un atribu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mente representado por un grafo dirigido con dos tipos de nodo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(quien guarda la información de etiqueta/hijos) 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jas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a entid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2448" t="44865" r="20097" b="39879"/>
          <a:stretch/>
        </p:blipFill>
        <p:spPr>
          <a:xfrm>
            <a:off x="1392120" y="3305160"/>
            <a:ext cx="6970680" cy="26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7920" y="2214720"/>
            <a:ext cx="295200" cy="306360"/>
          </a:xfrm>
          <a:prstGeom prst="rect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7360" y="2571840"/>
            <a:ext cx="308160" cy="272880"/>
          </a:xfrm>
          <a:prstGeom prst="ellipse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0640" y="3219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de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125800" y="4398840"/>
            <a:ext cx="5867280" cy="189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un sistema de archivos UNIX en los bloques contiguos de un dis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t-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loque especial de datos e instrucciones que se carga al iniciar el sis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tiene información de todo el sistema de archivos (tamaño, bloques desocupados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-nod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lmacena la información de la asociación archivo-blo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14:09:20Z</dcterms:created>
  <dc:creator>Steve  Armstrong</dc:creator>
  <dc:description/>
  <dc:language>en-US</dc:language>
  <cp:lastModifiedBy>Usuario de Office 2004 Test Drive</cp:lastModifiedBy>
  <dcterms:modified xsi:type="dcterms:W3CDTF">2009-01-21T13:34:48Z</dcterms:modified>
  <cp:revision>37</cp:revision>
  <dc:subject/>
  <dc:title>Naming</dc:title>
</cp:coreProperties>
</file>