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8.wmf" ContentType="image/x-wmf"/>
  <Override PartName="/ppt/media/image60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6.jpeg" ContentType="image/jpeg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5.wmf" ContentType="image/x-wmf"/>
  <Override PartName="/ppt/media/image26.wmf" ContentType="image/x-wmf"/>
  <Override PartName="/ppt/media/image62.wmf" ContentType="image/x-wmf"/>
  <Override PartName="/ppt/media/image66.wmf" ContentType="image/x-wmf"/>
  <Override PartName="/ppt/media/image29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3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image" Target="../media/image5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09880" y="2587680"/>
            <a:ext cx="7005240" cy="1556280"/>
          </a:xfrm>
          <a:prstGeom prst="rect">
            <a:avLst/>
          </a:prstGeom>
          <a:noFill/>
          <a:ln w="0">
            <a:noFill/>
          </a:ln>
          <a:effectLst>
            <a:outerShdw dist="144798" dir="2068319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00"/>
                </a:solidFill>
                <a:latin typeface="Arial Black"/>
              </a:rPr>
              <a:t>ANALISIS FINANCIE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00"/>
                </a:solidFill>
                <a:latin typeface="Arial Black"/>
              </a:rPr>
              <a:t>ESTRATEG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1268280"/>
            <a:ext cx="8281800" cy="5473800"/>
          </a:xfrm>
          <a:prstGeom prst="rect">
            <a:avLst/>
          </a:prstGeom>
          <a:solidFill>
            <a:srgbClr val="000080">
              <a:alpha val="5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98560" y="1341360"/>
            <a:ext cx="7273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HABILIDAD DE LA EMPRESA PARA CUBRIR SUS DEUDAS DE CORTO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PLAZO EN SU FECHA DE VEN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ENDEUDAMIENTO O 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CONJUNTO DE MEDICIONES CREDAS PARA REFLEJAR HASTA QUÉ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PUNTO LA EXPANSIÓN DE LA EMPRESA HA SIDO FINANCIADA CON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DEUD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REFLEJAN LA RENTABILIDAD D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MEDICIONES CREADAS PARA JUZGAR LA HABILIDAD DE LA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EMPRESA PARA SERVIR EL PAGO DE INTERESES SOBRE SUS 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OBLIGA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VAL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PERMITEN LA VALORIZACION DE LA EMPRESA EN DIFERENTES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66ff33"/>
                </a:solidFill>
                <a:latin typeface="Arial"/>
              </a:rPr>
              <a:t>FOR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88000" y="3429000"/>
            <a:ext cx="19764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35440" y="1989000"/>
            <a:ext cx="35085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 DE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EST O PRUEBA AC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ONDO DE MANIOBRA O CAPITAL DE TRABAJ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 DE TESOR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ONES; EXISTENCIAS – PROVEEDORES -  CUENTAS POR COBR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ERIODOS PROMEDIO; EXISTENCIAS – PROVEEDORES – CUENTAS POR COBR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MADURACION O CICLO DE CONVERSION DEL EFEC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81360"/>
            <a:ext cx="100800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56000" y="4076640"/>
            <a:ext cx="13856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2205000"/>
            <a:ext cx="7632720" cy="446400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8640" y="15573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2522520"/>
            <a:ext cx="7372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 LIQUIDEZ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  / 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ACIDA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 –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ISPONIBLE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DISPONIBLE  /  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 DE TRABAJ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 -  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 TESORERIA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ESORERIA + VALORES NEGOC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INTERVALO POSICION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CAJA+DEPOSITOS+VAL.NEGOCIABLES+Cx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DEFENSIVA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       COSTO EXPLOTACION + GTOS. ADM. Y V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57720"/>
            <a:ext cx="35053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213000"/>
            <a:ext cx="38102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950080"/>
            <a:ext cx="45352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67400" y="6165720"/>
            <a:ext cx="379224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32000" y="2394000"/>
            <a:ext cx="7632720" cy="3771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58640" y="15573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0760" y="2522520"/>
            <a:ext cx="62247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DE L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      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XISTENCI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 DE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NECESIDAD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CURSOS CORTO PLAZ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             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ALMACENAJE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DEUDORE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ACT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781360"/>
            <a:ext cx="38102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645000"/>
            <a:ext cx="3809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4653000"/>
            <a:ext cx="3809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5516640"/>
            <a:ext cx="3809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7280" y="5445000"/>
            <a:ext cx="2448000" cy="576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205000"/>
            <a:ext cx="7632720" cy="2952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8640" y="15573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492280"/>
            <a:ext cx="7273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TENSIDAD DE CAPITAL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INMOVILIZACIONES + NEC. CAPITA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AMIENTO GLOBAL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NECESIDADES CAPITAL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           NECESIDAD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PROVEEDOR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UENTAS POR PA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SIVO CIRCUL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781360"/>
            <a:ext cx="4248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3573360"/>
            <a:ext cx="4248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4653000"/>
            <a:ext cx="4248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4920" y="5587920"/>
            <a:ext cx="531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CTIVO F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TR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558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5373720"/>
            <a:ext cx="2448000" cy="576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860640"/>
            <a:ext cx="2448000" cy="576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2781360"/>
            <a:ext cx="8569080" cy="720720"/>
          </a:xfrm>
          <a:prstGeom prst="rect">
            <a:avLst/>
          </a:prstGeom>
          <a:gradFill rotWithShape="0">
            <a:gsLst>
              <a:gs pos="0">
                <a:srgbClr val="800000">
                  <a:alpha val="59215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1484280"/>
            <a:ext cx="3816360" cy="504720"/>
          </a:xfrm>
          <a:prstGeom prst="rect">
            <a:avLst/>
          </a:prstGeom>
          <a:solidFill>
            <a:srgbClr val="00008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4160" y="1557360"/>
            <a:ext cx="35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NECESIDAD DE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3320" y="2925720"/>
            <a:ext cx="83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ACTIVO CIRCULANTE – TESORERIA ACTIVA)  -   (PASIVO CIRCULANTE – TESORERIA PASI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213372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2200" y="4003560"/>
            <a:ext cx="7822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ESORERIA ACTIVA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EPOSITOS A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ORES NEGOC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ESORERIA PASIVA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BLIGACIONES FINANCIERAS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VIDENDOS POR PA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551664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1164960" cy="2060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176040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2276640"/>
            <a:ext cx="8424720" cy="3673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034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400" y="2514600"/>
            <a:ext cx="7749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CUENTAS X PAGAR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S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PROVEEDORES)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PAGAR (PROVEED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CUENTAS X COBRAR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VENTAS ANUALES A CRÉDITO (ING.X VT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CLIENTES)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COBRAR (CLIEN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DE EXISTENCI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 DE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INVENTARIO PROMEDIO (CTA. EXISTENCI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ERIODO PROMEDIO COBR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POR COBRAR (CLIENTES) *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VENTAS ANUALES A CRÉDITO (ING.X VT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ROTACIÓN CUENTAS X COBRAR (CLIEN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743200"/>
            <a:ext cx="39625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3429000"/>
            <a:ext cx="39625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038480"/>
            <a:ext cx="4038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648320"/>
            <a:ext cx="4038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334120"/>
            <a:ext cx="40388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840" y="14130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148428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1351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1916280"/>
            <a:ext cx="8642160" cy="482580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840" y="14130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360" y="2251080"/>
            <a:ext cx="8312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ERIODO PROMEDIO DE PAGO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UENTAS X PAGAR  * 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PLAZO PROMEDIO PROVEEDORES)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 DE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ROTACIÓN CUENTAS X PAGAR (PROVEED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LAZO PROMEDIO EXISTENCIAS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ROTACIÓN DE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EXISTENCIAS * 3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OSTO DE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FABRICACIÓN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LAZO PROMEDIO 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MADURACIÓN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LAZO PROMEDIO EXISTENCIAS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PLAZO PROMEDIO CUENTAS POR 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CLO DE CAJA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ICLO DE MADURACIÓN - PLAZO PROMEDIO PRO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2492280"/>
            <a:ext cx="2666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3141720"/>
            <a:ext cx="44960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4005360"/>
            <a:ext cx="3124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4869000"/>
            <a:ext cx="24382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995640" y="121932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47640" y="2276640"/>
            <a:ext cx="7201080" cy="439236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402920" y="17161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LGUNOS PROBLEMAS DE LAS RAZONES DE LIQUIDEZ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CONSIDERAN “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CALIDAD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” DE LOS ACTIVOS CIRCUL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CONSIDERAN LA 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OPORTUNIDAD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EN QUE SE PRODUCEN DENTRO DEL AÑO (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TIMING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), NI LA 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MAGNITUD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DE LOS INGRESOS Y EGRESOS ASOCIADOS A LOS ACTIVOS Y PASIVOS CIRCUL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INFLUENCIA DE ESTACIONALIDADES EN PERÍODOS COR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INCLUYE RECURSOS DISPONIBLES QUE APARECEN EN EL BAL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DIFERENCIAS EN CRITERIOS CONTABLES AFECTAN RAZ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NO CONSIDERA “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PLATAS NEGRAS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ALGUNAS CUENTAS (ESPECIALMENTE EN EL ACTIVO CIRCULANTE) DEBEN SER REVISADAS CON ESPECIAL CUIDADO. SE TRATA DE RAZONES EN ALGUNOS CASOS RELATIVAMENTE FÁCILES DE “</a:t>
            </a:r>
            <a:r>
              <a:rPr b="0" i="1" lang="es-ES_tradnl" sz="1600" spc="-1" strike="noStrike">
                <a:solidFill>
                  <a:srgbClr val="ffff00"/>
                </a:solidFill>
                <a:latin typeface="Arial"/>
              </a:rPr>
              <a:t>MANEJAR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i="1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68360" y="2924280"/>
            <a:ext cx="64764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455840" cy="25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812160" y="14320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492280"/>
          <a:ext cx="8690040" cy="344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492280"/>
                    <a:ext cx="8690040" cy="34448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84600" y="422280"/>
              <a:ext cx="3919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IDEAS PREV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375920" y="1773360"/>
            <a:ext cx="6801120" cy="2105640"/>
          </a:xfrm>
          <a:prstGeom prst="rect">
            <a:avLst/>
          </a:prstGeom>
          <a:noFill/>
          <a:ln w="0">
            <a:noFill/>
          </a:ln>
          <a:effectLst>
            <a:outerShdw dist="172860" dir="2057541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NO ES POSIBLE GESTIO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LO QUE NO SE PUEDE MED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WILLIAM HEWL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59640" y="3500280"/>
            <a:ext cx="222552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811080" y="1432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2728800"/>
          <a:ext cx="8832960" cy="3197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728800"/>
                    <a:ext cx="8832960" cy="31971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9040" y="16286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2924280"/>
          <a:ext cx="8713800" cy="294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24280"/>
                    <a:ext cx="8713800" cy="29494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811080" y="1432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9280" y="2637000"/>
          <a:ext cx="8785440" cy="343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37000"/>
                    <a:ext cx="8785440" cy="3436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811800" y="1432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79280" y="2492280"/>
          <a:ext cx="8856720" cy="3745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492280"/>
                    <a:ext cx="8856720" cy="3745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66880" y="1343160"/>
            <a:ext cx="2133720" cy="2590560"/>
          </a:xfrm>
          <a:prstGeom prst="rect">
            <a:avLst/>
          </a:prstGeom>
          <a:solidFill>
            <a:srgbClr val="80000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343160"/>
            <a:ext cx="2057400" cy="1371600"/>
          </a:xfrm>
          <a:prstGeom prst="rect">
            <a:avLst/>
          </a:prstGeom>
          <a:solidFill>
            <a:srgbClr val="80000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CIRC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734080"/>
            <a:ext cx="2133720" cy="1008000"/>
          </a:xfrm>
          <a:prstGeom prst="rect">
            <a:avLst/>
          </a:prstGeom>
          <a:solidFill>
            <a:srgbClr val="00ff00">
              <a:alpha val="6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218200"/>
            <a:ext cx="2286000" cy="1523880"/>
          </a:xfrm>
          <a:prstGeom prst="rect">
            <a:avLst/>
          </a:prstGeom>
          <a:solidFill>
            <a:srgbClr val="00ff00">
              <a:alpha val="6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68152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29200"/>
            <a:ext cx="2133720" cy="1676160"/>
          </a:xfrm>
          <a:prstGeom prst="rect">
            <a:avLst/>
          </a:prstGeom>
          <a:solidFill>
            <a:srgbClr val="00ff00">
              <a:alpha val="6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31161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Black"/>
              </a:rPr>
              <a:t>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3095640"/>
            <a:ext cx="609480" cy="533520"/>
          </a:xfrm>
          <a:prstGeom prst="leftArrow">
            <a:avLst>
              <a:gd name="adj1" fmla="val 50000"/>
              <a:gd name="adj2" fmla="val 28559"/>
            </a:avLst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440856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Black"/>
              </a:rPr>
              <a:t>FONDO DE MANI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4484520"/>
            <a:ext cx="546120" cy="457200"/>
          </a:xfrm>
          <a:prstGeom prst="rightArrow">
            <a:avLst>
              <a:gd name="adj1" fmla="val 50000"/>
              <a:gd name="adj2" fmla="val 29862"/>
            </a:avLst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2790720"/>
            <a:ext cx="75960" cy="1143000"/>
          </a:xfrm>
          <a:custGeom>
            <a:avLst/>
            <a:gdLst>
              <a:gd name="textAreaLeft" fmla="*/ 0 w 75960"/>
              <a:gd name="textAreaRight" fmla="*/ 5328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408132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14000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676520" y="1268280"/>
            <a:ext cx="6553080" cy="4320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341360"/>
            <a:ext cx="6324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ICLO DE MADURACIÓN O CONVERSION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0" y="297180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819520"/>
            <a:ext cx="7925040" cy="1371600"/>
          </a:xfrm>
          <a:prstGeom prst="rect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3200400"/>
            <a:ext cx="0" cy="29718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0" y="297180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24720" y="457200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O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574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.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1981080"/>
            <a:ext cx="106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.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20574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ACTU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20574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P.P.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BODE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2819520"/>
            <a:ext cx="0" cy="137160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819520"/>
            <a:ext cx="0" cy="137160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19520"/>
            <a:ext cx="0" cy="137160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32000" y="3111480"/>
            <a:ext cx="144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STOCK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M.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2971800"/>
            <a:ext cx="1904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STOCK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P.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28954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STOCK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P. 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28954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CUEN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33"/>
                </a:solidFill>
                <a:latin typeface="Times New Roman"/>
              </a:rPr>
              <a:t>POR COB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581360"/>
            <a:ext cx="91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RED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47721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AGO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2819520"/>
            <a:ext cx="3240" cy="3346200"/>
          </a:xfrm>
          <a:prstGeom prst="line">
            <a:avLst/>
          </a:prstGeom>
          <a:ln w="572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43000" y="6165720"/>
            <a:ext cx="7821720" cy="64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66960" y="6308640"/>
            <a:ext cx="5334120" cy="360360"/>
          </a:xfrm>
          <a:prstGeom prst="rect">
            <a:avLst/>
          </a:prstGeom>
          <a:gradFill rotWithShape="0">
            <a:gsLst>
              <a:gs pos="0">
                <a:srgbClr val="00ff00">
                  <a:alpha val="66274"/>
                </a:srgbClr>
              </a:gs>
              <a:gs pos="100000">
                <a:srgbClr val="000000">
                  <a:alpha val="38039"/>
                </a:srgbClr>
              </a:gs>
            </a:gsLst>
            <a:lin ang="54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ICLO DE MADURACIÓN CAPITAL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5562720"/>
            <a:ext cx="5791320" cy="0"/>
          </a:xfrm>
          <a:prstGeom prst="line">
            <a:avLst/>
          </a:prstGeom>
          <a:ln w="57240">
            <a:solidFill>
              <a:srgbClr val="ff99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715000"/>
            <a:ext cx="5486400" cy="30492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ICL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flipV="1">
            <a:off x="8964720" y="4221000"/>
            <a:ext cx="0" cy="194472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276360" y="5013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604360" y="4869000"/>
            <a:ext cx="288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68360" y="4724280"/>
            <a:ext cx="4895640" cy="43344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95280" y="2421000"/>
            <a:ext cx="374508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IODO PROMEDIO EXIS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13080" y="2421000"/>
            <a:ext cx="4319640" cy="360360"/>
          </a:xfrm>
          <a:prstGeom prst="rect">
            <a:avLst/>
          </a:prstGeom>
          <a:solidFill>
            <a:srgbClr val="ccccff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IODO PROMEDIO CO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1268280"/>
            <a:ext cx="6553080" cy="4320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1341360"/>
            <a:ext cx="6324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ICLO DE MADURACIÓN O CONVERSION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24360" y="2924280"/>
            <a:ext cx="4608360" cy="36036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ICLO DE C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2924280"/>
            <a:ext cx="3456000" cy="36036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IODO PROMEDIO DE P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349360"/>
            <a:ext cx="0" cy="158436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3933720"/>
            <a:ext cx="820872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04360" y="2349360"/>
            <a:ext cx="0" cy="158436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60" y="2001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73800" y="19890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B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2349360"/>
            <a:ext cx="0" cy="158436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407664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AGO A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86840" y="4795920"/>
            <a:ext cx="613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¿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UAL ES EL OPTIMO QUE TODOS DESEARIAM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Black"/>
              </a:rPr>
              <a:t>PAGAR A LOS PROVEEDORES DESPUES QUE ME PAGEN MIS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5300640"/>
            <a:ext cx="9349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1673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39640" y="2637000"/>
            <a:ext cx="2016360" cy="2016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DEUD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2071800"/>
            <a:ext cx="3276720" cy="3733560"/>
          </a:xfrm>
          <a:prstGeom prst="foldedCorner">
            <a:avLst>
              <a:gd name="adj" fmla="val 12500"/>
            </a:avLst>
          </a:prstGeom>
          <a:solidFill>
            <a:srgbClr val="000080">
              <a:alpha val="60000"/>
            </a:srgbClr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15200" y="2205000"/>
            <a:ext cx="3085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ON DE ENDEU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EUDA LARGO PLAZ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ÓN DEUDA EQU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FLUJO EFECTIVO A DEUDA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4800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9576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1371600"/>
            <a:ext cx="7873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A MAYOR ENDEUDAMIENTO, EL NEGOCIO SE CONSIDERA DE MAYOR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RIESGO. ANTE SITUACIONES ADVERSAS, UNA EMPRESA CON ALTA DEUDA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TIENE ALTAS POSIBILIDADES DE QUEBRAR POR INCAPACIDAD DE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CUMPLIR CON SUS ACREEDORES. ( PARA NEGOCIOS DE UN 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MISMO GIRO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COMERCI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0480" y="2852640"/>
            <a:ext cx="5321160" cy="113040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4880" y="2924280"/>
            <a:ext cx="3809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5080" y="3462480"/>
            <a:ext cx="233676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2760" y="323388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ndeudamiento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4343400"/>
            <a:ext cx="77216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MIDE EL APORTE DE LOS ACREEDORES EN RELACIÓN AL APORTE 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EFECTUADO POR LOS DUEÑOS. </a:t>
            </a:r>
            <a:br>
              <a:rPr sz="1600"/>
            </a:b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LIMITACIÓN: NO CONSIDERA LA COMPOSICIÓN DEL PATRIMONIO. </a:t>
            </a:r>
            <a:br>
              <a:rPr sz="1600"/>
            </a:b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ES MÁS VOLÁTIL SI ESTÁ FORMADO MAYORITARIAMENTE POR UTILIDAD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DEL EJERCICIO QUE POR CAPITAL PAG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8360" y="1557360"/>
            <a:ext cx="840744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SI RENTABILIDAD DEL NEGOCIO &gt; COSTO CRÉDITO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ÍMITE DE LA DEUDA: LO FIJAN ACREEDORES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600"/>
            </a:b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32000" y="2133720"/>
            <a:ext cx="523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UEÑOS PREFERIRÁN CRECER CON DEUDA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3429000"/>
            <a:ext cx="5715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SE CONCENTRA EN EL CORT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AYOR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ALA CALIDAD DE LA DE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SE CONCENTRA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ENOR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BUENA CALIDAD DE LA DE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835280" y="2062080"/>
            <a:ext cx="649080" cy="503280"/>
          </a:xfrm>
          <a:prstGeom prst="rightArrow">
            <a:avLst>
              <a:gd name="adj1" fmla="val 50000"/>
              <a:gd name="adj2" fmla="val 3224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7451640" y="2781360"/>
            <a:ext cx="12747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>
                  <a:alpha val="86274"/>
                </a:srgbClr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058840"/>
            <a:ext cx="35082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ESTRATEGIAS      FINANCIE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SAS PATRIMON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E 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LCULO DE 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NALISIS DUP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OPE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DE LA 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VALUACION ADM.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CES NO TRADI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2565360"/>
            <a:ext cx="93636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19280" y="4149720"/>
            <a:ext cx="2376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58920" y="2276640"/>
            <a:ext cx="7416720" cy="4321080"/>
          </a:xfrm>
          <a:prstGeom prst="rect">
            <a:avLst/>
          </a:prstGeom>
          <a:solidFill>
            <a:srgbClr val="000080">
              <a:alpha val="6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16292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LGUNOS PROBLEMAS DE LAS RAZONES DE ENDEUDAMI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FINICIÓN DE DEUDA Y PATRIMONIO NO SIEMPRE ES CL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FOQUE ESTÁ MÁS EN STOCK QUE EN FLUJO DE CAJA. NO CONSIDERAN “OPORTUNIDAD” NI “MAGNITUD” DE FLUJO DE CAJA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E DEBE CUIDAR DE CONSIDERAR ADECUADAMENTE CIERTOS COMPROMISOS DE LARGO PLAZO COMO LEASING, INDEMNIZACIO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UEDEN EXISTIR COMPROMISOS NO INCLUÍDOS EN LOS ESTADOS FINANCIEROS QUE DEBEN SER CONSIDERADOS: OBLIGACIONES CONTINGENTES (JUICIOS PENDIENTES, AVALE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95200" y="3645000"/>
            <a:ext cx="19004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03280" y="2781360"/>
            <a:ext cx="7561440" cy="28796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219320" y="198072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LGUNOS PROBLEMAS DE LAS RAZONES DE ENDEUDAMI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STAS RAZONES EN GENERAL NO INCORPORAN LOS RIESGOS DE LOS FLUJOS FUTUROS (INCERTIDUMBRE DE LOS RESULTADOS FUTUROS, RIESGO CAMBIARIO, RIESGOS DE CAMBIOS EN LAS TASAS DE INTERÉ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BEN SER COMPLEMENTADAS CON MEDIDAS DE “CALCE” DE MONEDAS, DE PLAZOS, DE TASAS DE INTERÉS, ETC.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158436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55640" y="2349360"/>
            <a:ext cx="7777080" cy="410400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6520" y="17049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ENDEU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76320" y="2529000"/>
            <a:ext cx="6727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 ENDEUDAMIENT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L/P A CAPITALIZ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C/P A CAPITALIZ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A CAPITAL NETO 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DEUDA EQUIDAD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FLUJO DE EFECTIVO A DEUD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EBI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Y CAPITALIZ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SIVO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2746440"/>
            <a:ext cx="25146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3432240"/>
            <a:ext cx="25146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4270320"/>
            <a:ext cx="25146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2720" y="5108400"/>
            <a:ext cx="1981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5794200"/>
            <a:ext cx="22096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42764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812160" y="14320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3357720"/>
          <a:ext cx="8640720" cy="17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357720"/>
                    <a:ext cx="8640720" cy="1749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811080" y="1432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8000" y="2781360"/>
          <a:ext cx="8964720" cy="148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781360"/>
                    <a:ext cx="8964720" cy="14828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12880" y="14320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79280" y="2924280"/>
          <a:ext cx="8748720" cy="180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24280"/>
                    <a:ext cx="8748720" cy="18000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811080" y="1432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9280" y="2852640"/>
          <a:ext cx="8785440" cy="166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852640"/>
                    <a:ext cx="8785440" cy="1662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11800" y="1432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24000" y="2781360"/>
          <a:ext cx="8642160" cy="18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8642160" cy="1871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4360" y="2349360"/>
            <a:ext cx="2016000" cy="2016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427640" y="1773360"/>
            <a:ext cx="4032000" cy="37432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35440" y="1989000"/>
            <a:ext cx="35085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ARGEN UTILIDAD BRU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ARGEN 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ON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CRECIMIENTO SOSTEN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NALISIS METODO DUP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16360" y="2779560"/>
            <a:ext cx="1008000" cy="1297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2050920" y="3789360"/>
            <a:ext cx="22734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514600" y="2349360"/>
            <a:ext cx="6172200" cy="431964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9920" y="1714680"/>
            <a:ext cx="75524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1. RENTABILIDAD EN RELACIÓN CON LAS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AZÓN MARGEN UTILIDAD BR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MARGEN 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2. RENTABILIDAD EN RELACIÓN CON LA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TASA RETORNO ACCIONE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TASA RETORNO SOBR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TASA DE RETORNO UTILIDADES NETAS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3.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INDICE ROTACIÓN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INDICE RETORNO SOBR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ENDIMIENTO DIVIDE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AZÓN VALOR 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AZÓN DE Q. TOB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2065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77080" y="2349360"/>
            <a:ext cx="2057400" cy="1524240"/>
          </a:xfrm>
          <a:prstGeom prst="cloudCallout">
            <a:avLst>
              <a:gd name="adj1" fmla="val -95060"/>
              <a:gd name="adj2" fmla="val 107500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4365720"/>
            <a:ext cx="1904760" cy="1295280"/>
          </a:xfrm>
          <a:prstGeom prst="wedgeEllipseCallout">
            <a:avLst>
              <a:gd name="adj1" fmla="val -98666"/>
              <a:gd name="adj2" fmla="val -5061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68640"/>
            <a:ext cx="3429000" cy="3529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47640" y="1197000"/>
            <a:ext cx="6048720" cy="720720"/>
            <a:chOff x="1547640" y="1197000"/>
            <a:chExt cx="6048720" cy="720720"/>
          </a:xfrm>
        </p:grpSpPr>
        <p:sp>
          <p:nvSpPr>
            <p:cNvPr id="58" name=""/>
            <p:cNvSpPr/>
            <p:nvPr/>
          </p:nvSpPr>
          <p:spPr>
            <a:xfrm>
              <a:off x="1547640" y="1197000"/>
              <a:ext cx="6048720" cy="720720"/>
            </a:xfrm>
            <a:prstGeom prst="rect">
              <a:avLst/>
            </a:prstGeom>
            <a:solidFill>
              <a:srgbClr val="000080">
                <a:alpha val="7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8280" y="1366920"/>
              <a:ext cx="573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00"/>
                  </a:solidFill>
                  <a:latin typeface="Arial"/>
                </a:rPr>
                <a:t>¿ COMO ANÁLIZAR CON INDICES FINANCIEROS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204920" y="2352600"/>
            <a:ext cx="4411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ONES FINANCI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 ENDEUD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 DE VAL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349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2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74000" y="2781360"/>
            <a:ext cx="1752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NALIZAR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MPA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LAS RA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20890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547640" y="1916280"/>
            <a:ext cx="7272360" cy="4752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LGUNOS PROBLEMAS DE LAS RAZONES DE RENTABILID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¡NO CONSIDERA EL CONCEPTO DE “RIESGO”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NO SON COMPARABLES ENTRE EMPRESAS DE DISTINTAS INDUSTRIAS (PROBLEMA COMÚN PARA TODAS LAS “RAZONES FINANCIERAS”, PERO PARTICULARMENTE IMPORTANTE PARA EL CASO DE LAS RENTABILIDAD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CLUSO LA COMPARACIÓN DE “MÁRGENES” Y “ROTACIONES” ENTRE EMPRESAS DE UNA MISMA INDUSTRIA PUEDE SER DIFÍCIL POR CUANTO DICHAS RAZONES FINANCIERAS PUEDEN SER MUY DISTINTAS COMO RESULTADO DE DISTINTAS POLÍTICAS O ESTRATEGIAS DE LAS EMPRES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 DEBE TENER CUIDADO POR LOS PROBLEMAS QUE SE DERIVAN DE HABER UTILIZADO INFORMACIÓN CONTAB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* UTILIDAD QUE NO ES FLUJO DE CAJA EN EL PERÍO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* ACTIVOS QUE ESTÁN VALORADOS A COSTO HISTÓ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 algn="just">
              <a:lnSpc>
                <a:spcPts val="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15843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619280" y="2708280"/>
            <a:ext cx="7200720" cy="3457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294920" y="2057040"/>
            <a:ext cx="716292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LGUNOS PROBLEMAS DE LAS RAZONES DE RENTABIL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UCHAS VECES NO ES FÁCIL LA SEPARACIÓN ENTRE ACTIVOS OPERACIONALES Y NO 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ÁCTICAS CONTABLES AFECTAN ALGUNAS RA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ISTINTOS SISTEMAS DE COST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ISTINTOS CRITERIOS DE PROVISIONES,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MÁRGENES TIENEN POCO SENTIDO EN “HOLDING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2720880"/>
            <a:ext cx="1908000" cy="37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50920" y="1916280"/>
            <a:ext cx="8785080" cy="4681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5440" y="136512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1800" y="2144880"/>
            <a:ext cx="84470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MARGEN UTILIDAD BRUT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 – COSTO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MARGEN UTILIDAD NET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DESPUES IM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TORNO SOBRE ACTIVO O RO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DESPUES IM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RETURN OF ASSETS)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TOTAL D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RETORNO UTILIDADES NETA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UTILIDAD ANTES DE INTERESES  E IM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PERACIÓ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OTAL DE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TURN OF EQUITY O ROE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A.    * APALACAMIENT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52880" y="2362320"/>
            <a:ext cx="289584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3276720"/>
            <a:ext cx="2971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4952880"/>
            <a:ext cx="42670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76920" y="5791320"/>
            <a:ext cx="19810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995640" y="1197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020000" y="4508640"/>
            <a:ext cx="194472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4508640"/>
            <a:ext cx="194472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4000" y="4508640"/>
            <a:ext cx="194472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64000" y="1413000"/>
            <a:ext cx="403236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6" name=""/>
          <p:cNvGraphicFramePr/>
          <p:nvPr/>
        </p:nvGraphicFramePr>
        <p:xfrm>
          <a:off x="324000" y="1268280"/>
          <a:ext cx="237636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68280"/>
                    <a:ext cx="23763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4065840" y="1557360"/>
            <a:ext cx="31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TRIMONIO (FONDOS PROP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24360" y="1773360"/>
            <a:ext cx="338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413080" y="2857680"/>
          <a:ext cx="1368360" cy="104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3080" y="2857680"/>
                    <a:ext cx="13683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4716360" y="2857680"/>
          <a:ext cx="136836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2857680"/>
                    <a:ext cx="13683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094520" y="2852640"/>
          <a:ext cx="1725480" cy="105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4520" y="2852640"/>
                    <a:ext cx="17254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932360" y="2349360"/>
            <a:ext cx="93672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28840" y="463860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12040" y="4638600"/>
            <a:ext cx="149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79120" y="463860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40000" y="492588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16360" y="4925880"/>
            <a:ext cx="165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64360" y="492588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71640" y="400356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03640" y="400356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24720" y="400356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94360" y="318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3104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40360" y="5950080"/>
            <a:ext cx="2952720" cy="71892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87240" y="6164280"/>
            <a:ext cx="26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BILIDAD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03640" y="5373720"/>
            <a:ext cx="93672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288800">
            <a:off x="7306920" y="5517720"/>
            <a:ext cx="93672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411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9112400">
            <a:off x="2627280" y="5518080"/>
            <a:ext cx="93672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789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1"/>
          <a:stretch/>
        </p:blipFill>
        <p:spPr>
          <a:xfrm rot="18866400">
            <a:off x="180720" y="3355560"/>
            <a:ext cx="20494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539640" y="2276640"/>
            <a:ext cx="7920000" cy="3960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7720" y="158436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0520" y="2529000"/>
            <a:ext cx="7290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TURN OF SALES ( ROS )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ES N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SETS TURNOVER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TACIÓN ACTIV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ETODO DUPONT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UTILIDAD NE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INDICE CAPACIDAD GENERAR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ACTIVOS TO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 CRECIMIENTO SOSTENID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E  *  ( 1  -  TASA PAGO DIVIDEND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67080" y="2781360"/>
            <a:ext cx="23623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645000"/>
            <a:ext cx="25909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68720" y="4508640"/>
            <a:ext cx="2808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7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995640" y="1413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75640" y="5229360"/>
            <a:ext cx="194436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98920" y="5229360"/>
            <a:ext cx="1944360" cy="79200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64000" y="1844640"/>
            <a:ext cx="4032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0" name=""/>
          <p:cNvGraphicFramePr/>
          <p:nvPr/>
        </p:nvGraphicFramePr>
        <p:xfrm>
          <a:off x="324000" y="1268280"/>
          <a:ext cx="237636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68280"/>
                    <a:ext cx="23763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4813920" y="198900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11640" y="2205000"/>
            <a:ext cx="28814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916360" y="3362400"/>
          <a:ext cx="136836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3362400"/>
                    <a:ext cx="1368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6950160" y="3357720"/>
          <a:ext cx="1725480" cy="105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3357720"/>
                    <a:ext cx="172548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5076720" y="2781360"/>
            <a:ext cx="93672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38960" y="5359320"/>
            <a:ext cx="149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70400" y="535932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3280" y="558972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20000" y="558972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58136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80360" y="458136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580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395280" y="3860640"/>
            <a:ext cx="1960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987640" y="1125360"/>
            <a:ext cx="3456000" cy="432000"/>
          </a:xfrm>
          <a:prstGeom prst="rect">
            <a:avLst/>
          </a:prstGeom>
          <a:solidFill>
            <a:srgbClr val="000080">
              <a:alpha val="6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384984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-76320" y="394020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3011400"/>
            <a:ext cx="152640" cy="2210040"/>
          </a:xfrm>
          <a:custGeom>
            <a:avLst/>
            <a:gdLst>
              <a:gd name="textAreaLeft" fmla="*/ 44640 w 152640"/>
              <a:gd name="textAreaRight" fmla="*/ 153000 w 15264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219320" y="4154400"/>
            <a:ext cx="30456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630520"/>
            <a:ext cx="12189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75112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argen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89120" y="4916520"/>
            <a:ext cx="1206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87600" y="4992840"/>
            <a:ext cx="15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925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2478240"/>
            <a:ext cx="75960" cy="1295280"/>
          </a:xfrm>
          <a:custGeom>
            <a:avLst/>
            <a:gdLst>
              <a:gd name="textAreaLeft" fmla="*/ 22320 w 75960"/>
              <a:gd name="textAreaRight" fmla="*/ 76320 w 7596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71440" y="308772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76720" y="4611600"/>
            <a:ext cx="75960" cy="1295640"/>
          </a:xfrm>
          <a:custGeom>
            <a:avLst/>
            <a:gdLst>
              <a:gd name="textAreaLeft" fmla="*/ 22320 w 75960"/>
              <a:gd name="textAreaRight" fmla="*/ 76320 w 7596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971440" y="522144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16400" y="2097000"/>
            <a:ext cx="121896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63760" y="217332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Utilidad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16400" y="362124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63760" y="36352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560232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5678640"/>
            <a:ext cx="175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ctivo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per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43830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63760" y="438300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3087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50529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723920" y="255420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27828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28274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stos y Gastos Oper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179244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16600" y="1806480"/>
            <a:ext cx="15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2309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373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952520" y="5983200"/>
            <a:ext cx="30492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6211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81480" y="6226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15000" y="5815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51451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5113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ctivos Circu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02104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26280" y="2401920"/>
            <a:ext cx="88920" cy="1600200"/>
          </a:xfrm>
          <a:custGeom>
            <a:avLst/>
            <a:gdLst>
              <a:gd name="textAreaLeft" fmla="*/ 25920 w 88920"/>
              <a:gd name="textAreaRight" fmla="*/ 89280 w 8892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921000" y="3164040"/>
            <a:ext cx="38124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2600" y="2935440"/>
            <a:ext cx="1612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61040" y="3025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stos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2600" y="3773520"/>
            <a:ext cx="1612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02600" y="2097000"/>
            <a:ext cx="1612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6600" y="38498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stos de Ad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86600" y="211140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s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96080" y="339264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96080" y="25383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51840" y="4764240"/>
            <a:ext cx="88920" cy="1600200"/>
          </a:xfrm>
          <a:custGeom>
            <a:avLst/>
            <a:gdLst>
              <a:gd name="textAreaLeft" fmla="*/ 25920 w 88920"/>
              <a:gd name="textAreaRight" fmla="*/ 89280 w 8892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7800" y="5297400"/>
            <a:ext cx="1613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37360" y="53118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tas.por cob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7800" y="6135840"/>
            <a:ext cx="1613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27800" y="4459320"/>
            <a:ext cx="1613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cc99"/>
            </a:solidFill>
            <a:miter/>
          </a:ln>
          <a:effectLst>
            <a:outerShdw dist="89604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38880" y="614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12160" y="44737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ct.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21640" y="5754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721640" y="4900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934320" y="5526000"/>
            <a:ext cx="38088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1168560"/>
            <a:ext cx="37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IAGRAMA DUP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727280" y="115920"/>
            <a:ext cx="6000840" cy="917640"/>
            <a:chOff x="1727280" y="115920"/>
            <a:chExt cx="6000840" cy="917640"/>
          </a:xfrm>
        </p:grpSpPr>
        <p:pic>
          <p:nvPicPr>
            <p:cNvPr id="557" name="" descr=""/>
            <p:cNvPicPr/>
            <p:nvPr/>
          </p:nvPicPr>
          <p:blipFill>
            <a:blip r:embed="rId2"/>
            <a:stretch/>
          </p:blipFill>
          <p:spPr>
            <a:xfrm>
              <a:off x="1727280" y="11592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627280" y="33012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08000" y="1773360"/>
            <a:ext cx="2881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SCOMPOSICIÓN DE LA CAPACI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GENERADORA DE UT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835280" y="1773360"/>
            <a:ext cx="58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ESCOMPOSICIÓN  DE  LA RENTABILIDAD PATRIMO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7120" y="3916440"/>
            <a:ext cx="1442880" cy="46332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70440" y="406872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GASTOS DE AD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77120" y="2392200"/>
            <a:ext cx="1442880" cy="5302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25800" y="2565360"/>
            <a:ext cx="120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COSTO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40760" y="3233880"/>
            <a:ext cx="1479240" cy="39816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51640" y="3268800"/>
            <a:ext cx="115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GASTO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19720" y="3002040"/>
            <a:ext cx="1325520" cy="46332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4200" y="307800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00"/>
                </a:solidFill>
                <a:latin typeface="Arial"/>
              </a:rPr>
              <a:t>COSTOS Y GAS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00"/>
                </a:solidFill>
                <a:latin typeface="Arial"/>
              </a:rPr>
              <a:t>TO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84800" y="2239920"/>
            <a:ext cx="1260360" cy="4636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49040" y="239220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008840" y="2836800"/>
            <a:ext cx="33192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995880" y="4145040"/>
            <a:ext cx="3315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96240" y="2849400"/>
            <a:ext cx="0" cy="13082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717960" y="3367080"/>
            <a:ext cx="62244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10320" y="3300480"/>
            <a:ext cx="125280" cy="123840"/>
          </a:xfrm>
          <a:custGeom>
            <a:avLst/>
            <a:gdLst/>
            <a:ahLst/>
            <a:rect l="l" t="t" r="r" b="b"/>
            <a:pathLst>
              <a:path w="79" h="78">
                <a:moveTo>
                  <a:pt x="79" y="0"/>
                </a:moveTo>
                <a:lnTo>
                  <a:pt x="0" y="42"/>
                </a:lnTo>
                <a:lnTo>
                  <a:pt x="79" y="78"/>
                </a:lnTo>
                <a:lnTo>
                  <a:pt x="7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62200" y="3433680"/>
            <a:ext cx="1258920" cy="4636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13920" y="3573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62200" y="2571840"/>
            <a:ext cx="1258920" cy="46332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19520" y="26208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UT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NE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90720" y="2925720"/>
            <a:ext cx="1258920" cy="4636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7632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23920" y="3002040"/>
            <a:ext cx="9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MARGEN DE</a:t>
            </a:r>
            <a:br>
              <a:rPr sz="1000"/>
            </a:b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429000" y="2770200"/>
            <a:ext cx="13320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429000" y="3632040"/>
            <a:ext cx="13320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29000" y="2770200"/>
            <a:ext cx="1440" cy="8618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271320" y="3168720"/>
            <a:ext cx="1573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64040" y="310212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0" y="42"/>
                </a:lnTo>
                <a:lnTo>
                  <a:pt x="78" y="7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23200" y="6308640"/>
            <a:ext cx="1325520" cy="43344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7320" y="6461280"/>
            <a:ext cx="84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EXIST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377120" y="4906800"/>
            <a:ext cx="1371600" cy="38124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98800" y="501336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. DISPON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40760" y="5553000"/>
            <a:ext cx="1479240" cy="39708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66040" y="5668920"/>
            <a:ext cx="12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CTAS. POR COB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96040" y="6278400"/>
            <a:ext cx="1172880" cy="46368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72000" y="643104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 FIJ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96040" y="5364000"/>
            <a:ext cx="1218960" cy="46368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56600" y="5440320"/>
            <a:ext cx="90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CIRCUL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008840" y="5156280"/>
            <a:ext cx="3319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048440" y="6523200"/>
            <a:ext cx="3319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08840" y="5156280"/>
            <a:ext cx="11160" cy="13683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717960" y="5684760"/>
            <a:ext cx="62244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10320" y="5619600"/>
            <a:ext cx="125280" cy="123840"/>
          </a:xfrm>
          <a:custGeom>
            <a:avLst/>
            <a:gdLst/>
            <a:ahLst/>
            <a:rect l="l" t="t" r="r" b="b"/>
            <a:pathLst>
              <a:path w="79" h="78">
                <a:moveTo>
                  <a:pt x="79" y="0"/>
                </a:moveTo>
                <a:lnTo>
                  <a:pt x="0" y="41"/>
                </a:lnTo>
                <a:lnTo>
                  <a:pt x="79" y="78"/>
                </a:lnTo>
                <a:lnTo>
                  <a:pt x="7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93960" y="5818320"/>
            <a:ext cx="1260720" cy="46332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56120" y="5973840"/>
            <a:ext cx="57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19520" y="4983120"/>
            <a:ext cx="1260360" cy="46512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24440" y="5135400"/>
            <a:ext cx="5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36880" y="5288040"/>
            <a:ext cx="1301760" cy="533160"/>
          </a:xfrm>
          <a:prstGeom prst="rect">
            <a:avLst/>
          </a:prstGeom>
          <a:gradFill rotWithShape="0">
            <a:gsLst>
              <a:gs pos="0">
                <a:srgbClr val="800000">
                  <a:alpha val="56078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49320">
            <a:solidFill>
              <a:srgbClr val="ffff00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03920" y="5429160"/>
            <a:ext cx="88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ROTACIÓN DE</a:t>
            </a:r>
            <a:br>
              <a:rPr sz="1000"/>
            </a:b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62200" y="5156280"/>
            <a:ext cx="1317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562200" y="6016680"/>
            <a:ext cx="1317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62200" y="5156280"/>
            <a:ext cx="1800" cy="8604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403080" y="5553000"/>
            <a:ext cx="15876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97240" y="5486400"/>
            <a:ext cx="123840" cy="12528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1271520" y="4183200"/>
            <a:ext cx="200160" cy="14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704960" y="5486400"/>
            <a:ext cx="331920" cy="14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04960" y="3102120"/>
            <a:ext cx="1440" cy="2384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614240" y="4029120"/>
            <a:ext cx="903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06600" y="3962520"/>
            <a:ext cx="123840" cy="12528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5086080" y="3233880"/>
            <a:ext cx="1983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928760" y="2770200"/>
            <a:ext cx="15732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21120" y="2703600"/>
            <a:ext cx="123840" cy="12528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090760" y="2392200"/>
            <a:ext cx="19836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91120" y="2392200"/>
            <a:ext cx="1440" cy="8607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203440" y="6510240"/>
            <a:ext cx="19836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5046840" y="6046920"/>
            <a:ext cx="156960" cy="1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938840" y="5979960"/>
            <a:ext cx="123840" cy="125640"/>
          </a:xfrm>
          <a:custGeom>
            <a:avLst/>
            <a:gdLst/>
            <a:ahLst/>
            <a:rect l="l" t="t" r="r" b="b"/>
            <a:pathLst>
              <a:path w="78" h="79">
                <a:moveTo>
                  <a:pt x="78" y="0"/>
                </a:moveTo>
                <a:lnTo>
                  <a:pt x="0" y="42"/>
                </a:lnTo>
                <a:lnTo>
                  <a:pt x="78" y="79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208480" y="5668920"/>
            <a:ext cx="198720" cy="18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08480" y="5668920"/>
            <a:ext cx="1800" cy="8604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55480" y="36115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755480" y="29257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39720" y="597384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31800" y="528804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98080" y="589752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26080" y="2697120"/>
            <a:ext cx="3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1840" y="544032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25520" y="307800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48640" y="4068720"/>
            <a:ext cx="4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87640" y="1125360"/>
            <a:ext cx="3456000" cy="432000"/>
          </a:xfrm>
          <a:prstGeom prst="rect">
            <a:avLst/>
          </a:prstGeom>
          <a:solidFill>
            <a:srgbClr val="000080">
              <a:alpha val="60000"/>
            </a:srgbClr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16360" y="1168560"/>
            <a:ext cx="37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IAGRAMA DUP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727280" y="115920"/>
            <a:ext cx="6000840" cy="917640"/>
            <a:chOff x="1727280" y="115920"/>
            <a:chExt cx="6000840" cy="917640"/>
          </a:xfrm>
        </p:grpSpPr>
        <p:pic>
          <p:nvPicPr>
            <p:cNvPr id="640" name="" descr=""/>
            <p:cNvPicPr/>
            <p:nvPr/>
          </p:nvPicPr>
          <p:blipFill>
            <a:blip r:embed="rId2"/>
            <a:stretch/>
          </p:blipFill>
          <p:spPr>
            <a:xfrm>
              <a:off x="1727280" y="11592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627280" y="33012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250920" y="3430440"/>
            <a:ext cx="1224000" cy="11509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3840" y="3789360"/>
            <a:ext cx="857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539640" y="2276640"/>
            <a:ext cx="7920000" cy="3960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7720" y="158436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ICES DE REN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1960" y="2529000"/>
            <a:ext cx="7628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ES N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.C.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BAIT  x  ( 1 – 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GENERADORA INTERESES +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.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NETO + 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.O.I.A.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NETO + GASTOS FINANCIEROS x (1 – 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7080" y="2781360"/>
            <a:ext cx="23623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49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3492360" y="3860640"/>
            <a:ext cx="453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92360" y="4869000"/>
            <a:ext cx="453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19640" y="5734080"/>
            <a:ext cx="4968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2436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284720" y="5734080"/>
            <a:ext cx="2952720" cy="719280"/>
          </a:xfrm>
          <a:prstGeom prst="rect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75640" y="4437000"/>
            <a:ext cx="1944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98920" y="4437000"/>
            <a:ext cx="1944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1372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64000" y="1484280"/>
            <a:ext cx="4032360" cy="79236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6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324000" y="1268280"/>
          <a:ext cx="237636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68280"/>
                    <a:ext cx="23763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813920" y="162864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11640" y="1844640"/>
            <a:ext cx="28814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916360" y="2857680"/>
          <a:ext cx="1368360" cy="104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2857680"/>
                    <a:ext cx="136836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950160" y="2852640"/>
          <a:ext cx="1725480" cy="105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2852640"/>
                    <a:ext cx="17254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5076720" y="2421000"/>
            <a:ext cx="93672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38960" y="4567320"/>
            <a:ext cx="149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TAL A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70400" y="456732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TILIDAD N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43280" y="479736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20000" y="4797360"/>
            <a:ext cx="1655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76720" y="39337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80360" y="39337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6580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29440" y="5950080"/>
            <a:ext cx="26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BILIDAD ECON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0800000">
            <a:off x="5219280" y="4653000"/>
            <a:ext cx="1081080" cy="792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800000">
              <a:alpha val="7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9"/>
          <a:stretch/>
        </p:blipFill>
        <p:spPr>
          <a:xfrm>
            <a:off x="250920" y="4221000"/>
            <a:ext cx="21924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781360"/>
            <a:ext cx="7924680" cy="358128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442880"/>
            <a:ext cx="4081320" cy="69084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36080" y="159228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INDIC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965320"/>
            <a:ext cx="741528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SzPct val="135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E PUEDE INTERPRETAR LA SITUACIÓN FINANCIERA DE LA EMPRESA, EN BASE A RELACIONES EXISTENTES ENTRE DOS PARTIDAS DE UN MISMO O DE DIFERENTES ESTADOS FINANCIEROS.</a:t>
            </a:r>
            <a:br>
              <a:rPr sz="1800"/>
            </a:b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SzPct val="135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GENERAL, LOS INDICADORES (RAZONES FINANCIERAS) NO TIENEN SIGNIFICADO POR SÍ SOLOS: DEBEN COMPARARSE ENTRE EJERCICIOS SUCESIVOS DE LA EMPRESA (EVOLUCIÓN HISTÓRICA) Y CON EL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OMEDIO DE EMPRESAS DE SIMILARES CARACTERÍSTICAS DENTRO DE LA INDUST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708360" y="2276640"/>
            <a:ext cx="1224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12160" y="14320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79280" y="2637000"/>
          <a:ext cx="8713800" cy="2592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37000"/>
                    <a:ext cx="8713800" cy="2592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8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811080" y="1432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79280" y="2708280"/>
          <a:ext cx="8785440" cy="280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708280"/>
                    <a:ext cx="8785440" cy="2808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812880" y="14320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50920" y="2349360"/>
          <a:ext cx="8640720" cy="302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349360"/>
                    <a:ext cx="8640720" cy="3024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0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811080" y="1432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324000" y="2349360"/>
          <a:ext cx="8640720" cy="316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349360"/>
                    <a:ext cx="8640720" cy="3168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0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811800" y="1432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50920" y="2492280"/>
          <a:ext cx="8713800" cy="29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492280"/>
                    <a:ext cx="8713800" cy="29782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211640" y="2514600"/>
            <a:ext cx="4608360" cy="300204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57440" y="2924280"/>
            <a:ext cx="4318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OBERTURA CARGOS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ON COBERTUR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OBERTURA FLUJOS 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VECES QUE SE HA GENERAN INTER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1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3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08000" y="2492280"/>
            <a:ext cx="8928000" cy="367344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8360" y="184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DICES DE 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5880" y="2735280"/>
            <a:ext cx="8730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CES QUE SE GENERA INTERES       UTILIDAD ANTES DE IMPUESTO + CARGOS POR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RGO POR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CARGOS FIJ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PARA CUBRIR CARG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RG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COBERTURA TOTAL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ANTES DE IMPUESTOS E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RGOS POR INTERESES  +  PAGOS CAPITAL (1/(1-t 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FLUJOS DE EFECTIV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BIT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GOS ANUALES POR INTERE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27280" y="2963880"/>
            <a:ext cx="54104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32200" y="3801960"/>
            <a:ext cx="37339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79920" y="4716360"/>
            <a:ext cx="5181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5880" y="5554800"/>
            <a:ext cx="3429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2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3995640" y="1413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4211640" y="2514600"/>
            <a:ext cx="4608360" cy="300204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86760" y="2637000"/>
            <a:ext cx="3219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PRECIO UTILIDAD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PAY –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ENDIMIENTO DIVI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AZON VALOR LI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Q T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ASA REI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ASA CRECIMIENT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gradFill rotWithShape="0">
            <a:gsLst>
              <a:gs pos="0">
                <a:srgbClr val="800000">
                  <a:alpha val="50196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539640" y="1844640"/>
            <a:ext cx="8353440" cy="482436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25480" y="1341360"/>
            <a:ext cx="33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AZONES VALOR DE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00360" y="1989000"/>
            <a:ext cx="739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PRECIO/UTILIDAD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ECIO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NDIMIENTO DIVIDENDOS                                       DIVIDENDOS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ECIO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VALOR LIBR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ECIO DE L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 LIBRO POR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AZÓN Q TOBI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 EMPRESA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STO REEMPLAZO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Y – OUT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IVIDENDO POR A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UTILIDAD POR A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INVERSIO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1 – PAY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CRECIMIENTO G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ROE x REI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4120" y="2276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57800" y="3068640"/>
            <a:ext cx="26668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257800" y="3933720"/>
            <a:ext cx="28195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57800" y="4797360"/>
            <a:ext cx="2971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4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5292720" y="5445000"/>
            <a:ext cx="2971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56000" y="1125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211640" y="1844640"/>
            <a:ext cx="4608360" cy="432108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04320" y="1989000"/>
            <a:ext cx="4120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DEPENDENCIA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APITALES PERMA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INMOVILIZACION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TASA INDUSTRIAL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TASA DE DEPRECI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VALOR AGRE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LEVERAGE ROE/ROI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PRODUCTIVIDAD CAPITAL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5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00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2492280"/>
            <a:ext cx="8569440" cy="3961080"/>
          </a:xfrm>
          <a:prstGeom prst="rect">
            <a:avLst/>
          </a:prstGeom>
          <a:gradFill rotWithShape="0">
            <a:gsLst>
              <a:gs pos="0">
                <a:srgbClr val="000080">
                  <a:alpha val="49019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87240" y="2421000"/>
            <a:ext cx="777240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AS COMPARACIONES HAY QUE REALIZARLAS SIEMPRE CON EMPRESAS DE UNA MISMA IND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ONSIDERAR PROBLEMAS DE ESTACIONALIDAD PARA ANÁLISIS QUE CUBREN UN PERIODO INFERIOR A UN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OS RESULTADOS OBTENIDOS DEL ANÁLISIS DE RAZONES DEBEN DAR ORIGEN A INTERROGANTES QUE AL ANALISTA LE INTERESARA RESPONDER A TRAVÉS DE UN ANÁLISIS MAS PROFU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LEGIR BIEN EL PATRÓN DE REFERENCIA O DE COM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CUIDADOS  EN  UNA COMPARACIÓN CON LA IND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3300"/>
              </a:buClr>
              <a:buSzPct val="130000"/>
              <a:buFont typeface="Wingdings" charset="2"/>
              <a:buChar char="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442880"/>
            <a:ext cx="4081320" cy="690840"/>
          </a:xfrm>
          <a:prstGeom prst="rect">
            <a:avLst/>
          </a:prstGeom>
          <a:solidFill>
            <a:srgbClr val="00008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1720" y="155736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NER EN CUENTA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4360" y="4724280"/>
            <a:ext cx="1806480" cy="1965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50920" y="1197000"/>
            <a:ext cx="1944720" cy="1479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877080" y="1125360"/>
            <a:ext cx="176040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39640" y="2276640"/>
            <a:ext cx="8353440" cy="3889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98200" y="2500200"/>
            <a:ext cx="7892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GASTOS FINANCIER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OPE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ANTES IMPUESTO + 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GAST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EPENDENCIA FINANCIER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SIVO TOTAL  +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DEPENDENCIA FINANCIER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LARGO PLAZ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CAPITAL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ES PERMANENT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 + PASIVO LARG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4120" y="2717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6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3419640" y="3357720"/>
            <a:ext cx="5329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68800" y="422100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76720" y="5084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539640" y="2276640"/>
            <a:ext cx="8353440" cy="4105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94600" y="2500200"/>
            <a:ext cx="7650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 RECURS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INMOVILIZ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  +  OTR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INDUSTRIALIZACIO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ACTIVO F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TASA DEPRECIACION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DEPRECIACION ACUMU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S BRU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INMOVILIZACION RECURS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NECESIDAD CAPITA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RTO PLAZ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ACTIVO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2717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7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364000" y="422100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57880" y="5084640"/>
            <a:ext cx="27432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64000" y="5950080"/>
            <a:ext cx="302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539640" y="2276640"/>
            <a:ext cx="8353440" cy="4105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91360" y="2500200"/>
            <a:ext cx="790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IQUEZA POR LA EXPLOTACION              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FORZAMIENTO PATRIMONI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OBERTURA PRESTAMO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DEUDA FINANCIERA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FINANCIAMIENTO INVERSIONES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CAPACIDAD AUTO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S BRU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ACIDAD DE AUTOFINANCIAMIENT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OPE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48360" y="2708280"/>
            <a:ext cx="338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8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219640" y="3645000"/>
            <a:ext cx="3384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91280" y="4437000"/>
            <a:ext cx="3384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364000" y="5300640"/>
            <a:ext cx="3384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51280" y="134136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539640" y="1989000"/>
            <a:ext cx="8353440" cy="460872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24760" y="15080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OTRAS RAZ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99640" y="2106720"/>
            <a:ext cx="7625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FECTO LEVERAGE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                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O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MEDIDA TAMAÑO ECONOMIC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        VALOR AGRE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MPRESA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VALOR AGREGAD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RESULTADO OPE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+ DEPRECI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+ % GASTOS REMUNER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ODUCTIVIDAD CAPITAL FINANCIER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VALOR AGRE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RODUCTIVIDAD CAPITAL FISICO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 VALOR AGRE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 FIJO BR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72360" y="2349360"/>
            <a:ext cx="863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79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372360" y="2997360"/>
            <a:ext cx="863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24360" y="3645000"/>
            <a:ext cx="2160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96000" y="5589720"/>
            <a:ext cx="2160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96000" y="6165720"/>
            <a:ext cx="216072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08360" y="126828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0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543960" y="11253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STALERIAS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179280" y="1677960"/>
          <a:ext cx="8713800" cy="50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677960"/>
                    <a:ext cx="8713800" cy="50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10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811080" y="9079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179280" y="1413000"/>
          <a:ext cx="8785440" cy="530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13000"/>
                    <a:ext cx="8785440" cy="5302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1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328680" y="10526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CO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179280" y="1484280"/>
          <a:ext cx="8785440" cy="526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84280"/>
                    <a:ext cx="8785440" cy="5268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2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687240" y="981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79280" y="1413000"/>
          <a:ext cx="8713800" cy="532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413000"/>
                    <a:ext cx="8713800" cy="5322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2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398880" y="9810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W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08000" y="1413000"/>
          <a:ext cx="8785080" cy="532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413000"/>
                    <a:ext cx="8785080" cy="5327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211640" y="2514600"/>
            <a:ext cx="4608360" cy="2498760"/>
          </a:xfrm>
          <a:prstGeom prst="rect">
            <a:avLst/>
          </a:prstGeom>
          <a:solidFill>
            <a:srgbClr val="000080">
              <a:alpha val="7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61040" y="2924280"/>
            <a:ext cx="342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3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395280" y="2637000"/>
            <a:ext cx="2016000" cy="201600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PALANC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00360" y="2997360"/>
            <a:ext cx="1008000" cy="12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9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48000" y="3860640"/>
            <a:ext cx="5473800" cy="1079640"/>
          </a:xfrm>
          <a:prstGeom prst="rect">
            <a:avLst/>
          </a:prstGeom>
          <a:gradFill rotWithShape="0">
            <a:gsLst>
              <a:gs pos="0">
                <a:srgbClr val="800000">
                  <a:alpha val="52156"/>
                </a:srgbClr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539640" y="1484280"/>
          <a:ext cx="244152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4280"/>
                    <a:ext cx="24415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493800" y="4148280"/>
            <a:ext cx="519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ONCENTRESE EN EL ANÁLIS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N POCAS RAZONES FINANCIERAS PERO IMPOR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132360" y="2132640"/>
            <a:ext cx="1656000" cy="1368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84360" y="3645000"/>
            <a:ext cx="1814400" cy="2749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19764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905120" y="5029200"/>
            <a:ext cx="6554520" cy="1143000"/>
          </a:xfrm>
          <a:prstGeom prst="rect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905120" y="3352680"/>
            <a:ext cx="6411960" cy="1067040"/>
          </a:xfrm>
          <a:prstGeom prst="rect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05120" y="2057400"/>
            <a:ext cx="6411960" cy="762120"/>
          </a:xfrm>
          <a:prstGeom prst="rect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82880" y="1628640"/>
            <a:ext cx="7302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IDE EL IMPACTO EN EL NIVEL DE VENTAS SOBRE 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UTILIDADES ANTES DE INTERESES E IM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IDE EL IMPACTO DE LOS CAMBIOS EN LAS UT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NTES DE INTERESES E IMPUESTOS SOBRE LAS UT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ISPONIBLES PARA LOS 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APALANCAMIENTO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IDE EL EFECTO DE LOS CAMBIOS EN LOS INGRESOS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VENTAS Y SE OBTIENE COMO UN MULTIPLO DEL 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 APALANCAMIENTO OPERATIVO Y EL GRADO DE APALA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MIENTO FINANCI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4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533520" y="2362320"/>
            <a:ext cx="8076960" cy="40194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APALANCAMIENTO OPE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 LA CAPACIDAD DE LA EMPRESA PARA UTILIZAR SUS ACTIVOS OPERACIONALES O COSTO FIJO PARA AUMENTAR  AL MÁXIMO SU REN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L OBJETIVO ES DETERMINAR EL IMPACTO DE LOS COSTOS FIJOS DE OPERACIÓN DADO UN AUMENTO O DISMINUCIÓN  EN  EL  VOLUMEN  DE 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UIDADO CON LA TEORIA DE LOS RENDIMIENTOS DECRECIENTES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51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24000" y="1771560"/>
            <a:ext cx="8640720" cy="453708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55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465840" y="2349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O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(BAIT 2006  -  BAIT 2005) / BAIT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VENTAS 2006 – VENTAS 2005) / VENTA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 x ( P – CVu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 x ( P -  CVu ) – COSTO 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UNTO DE EQUILIBRI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       COSTO 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 PRECIO – COSTO VARIABLE UNI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03640" y="2637000"/>
            <a:ext cx="525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348000" y="4005360"/>
            <a:ext cx="446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40360" y="5373720"/>
            <a:ext cx="446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92360" y="1197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4"/>
          <a:stretch/>
        </p:blipFill>
        <p:spPr>
          <a:xfrm>
            <a:off x="826920" y="2924280"/>
            <a:ext cx="1789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6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971640" y="1413000"/>
            <a:ext cx="7273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632720" cy="5121000"/>
          </a:xfrm>
          <a:prstGeom prst="rect">
            <a:avLst/>
          </a:prstGeom>
          <a:ln w="0">
            <a:noFill/>
          </a:ln>
        </p:spPr>
      </p:pic>
      <p:grpSp>
        <p:nvGrpSpPr>
          <p:cNvPr id="86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69" name="" descr=""/>
            <p:cNvPicPr/>
            <p:nvPr/>
          </p:nvPicPr>
          <p:blipFill>
            <a:blip r:embed="rId3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4" name=""/>
          <p:cNvGraphicFramePr/>
          <p:nvPr/>
        </p:nvGraphicFramePr>
        <p:xfrm>
          <a:off x="179280" y="1557360"/>
          <a:ext cx="8785440" cy="505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557360"/>
                    <a:ext cx="8785440" cy="50576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77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9" name=""/>
          <p:cNvGraphicFramePr/>
          <p:nvPr/>
        </p:nvGraphicFramePr>
        <p:xfrm>
          <a:off x="168120" y="1557360"/>
          <a:ext cx="8975880" cy="492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" y="1557360"/>
                    <a:ext cx="8975880" cy="4925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838080" y="2666880"/>
            <a:ext cx="7620120" cy="385776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2120" y="1752480"/>
            <a:ext cx="7464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PALANCAMIENT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S LA CAPACIDAD DE LA EMPRESA PARA UTILIZAR SUS GASTOS FINANCIEROS FIJOS PARA AUMENTAR  AL MÁXIMO SU REN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L OBJETIVO ES DETERMINAR EL IMPACTO DE LOS GASTOS FINANCIEROS DADO UN AUMENTO O DISMINUCIÓN  EN  EL  RESULTADO OPE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179280" y="1628640"/>
          <a:ext cx="8713800" cy="475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628640"/>
                    <a:ext cx="87138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8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89" name="" descr=""/>
            <p:cNvPicPr/>
            <p:nvPr/>
          </p:nvPicPr>
          <p:blipFill>
            <a:blip r:embed="rId4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95280" y="1773360"/>
            <a:ext cx="8353440" cy="3168360"/>
          </a:xfrm>
          <a:prstGeom prst="rect">
            <a:avLst/>
          </a:prstGeom>
          <a:solidFill>
            <a:srgbClr val="000080">
              <a:alpha val="70000"/>
            </a:srgbClr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893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809640" y="2009880"/>
            <a:ext cx="757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F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(UPA 2006  -  UPA 2005) / UPA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BAIT 2006 – BAIT 2005) / BAIT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 – INTER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IT  -  i% x DEUDA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92360" y="2347920"/>
            <a:ext cx="4608720" cy="14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51280" y="3716280"/>
            <a:ext cx="35290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24360" y="4508640"/>
            <a:ext cx="4464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92360" y="1197000"/>
            <a:ext cx="2286000" cy="9144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3">
              <a:alphaModFix amt="8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29847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42920" y="3467160"/>
            <a:ext cx="5715000" cy="60948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413000"/>
            <a:ext cx="5181480" cy="609480"/>
          </a:xfrm>
          <a:prstGeom prst="rect">
            <a:avLst/>
          </a:prstGeom>
          <a:solidFill>
            <a:srgbClr val="ffff00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2400" y="2185920"/>
            <a:ext cx="58766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FACILITAN EL ENTENDIMIENTO DE LA SITUACIÓN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MÁS EFICIENTE QUE ANALIZAR SÓLO CANTIDADES ABSOLUTAS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RÁPIDA INTERPR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97000" y="4076640"/>
            <a:ext cx="733572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SE OBTIENEN A PARTIR DE CIFRAS CONTABLES, POR LO QUE DEPENDEN DE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LA CALIDAD DE LOS PROCEDIMIENTOS DE CONTABILIDAD.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SI NO EXISTE ADECUADA REVISIÓN Y DEPURACIÓN PREVIA DE LAS PARTIDAS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DEL BALANCE Y ESTADO DE RESULTADOS, SE PUEDE LLEGAR A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CONCLUSIONES ERRÓNEAS, ALEJADAS DE LA REALIDAD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DIFERENTES PROCEDIMIENTOS CONTABLES ENTRE EMPRESAS, PUEDE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ARROJAR INDICADORES DIFERENTES AFECTANDO SU COMPARACIÓN</a:t>
            </a:r>
            <a:br>
              <a:rPr sz="1400"/>
            </a:b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Arial"/>
              </a:rPr>
              <a:t>SON EMINENTEMENTE HISTÓ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71360" y="15652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VENTAJAS DEL USO DE INDICADORE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24000" y="3573360"/>
            <a:ext cx="52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IMITACIONES DEL USO DE INDICADORE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77080" y="1484280"/>
            <a:ext cx="1936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914400" y="1700280"/>
            <a:ext cx="7924680" cy="4852800"/>
          </a:xfrm>
          <a:prstGeom prst="rect">
            <a:avLst/>
          </a:prstGeom>
          <a:solidFill>
            <a:srgbClr val="000080">
              <a:alpha val="70000"/>
            </a:srgbClr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440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RENDIMIENTO  &gt; COSTO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PALANCAMIENTO FAV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RENDIMIENTO  &lt; COSTO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PALANCAMIENTO DESFAV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RENDIMIENTO  =  COSTO DE LA DE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PALANCAMIENTO NEU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NO HAY ENDEUD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NO EXISTE APALANC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904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042920" y="1341360"/>
            <a:ext cx="7777080" cy="496728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900000" y="155736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S IMPORTANTE DESTACAR QUE EL APALANCAMIENTO, YA SEA OPERATIVO O FINANCIERO, TIENE 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ARACTERISTICAS ESTRUCTURALES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, YA SEA POR LA EXISTENCIA DE CARGAS OPERATIVAS O FINANCIE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LAS CARACTERISTICAS ESTRUCTURALES NO TIENEN IMPLÍCITA UNA 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DEFINICIÓN DE RIESGO DE NEGOCIO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. POR LO TANTO NO PODEMOS INFERIR QUE UNA EMPRESA ES MÁS RIESGOSO QUE OTRA SÓLO POR EL HECHO DE PRESENTAR UN MAYOR LEVER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L RIESGO DE UN NEGOCIO SE REFIERE FUNDAMENTALMENTE A 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LA VARIABILIDAD DEL RESULTADO OPERACIONAL (EBIT</a:t>
            </a:r>
            <a:r>
              <a:rPr b="0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 DE UNA EMPRESA, EL QUE A SU VEZ DEPENDE DE LA VOLATILIDAD QUE TENGAN LAS VENTAS Y LOS COSTO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1341360"/>
            <a:ext cx="71625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 Black"/>
              </a:rPr>
              <a:t>ANÁLISIS EN BASE A RAZONES </a:t>
            </a:r>
            <a:r>
              <a:rPr b="0" lang="es-ES_tradnl" sz="20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209680"/>
            <a:ext cx="37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FUENTES DE COM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039760"/>
            <a:ext cx="3841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SERIE DE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ORTE TRANSVERSAL (SECTO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6781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CAU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213000"/>
            <a:ext cx="42670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PRECISIÓN DE INFORMACIÓN CON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AMBIOS EN 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EFECTOS EST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MALOS USOS DE LA ESTADÍ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MUESTRAS DE COMPARACIÓN PEQUEÑ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RECIMIENTO CON BASE MÁS 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58374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APLICACIONES ESPECÍ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5576760"/>
            <a:ext cx="4724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RÉDITOS MEDIANO Y LARGO PLAZO (INCUMPLIMI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Arial"/>
              </a:rPr>
              <a:t>CLASIFICACIÓN DE A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05740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14496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67216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27280" y="135000"/>
            <a:ext cx="6000840" cy="917640"/>
            <a:chOff x="1727280" y="135000"/>
            <a:chExt cx="6000840" cy="9176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727280" y="135000"/>
              <a:ext cx="6000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627280" y="349200"/>
              <a:ext cx="4176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Arial Black"/>
                </a:rPr>
                <a:t>ANALISIS FINANCI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912600" cy="251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4-25T23:48:07Z</dcterms:modified>
  <cp:revision>353</cp:revision>
  <dc:subject/>
  <dc:title>Presentación de PowerPoint</dc:title>
</cp:coreProperties>
</file>